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311"/>
        <c:axId val="18052033"/>
      </c:barChart>
      <c:catAx>
        <c:axId val="127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52033"/>
        <c:crosses val="autoZero"/>
        <c:auto val="1"/>
        <c:lblAlgn val="ctr"/>
        <c:lblOffset val="100"/>
        <c:noMultiLvlLbl val="0"/>
      </c:catAx>
      <c:valAx>
        <c:axId val="18052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51E-C374-4453-8C99-4F3C9814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581-A801-4319-B9D3-607356AC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D07-C146-4C6D-841B-558951B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1BA-3994-4F2E-A637-6B4C0A80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E9A-6FA3-4A5E-B202-443D5B5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AEB-5FDC-4A45-BD57-52F61A69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B27-AC09-4CE1-8D6A-733ED13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39F-A796-437E-A640-ACEEA36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EE8-A86D-46A4-9AD0-B45FE166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9E2-013F-444B-A61D-46B2C97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51A-8893-4C38-9A25-F6779FD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54-1E97-4416-B746-5D2EC5B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F1BD1-A6E6-4021-8041-4AAFAE661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