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3314"/>
        <c:axId val="83814323"/>
      </c:barChart>
      <c:catAx>
        <c:axId val="68923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14323"/>
        <c:crosses val="autoZero"/>
        <c:auto val="1"/>
        <c:lblAlgn val="ctr"/>
        <c:lblOffset val="100"/>
        <c:noMultiLvlLbl val="0"/>
      </c:catAx>
      <c:valAx>
        <c:axId val="83814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3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956-1ADD-4E3E-BD5E-90865307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939-5084-47EE-A4BF-10F556FB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47B-397E-4667-B206-61DC564F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F88-E7B7-4EC1-9871-DDE3234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9B4-9126-47DC-AF0B-169DEDA3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FEB-12EE-466D-87FA-DBAFF32B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002-EA1B-4E5B-9F87-710976F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4FE-2BAB-48C5-B68D-D591F8A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BEB-F701-4942-B0C4-27ECA7A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E7A-FB7D-4209-ACDD-D7B36AC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00E-35BE-4CB7-9627-DC29354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BC3-4FAE-4CC2-A4EB-8EC4764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0C824-BFCC-42B2-9B78-99A9B2EA9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