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33655"/>
        <c:axId val="97211184"/>
      </c:barChart>
      <c:catAx>
        <c:axId val="87133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11184"/>
        <c:crosses val="autoZero"/>
        <c:auto val="1"/>
        <c:lblAlgn val="ctr"/>
        <c:lblOffset val="100"/>
        <c:noMultiLvlLbl val="0"/>
      </c:catAx>
      <c:valAx>
        <c:axId val="97211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3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5B4-7242-4187-ABFB-8D5F2E3D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AA5-C7F3-44C6-8F73-33963855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8CD-18BE-4A90-8041-81033455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BEB-C572-4F85-8779-AD21FE35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885-06D6-4EF0-873D-2048D030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F33-BC2B-4999-A4A7-AC54EC3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0FD-162A-4B91-9B1C-120AD8BF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0B0-F4AD-487E-A986-33F4829A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8EB-EF0B-43A7-BB2A-F495424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906-B255-4B42-9091-0144F0C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3BC-72BB-460F-BA15-F1666BB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E45-09C9-44D3-916F-55E3EA22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A105D-B0D0-4974-9F98-9BB82DB79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