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01023"/>
        <c:axId val="65378328"/>
      </c:barChart>
      <c:catAx>
        <c:axId val="24301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78328"/>
        <c:crosses val="autoZero"/>
        <c:auto val="1"/>
        <c:lblAlgn val="ctr"/>
        <c:lblOffset val="100"/>
        <c:noMultiLvlLbl val="0"/>
      </c:catAx>
      <c:valAx>
        <c:axId val="653783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01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8D5-17EA-47F8-B206-6B69961D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2866-3FEA-41FC-A24B-92A581365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BC03-4DCE-4E9A-9E53-51FB6C94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248-3C33-42B2-B966-F5A798A2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A1E-2DF6-4B9A-B336-2055EF05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1633-6C89-4B99-8987-A6D93731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7E18-B782-40E8-8625-1FAB4BD8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047-D34F-45AE-818D-A003C11C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0D6-4398-4BDE-8B4A-616E8633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7745-6E36-4E3A-A5A0-3CBA2A70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CB92-7F3D-499B-B541-328B07B8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299D-C74C-4083-A880-3F316EAF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7677A-A505-475B-B847-9DE32ABC40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