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56243"/>
        <c:axId val="68733346"/>
      </c:barChart>
      <c:catAx>
        <c:axId val="94356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33346"/>
        <c:crosses val="autoZero"/>
        <c:auto val="1"/>
        <c:lblAlgn val="ctr"/>
        <c:lblOffset val="100"/>
        <c:noMultiLvlLbl val="0"/>
      </c:catAx>
      <c:valAx>
        <c:axId val="68733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56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65D-90C1-4F03-8F92-FB7255DC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202-7655-467E-90B3-6617E851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73E-99E3-4D3E-8912-ABB5C383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00C-E0A5-4771-8979-ADFC1A8D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FB8-6AFF-40F2-BF25-C834B482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18C-603D-4070-A643-E6D1E0D8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2EB-9344-4D64-B49C-E614122E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2C9-70B3-4ED4-8CB3-CD69450C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A46-AA9F-471E-B110-A2C2EA47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072-749E-4E27-95D1-C42B6E8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1F5-8BBE-4B4E-ABEA-D8FEC94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208-4CDD-4933-A89D-18C8DC1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6230F-B5F6-4A87-966F-4493A494E4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