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59641"/>
        <c:axId val="97728078"/>
      </c:barChart>
      <c:catAx>
        <c:axId val="22759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8078"/>
        <c:crosses val="autoZero"/>
        <c:auto val="1"/>
        <c:lblAlgn val="ctr"/>
        <c:lblOffset val="100"/>
        <c:noMultiLvlLbl val="0"/>
      </c:catAx>
      <c:valAx>
        <c:axId val="97728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59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931-C3F2-43D3-9E65-4EFC9E7C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016-23CB-4730-AF53-BFB1C3C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826-4CFF-409B-A2DD-E3DB81FC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C99-484D-44D3-8E90-B8690AEE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90F-C949-4E9F-ACFC-FCE8E3CB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E2A-F5EE-4373-98D6-7CB22E1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AC2-AA6F-48B5-B071-D98F6AD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133-2142-4B78-954C-AB6693C2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F80-70A7-4708-838A-058FB1FD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E4E-9FE2-45E2-95B2-9CD3793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27B-F7A7-46B0-8593-B20394A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D02-C408-4711-B0B2-6B2111B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EB98F-6D34-4F8D-9A1B-08CC08433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