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192562"/>
        <c:axId val="27731961"/>
      </c:barChart>
      <c:catAx>
        <c:axId val="601925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31961"/>
        <c:crosses val="autoZero"/>
        <c:auto val="1"/>
        <c:lblAlgn val="ctr"/>
        <c:lblOffset val="100"/>
        <c:noMultiLvlLbl val="0"/>
      </c:catAx>
      <c:valAx>
        <c:axId val="27731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925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911-EC34-42B1-AB49-4F3766EE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2D5-9768-4723-8B4A-C3350084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94B-CD1A-406B-830B-B06F682C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0FAB-4749-47B1-A32A-466B99F9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B48E-3F9D-48BE-9836-898ADD24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E41-0E4D-44C4-A418-E37441EC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260-C51A-49D8-97D4-300D1D8C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762-A6ED-469B-8179-756C2403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0481-FEDF-402F-A6AE-9AD3C522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BA0-87DE-4DD7-91FF-EAD5AA28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4A8-1653-4264-AFB4-D3ADE148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F85-94FB-445F-ADE0-BA7E17CA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98358-6B44-44FE-91D3-58752271C1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