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76660"/>
        <c:axId val="21160452"/>
      </c:barChart>
      <c:catAx>
        <c:axId val="67776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60452"/>
        <c:crosses val="autoZero"/>
        <c:auto val="1"/>
        <c:lblAlgn val="ctr"/>
        <c:lblOffset val="100"/>
        <c:noMultiLvlLbl val="0"/>
      </c:catAx>
      <c:valAx>
        <c:axId val="21160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76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02C-96AE-4E03-93CC-0323C9E5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543-153B-4F6D-B3E4-2B0438A5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6F1-F895-4D82-9BB2-C3E32A3A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856-5A30-47C8-9251-77FF21AE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AC9-906D-4CFE-A72B-BE8AEFA5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4F5-7EAD-40AE-8E92-27040E47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67A-DF40-4E80-A602-9F6CEA47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C18-34A7-4F15-99BA-3973C4EC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175-B67C-4C99-8130-0B2093EB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0EE-CA8B-40B0-B763-42DC48FA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411-170B-4A78-AA3F-07E66A5C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309-0248-4D45-A37E-0AA09315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31E02-362F-4356-A788-87845C157C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