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81481"/>
        <c:axId val="57639339"/>
      </c:barChart>
      <c:catAx>
        <c:axId val="72681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39339"/>
        <c:crosses val="autoZero"/>
        <c:auto val="1"/>
        <c:lblAlgn val="ctr"/>
        <c:lblOffset val="100"/>
        <c:noMultiLvlLbl val="0"/>
      </c:catAx>
      <c:valAx>
        <c:axId val="57639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81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A5D-AABE-4386-AA01-730C8974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AA2-FE69-4E6B-A779-6656EC36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339-2475-4C0D-A769-ECA38BFF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6F3-4BFA-45B1-B67A-43B40D66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316-6B78-4F16-ADBA-706CAD5F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54E-68B8-439A-9160-D39EA854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CEF-CBC7-4817-A3D3-62018188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CC7-01D5-4BBF-9B46-644257A3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397-21CC-40D9-AE61-BF1DFE4E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A3E-84E0-4A8B-BACC-AD1A958A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794C-2B92-430A-AD63-B2C32C46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E6B-EB7F-4E48-A892-37706AF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2AF95-8194-4C51-85AD-E29827255D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