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416340"/>
        <c:axId val="91849873"/>
      </c:barChart>
      <c:catAx>
        <c:axId val="564163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49873"/>
        <c:crosses val="autoZero"/>
        <c:auto val="1"/>
        <c:lblAlgn val="ctr"/>
        <c:lblOffset val="100"/>
        <c:noMultiLvlLbl val="0"/>
      </c:catAx>
      <c:valAx>
        <c:axId val="91849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163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A8F-04A9-46D9-A957-064592AF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0EB-55EC-4BD2-98AA-02972D408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4FF-ABEB-44E0-9065-430EF6CD3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DB6-1D0D-4B7B-94F7-E637397B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99B-18F0-4036-B12D-A88007F5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771C-5DA8-4719-9158-3D3DF2B9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96ED-FD87-4B86-9874-D674B434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6C2F-B2AF-4D9D-B116-493A8CE6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A141-A4E6-43D6-BBE9-5C4599BA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E52-FA2C-4691-BADF-7AE8AEBA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CE5-4B73-44C6-A547-7B87CA64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2CDB-AC57-4EAC-A3F1-C5F80398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216DC-606D-4B53-B406-13D6CB8DFA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