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47012"/>
        <c:axId val="16150076"/>
      </c:barChart>
      <c:catAx>
        <c:axId val="35547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50076"/>
        <c:crosses val="autoZero"/>
        <c:auto val="1"/>
        <c:lblAlgn val="ctr"/>
        <c:lblOffset val="100"/>
        <c:noMultiLvlLbl val="0"/>
      </c:catAx>
      <c:valAx>
        <c:axId val="16150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47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2492-FBB7-42F2-9E80-5FEDBED7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68F-4388-4C5A-AD2A-2A966A80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CC7-154C-449D-88A4-064A38EC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50E-21AD-4D26-B1F1-339B7F25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164-CF5D-4403-9ED1-8F0A67E5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91E-9393-4544-8ACA-406943AC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E30-123C-4207-B0EE-298EF88E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651-8C9E-4D5C-9833-071FEAAE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91E-E7F5-403E-8611-523F5725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1620-9B8E-4E8C-9365-D81E4C5B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691-8AA2-4CB6-9CB7-28659E2E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A68-6D65-4718-B1D2-E2D155FC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88372-4B22-4AF5-A7D0-D0B11B2510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