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50201"/>
        <c:axId val="20204655"/>
      </c:barChart>
      <c:catAx>
        <c:axId val="17350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4655"/>
        <c:crosses val="autoZero"/>
        <c:auto val="1"/>
        <c:lblAlgn val="ctr"/>
        <c:lblOffset val="100"/>
        <c:noMultiLvlLbl val="0"/>
      </c:catAx>
      <c:valAx>
        <c:axId val="20204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0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30E-22F7-428A-AA20-45D6F4BC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6A8-4BA9-4043-A921-BFF32E3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FCB-2125-40D2-AE8F-74EB5617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32D-D6B7-4717-A8C0-D787057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78F-5423-49A0-865B-DE05F9F3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FAE-6839-4DB1-BD6B-BC08CDC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B62-4BEC-4325-B044-1DB32562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B4C-7C35-4263-82EC-03B784E7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FB2-42AF-4667-817E-002A9762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BC1-F7BD-49D9-AD84-EBED22B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AC2-F2D7-434F-885E-1FA9294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491-9ED7-4003-9C8C-77D226D6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E55F-1DDE-4D0E-9302-1BBF44109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