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El Macintosh virtual para sistemas abi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617840"/>
            <a:ext cx="46576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e ejecutar aplicaciones Macintosh® en su estación de trabajo SPARC utilizando Solaris 2.3 o 2.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le brinda un completo entorno Sistema 7.1, con Finder inclu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incluye soporte de AppleTalk, mejoras de rendimiento, Mac TCP, sonido y mucho m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971960" y="1617840"/>
            <a:ext cx="401940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OTA: </a:t>
            </a:r>
            <a:r>
              <a:rPr b="0" i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E sólo está disponible en inglés, pero admite versiones localizadas de aplicaciones Macinto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ra más informació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, acceda a la dirección Web de MAE en URL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a la dirección ftp de MAE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support.apple.com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irectorio /pub/mae). Puede obtener un ejemplar de prueba de MAE 1.0 en el actual SunSoft Catalyst CDWare™ para SPARC®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971960" y="5072040"/>
            <a:ext cx="4019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ra adquirir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, póngase en contacto con su distribuidor Apple más cerc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