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1760" cy="6845760"/>
            <a:chOff x="0" y="0"/>
            <a:chExt cx="9131760" cy="684576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3640" cy="5259600"/>
            </a:xfrm>
            <a:custGeom>
              <a:avLst/>
              <a:gdLst/>
              <a:ahLst/>
              <a:rect l="0" t="0" r="r" b="b"/>
              <a:pathLst>
                <a:path w="10399" h="14610">
                  <a:moveTo>
                    <a:pt x="8401" y="14606"/>
                  </a:moveTo>
                  <a:lnTo>
                    <a:pt x="10399" y="14610"/>
                  </a:lnTo>
                  <a:lnTo>
                    <a:pt x="10399" y="6336"/>
                  </a:lnTo>
                  <a:lnTo>
                    <a:pt x="0" y="0"/>
                  </a:lnTo>
                  <a:lnTo>
                    <a:pt x="886" y="661"/>
                  </a:lnTo>
                  <a:lnTo>
                    <a:pt x="1613" y="1230"/>
                  </a:lnTo>
                  <a:lnTo>
                    <a:pt x="2434" y="1944"/>
                  </a:lnTo>
                  <a:lnTo>
                    <a:pt x="3227" y="2698"/>
                  </a:lnTo>
                  <a:lnTo>
                    <a:pt x="4392" y="3981"/>
                  </a:lnTo>
                  <a:lnTo>
                    <a:pt x="5424" y="5344"/>
                  </a:lnTo>
                  <a:lnTo>
                    <a:pt x="6174" y="6535"/>
                  </a:lnTo>
                  <a:lnTo>
                    <a:pt x="6827" y="7766"/>
                  </a:lnTo>
                  <a:lnTo>
                    <a:pt x="7343" y="8996"/>
                  </a:lnTo>
                  <a:lnTo>
                    <a:pt x="7722" y="10121"/>
                  </a:lnTo>
                  <a:lnTo>
                    <a:pt x="7978" y="11073"/>
                  </a:lnTo>
                  <a:lnTo>
                    <a:pt x="8216" y="12251"/>
                  </a:lnTo>
                  <a:lnTo>
                    <a:pt x="8335" y="13283"/>
                  </a:lnTo>
                  <a:lnTo>
                    <a:pt x="8401" y="14606"/>
                  </a:lnTo>
                  <a:close/>
                </a:path>
              </a:pathLst>
            </a:custGeom>
            <a:gradFill rotWithShape="0">
              <a:gsLst>
                <a:gs pos="0">
                  <a:srgbClr val="cccc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411040" cy="6845760"/>
            </a:xfrm>
            <a:custGeom>
              <a:avLst/>
              <a:gdLst/>
              <a:ahLst/>
              <a:rect l="0" t="0" r="r" b="b"/>
              <a:pathLst>
                <a:path fill="none" w="23364" h="19016">
                  <a:moveTo>
                    <a:pt x="23364" y="19016"/>
                  </a:moveTo>
                  <a:lnTo>
                    <a:pt x="23364" y="19016"/>
                  </a:lnTo>
                  <a:lnTo>
                    <a:pt x="23364" y="19016"/>
                  </a:lnTo>
                  <a:cubicBezTo>
                    <a:pt x="23364" y="15678"/>
                    <a:pt x="22284" y="12399"/>
                    <a:pt x="20234" y="9508"/>
                  </a:cubicBezTo>
                  <a:cubicBezTo>
                    <a:pt x="18183" y="6617"/>
                    <a:pt x="15234" y="4217"/>
                    <a:pt x="11682" y="2548"/>
                  </a:cubicBezTo>
                  <a:cubicBezTo>
                    <a:pt x="8130" y="879"/>
                    <a:pt x="4101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434880" y="152280"/>
            <a:ext cx="842976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cintosh Application Environment™ 2.0 (MAE)</a:t>
            </a:r>
            <a:br>
              <a:rPr sz="18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l Macintosh virtuale per sistemi aper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380880" y="1601640"/>
            <a:ext cx="4657680" cy="46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nte di eseguire le applicazioni Macintosh® sulla workstation SPARC che utilizza Solaris 2.3 o 2.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E 2.0 offre l’ambiente System 7.1 completo, incluso Fin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E 2.0 include il supporto AppleTalk, miglioramenti delle prestazioni, il Mac TCP, suoni e molto di pi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5257800" y="1601640"/>
            <a:ext cx="3733920" cy="36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ulteriori informazioni su</a:t>
            </a:r>
            <a:br>
              <a:rPr sz="18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E 2.0, accedere al MAE Web presso URL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mae.apple.c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pure accedere al  MAE ftp all’indirizzo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p.support.apple.com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irectory /pub/mae). Una copia di prova di MAE 1.0 è disponibile sull’attuale SunSoft Catalyst CDWare™ for SPARC®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257800" y="4770360"/>
            <a:ext cx="37339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acquista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E, rivolgersi al rivenditore Apple loc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