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-paket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ör dina MS-DOS-program på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t SunPC-paket med maskinvara och program är d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nabba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ättet för SPARC-användare att köra MS-DOS-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-paket stöder också fler Microsoft Windows-program än de som finns i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gramvarans certifierade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stöder de vanligaste nätverksprotokollen för PC, bland annat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3057480"/>
            <a:ext cx="3957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 SunPC, ring 512/434-1511, tryck på 2. Eller gå till World Wide Web på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4984920"/>
            <a:ext cx="373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, ring 512/434-1511, tryck på 2. Eller kontakta närmast Apple-återförsälj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29280" y="1584360"/>
            <a:ext cx="38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nPC finns bara på engelska men stöder lokaliserade versioner av MS-DOS, Microsoft Windows och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