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05A-6B76-4BDC-AE90-0BDBA7E2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10A-1E9E-49E7-BA81-7C1B867B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302-AA26-4A17-A49C-A084DCBC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243-44A7-403C-997B-19D39B3E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01A-8131-462C-AC3E-FAF0CC09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35D-D1A9-4D48-8405-977C5433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8EF-A879-4ECB-BEBE-1FEDAF60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55E-0E03-49BE-863D-C1A64784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D35-A78C-4647-9B90-12C78611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191-08BA-4623-879A-0D0CDA3E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95F-DE47-4321-883D-5469A9C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381-C4EE-46E5-B14E-DEF40FBB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E199A2-4CB1-46F1-B3B5-CEC8F68F350E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6-01T10:39:18Z</dcterms:modified>
  <cp:revision>19235</cp:revision>
  <dc:subject/>
  <dc:title>LionNet-esittely</dc:title>
</cp:coreProperties>
</file>