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1CA-2E6D-4777-8AD3-FBC76E7E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21A-DA4A-43AC-A557-3B5AAADC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E1B-6B31-497A-AA3D-3F14F035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C02-9833-4A72-940A-FFDB95ED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D16-7FCA-4D60-88B8-A584A11B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EE0-50E7-458C-8130-DFB095E0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766-CAD6-4090-AE12-7364A5C2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F08-4780-4944-8FF7-1A15DC2F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6BC-033E-42F6-BEAE-D79AAC5F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B8B-9366-4EC4-924A-271732B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737-9247-4007-9D49-8929EA3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6B6-6427-43AD-92DA-01EAF7DC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A2C2B7-6C71-4173-815F-6945249F701E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5-19T18:55:41Z</dcterms:modified>
  <cp:revision>19235</cp:revision>
  <dc:subject/>
  <dc:title>LionNet-esittely</dc:title>
</cp:coreProperties>
</file>