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9C7A7D-B8B6-4ED8-9895-676B23A54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65440" cy="87012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117360"/>
            <a:ext cx="9142560" cy="6738840"/>
            <a:chOff x="0" y="117360"/>
            <a:chExt cx="9142560" cy="6738840"/>
          </a:xfrm>
        </p:grpSpPr>
        <p:sp>
          <p:nvSpPr>
            <p:cNvPr id="175" name=""/>
            <p:cNvSpPr/>
            <p:nvPr/>
          </p:nvSpPr>
          <p:spPr>
            <a:xfrm>
              <a:off x="685800" y="65293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092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092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80920" y="1033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0920" y="1260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0920" y="1490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0920" y="1717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0920" y="1947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0920" y="2176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538520" y="6670800"/>
              <a:ext cx="4332600" cy="65160"/>
              <a:chOff x="4538520" y="6670800"/>
              <a:chExt cx="4332600" cy="65160"/>
            </a:xfrm>
          </p:grpSpPr>
          <p:sp>
            <p:nvSpPr>
              <p:cNvPr id="187" name=""/>
              <p:cNvSpPr/>
              <p:nvPr/>
            </p:nvSpPr>
            <p:spPr>
              <a:xfrm>
                <a:off x="45385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483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5784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6732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771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58664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1961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0596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880920" y="804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3693960"/>
              <a:ext cx="1908360" cy="1908360"/>
              <a:chOff x="0" y="3693960"/>
              <a:chExt cx="1908360" cy="190836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380052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01560" y="36939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41320" y="44989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"/>
          <p:cNvSpPr txBox="1"/>
          <p:nvPr/>
        </p:nvSpPr>
        <p:spPr>
          <a:xfrm>
            <a:off x="99072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 -  On the Net We 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3962520"/>
            <a:ext cx="685800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iedottamisen rinnakkainen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62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74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84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- organisaatio ja rake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on lionien kansainvälinen palveluverkko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LionNetin hierark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nen taso - LionNet 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nen taso -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Finland - district 107-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LC Espoo / M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   www.funet.fi/~siiss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erustiet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81080"/>
            <a:ext cx="7772400" cy="46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ukana on nyt n. 50 kansallista ja osavaltiotason LionNet-palvelusolmua (no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kejä noin 480:ään eri lionien Internet-palvelu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Internationalin osoite on www.lionne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nen t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sella tasolla vain yksi noodi,      esim.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sen tason toimij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ode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- työryhm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en Webmaste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iir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perusinformaatio ja hall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top ten -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lubei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lehti ja PK -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lub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erusinformaatio ja virkaili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arhaat 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otisivu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lehti ja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sikertomus t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henkilö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lla lioneilla on jo omia henkilökohtaisia kotisivu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äihin pääsee klubin kotisivujen kautta,   jos klubit ja jäsenet itse halua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Internet - Intrane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48320" y="1905120"/>
            <a:ext cx="38098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- julkinen, kaikille avoin 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ranet - Internetin  sisäiseen käyttöön suljettu osa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ieti mikä tieto menee kenell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416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in käyttäjiä on paljon - miljoona viikoittaista käyttäjää Pohjoismai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 tuntee Internetin myös liiketoimintansa kau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rinomainen vuorovaikutteinen tiedonvälityskan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ike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arrastus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sen järjestön yhteydenpid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vaihtoehtoinen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tasaisin tieto löytyy Internetist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erinteisen median merkitys ei väh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tarjoa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ihtoeh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rovaikutte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reaaliaika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16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28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38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in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057400" y="4114800"/>
            <a:ext cx="670572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it kansainvälisinä sillanrakentaj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842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676520"/>
            <a:ext cx="8001000" cy="47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ammikuu: Suomesta Internetin 5. lion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um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LionNet Finland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ensiesittely Kokkolan VK: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kansainvälisen LionNet-verkon al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1676520"/>
            <a:ext cx="8153280" cy="5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Haminan VK maail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nsimmäisenä lions-kokouksena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Suomen LionNet-työryhmä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Suomen lionien sähköposti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rraskuu: LionNet International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676520"/>
            <a:ext cx="838188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aliskuu: KVN vakinaistaa Suo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-työryhmän osaksi tiedotustoimikunt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Suomen piirit nimeävät 1. Inter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järjestelmällinen Internet-koulu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loite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676520"/>
            <a:ext cx="8381880" cy="41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Sun lahjoittaa LionNetille o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inkon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Porin VK:ssa näyttävä Lion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inty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Europa Foru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onNet-työryhmä</dc:creator>
  <dc:description/>
  <dc:language>en-US</dc:language>
  <cp:lastModifiedBy>Ilkka Siissalo</cp:lastModifiedBy>
  <cp:revision>0</cp:revision>
  <dc:subject/>
  <dc:title>LionNet-esittely</dc:title>
</cp:coreProperties>
</file>