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FB9BBC5-918B-41D2-9C17-A4FB5F23A5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21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4952880" y="5257800"/>
            <a:ext cx="3565440" cy="870120"/>
          </a:xfrm>
          <a:prstGeom prst="rect">
            <a:avLst/>
          </a:prstGeom>
          <a:ln w="0">
            <a:noFill/>
          </a:ln>
        </p:spPr>
      </p:pic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"/>
          <p:cNvGrpSpPr/>
          <p:nvPr/>
        </p:nvGrpSpPr>
        <p:grpSpPr>
          <a:xfrm>
            <a:off x="0" y="117360"/>
            <a:ext cx="9142560" cy="6738840"/>
            <a:chOff x="0" y="117360"/>
            <a:chExt cx="9142560" cy="6738840"/>
          </a:xfrm>
        </p:grpSpPr>
        <p:sp>
          <p:nvSpPr>
            <p:cNvPr id="175" name=""/>
            <p:cNvSpPr/>
            <p:nvPr/>
          </p:nvSpPr>
          <p:spPr>
            <a:xfrm>
              <a:off x="685800" y="6529320"/>
              <a:ext cx="3505320" cy="32688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80920" y="117360"/>
              <a:ext cx="6660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80920" y="3477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80920" y="5745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80920" y="10335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80920" y="1260360"/>
              <a:ext cx="6660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80920" y="14907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80920" y="17175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80920" y="1947960"/>
              <a:ext cx="6660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80920" y="21765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4538520" y="6670800"/>
              <a:ext cx="4332600" cy="65160"/>
              <a:chOff x="4538520" y="6670800"/>
              <a:chExt cx="4332600" cy="65160"/>
            </a:xfrm>
          </p:grpSpPr>
          <p:sp>
            <p:nvSpPr>
              <p:cNvPr id="187" name=""/>
              <p:cNvSpPr/>
              <p:nvPr/>
            </p:nvSpPr>
            <p:spPr>
              <a:xfrm>
                <a:off x="4538520" y="667080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148360" y="667080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757840" y="667080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367320" y="667080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977160" y="667080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586640" y="667080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196120" y="667080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805960" y="667080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>
              <a:off x="880920" y="804960"/>
              <a:ext cx="6660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0" y="3693960"/>
              <a:ext cx="1908360" cy="1908360"/>
              <a:chOff x="0" y="3693960"/>
              <a:chExt cx="1908360" cy="190836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3800520"/>
                <a:ext cx="702000" cy="1638720"/>
              </a:xfrm>
              <a:custGeom>
                <a:avLst/>
                <a:gdLst/>
                <a:ahLst/>
                <a:rect l="0" t="0" r="r" b="b"/>
                <a:pathLst>
                  <a:path w="1950" h="4552">
                    <a:moveTo>
                      <a:pt x="1200" y="4552"/>
                    </a:moveTo>
                    <a:lnTo>
                      <a:pt x="1279" y="4482"/>
                    </a:lnTo>
                    <a:lnTo>
                      <a:pt x="1328" y="4376"/>
                    </a:lnTo>
                    <a:lnTo>
                      <a:pt x="1394" y="4297"/>
                    </a:lnTo>
                    <a:lnTo>
                      <a:pt x="1447" y="4213"/>
                    </a:lnTo>
                    <a:lnTo>
                      <a:pt x="1562" y="4058"/>
                    </a:lnTo>
                    <a:lnTo>
                      <a:pt x="1645" y="3988"/>
                    </a:lnTo>
                    <a:lnTo>
                      <a:pt x="1694" y="3900"/>
                    </a:lnTo>
                    <a:lnTo>
                      <a:pt x="1720" y="3741"/>
                    </a:lnTo>
                    <a:lnTo>
                      <a:pt x="1681" y="3670"/>
                    </a:lnTo>
                    <a:lnTo>
                      <a:pt x="1654" y="3582"/>
                    </a:lnTo>
                    <a:lnTo>
                      <a:pt x="1632" y="3503"/>
                    </a:lnTo>
                    <a:lnTo>
                      <a:pt x="1592" y="3415"/>
                    </a:lnTo>
                    <a:lnTo>
                      <a:pt x="1592" y="3352"/>
                    </a:lnTo>
                    <a:lnTo>
                      <a:pt x="1592" y="3295"/>
                    </a:lnTo>
                    <a:lnTo>
                      <a:pt x="1592" y="3237"/>
                    </a:lnTo>
                    <a:lnTo>
                      <a:pt x="1584" y="3184"/>
                    </a:lnTo>
                    <a:lnTo>
                      <a:pt x="1584" y="3118"/>
                    </a:lnTo>
                    <a:lnTo>
                      <a:pt x="1606" y="3078"/>
                    </a:lnTo>
                    <a:lnTo>
                      <a:pt x="1645" y="3048"/>
                    </a:lnTo>
                    <a:lnTo>
                      <a:pt x="1720" y="3026"/>
                    </a:lnTo>
                    <a:lnTo>
                      <a:pt x="1725" y="3026"/>
                    </a:lnTo>
                    <a:lnTo>
                      <a:pt x="1742" y="3008"/>
                    </a:lnTo>
                    <a:lnTo>
                      <a:pt x="1742" y="2999"/>
                    </a:lnTo>
                    <a:lnTo>
                      <a:pt x="1742" y="2986"/>
                    </a:lnTo>
                    <a:lnTo>
                      <a:pt x="1720" y="2959"/>
                    </a:lnTo>
                    <a:lnTo>
                      <a:pt x="1703" y="2937"/>
                    </a:lnTo>
                    <a:lnTo>
                      <a:pt x="1703" y="2911"/>
                    </a:lnTo>
                    <a:lnTo>
                      <a:pt x="1742" y="2889"/>
                    </a:lnTo>
                    <a:lnTo>
                      <a:pt x="1928" y="2801"/>
                    </a:lnTo>
                    <a:lnTo>
                      <a:pt x="1950" y="2761"/>
                    </a:lnTo>
                    <a:lnTo>
                      <a:pt x="1950" y="2730"/>
                    </a:lnTo>
                    <a:lnTo>
                      <a:pt x="1950" y="2704"/>
                    </a:lnTo>
                    <a:lnTo>
                      <a:pt x="1932" y="2664"/>
                    </a:lnTo>
                    <a:lnTo>
                      <a:pt x="1839" y="2545"/>
                    </a:lnTo>
                    <a:lnTo>
                      <a:pt x="1764" y="2395"/>
                    </a:lnTo>
                    <a:lnTo>
                      <a:pt x="1725" y="2254"/>
                    </a:lnTo>
                    <a:lnTo>
                      <a:pt x="1694" y="2091"/>
                    </a:lnTo>
                    <a:lnTo>
                      <a:pt x="1623" y="2051"/>
                    </a:lnTo>
                    <a:lnTo>
                      <a:pt x="1562" y="2007"/>
                    </a:lnTo>
                    <a:lnTo>
                      <a:pt x="1495" y="1958"/>
                    </a:lnTo>
                    <a:lnTo>
                      <a:pt x="1438" y="1910"/>
                    </a:lnTo>
                    <a:lnTo>
                      <a:pt x="1398" y="1861"/>
                    </a:lnTo>
                    <a:lnTo>
                      <a:pt x="1376" y="1813"/>
                    </a:lnTo>
                    <a:lnTo>
                      <a:pt x="1359" y="1773"/>
                    </a:lnTo>
                    <a:lnTo>
                      <a:pt x="1354" y="1725"/>
                    </a:lnTo>
                    <a:lnTo>
                      <a:pt x="1257" y="1601"/>
                    </a:lnTo>
                    <a:lnTo>
                      <a:pt x="1279" y="1495"/>
                    </a:lnTo>
                    <a:lnTo>
                      <a:pt x="1328" y="1385"/>
                    </a:lnTo>
                    <a:lnTo>
                      <a:pt x="1359" y="1275"/>
                    </a:lnTo>
                    <a:lnTo>
                      <a:pt x="1359" y="1178"/>
                    </a:lnTo>
                    <a:lnTo>
                      <a:pt x="1315" y="1226"/>
                    </a:lnTo>
                    <a:lnTo>
                      <a:pt x="1266" y="1297"/>
                    </a:lnTo>
                    <a:lnTo>
                      <a:pt x="1235" y="1354"/>
                    </a:lnTo>
                    <a:lnTo>
                      <a:pt x="1200" y="1385"/>
                    </a:lnTo>
                    <a:lnTo>
                      <a:pt x="1187" y="1248"/>
                    </a:lnTo>
                    <a:lnTo>
                      <a:pt x="1196" y="1120"/>
                    </a:lnTo>
                    <a:lnTo>
                      <a:pt x="1200" y="987"/>
                    </a:lnTo>
                    <a:lnTo>
                      <a:pt x="1200" y="859"/>
                    </a:lnTo>
                    <a:lnTo>
                      <a:pt x="1235" y="780"/>
                    </a:lnTo>
                    <a:lnTo>
                      <a:pt x="1235" y="723"/>
                    </a:lnTo>
                    <a:lnTo>
                      <a:pt x="1235" y="643"/>
                    </a:lnTo>
                    <a:lnTo>
                      <a:pt x="1240" y="586"/>
                    </a:lnTo>
                    <a:lnTo>
                      <a:pt x="1240" y="542"/>
                    </a:lnTo>
                    <a:lnTo>
                      <a:pt x="1257" y="498"/>
                    </a:lnTo>
                    <a:lnTo>
                      <a:pt x="1279" y="458"/>
                    </a:lnTo>
                    <a:lnTo>
                      <a:pt x="1306" y="427"/>
                    </a:lnTo>
                    <a:lnTo>
                      <a:pt x="1315" y="414"/>
                    </a:lnTo>
                    <a:lnTo>
                      <a:pt x="1328" y="405"/>
                    </a:lnTo>
                    <a:lnTo>
                      <a:pt x="1337" y="379"/>
                    </a:lnTo>
                    <a:lnTo>
                      <a:pt x="1354" y="366"/>
                    </a:lnTo>
                    <a:lnTo>
                      <a:pt x="1359" y="366"/>
                    </a:lnTo>
                    <a:lnTo>
                      <a:pt x="1398" y="348"/>
                    </a:lnTo>
                    <a:lnTo>
                      <a:pt x="1425" y="339"/>
                    </a:lnTo>
                    <a:lnTo>
                      <a:pt x="1447" y="339"/>
                    </a:lnTo>
                    <a:lnTo>
                      <a:pt x="1473" y="326"/>
                    </a:lnTo>
                    <a:lnTo>
                      <a:pt x="1487" y="326"/>
                    </a:lnTo>
                    <a:lnTo>
                      <a:pt x="1495" y="317"/>
                    </a:lnTo>
                    <a:lnTo>
                      <a:pt x="1522" y="295"/>
                    </a:lnTo>
                    <a:lnTo>
                      <a:pt x="1522" y="277"/>
                    </a:lnTo>
                    <a:lnTo>
                      <a:pt x="1487" y="220"/>
                    </a:lnTo>
                    <a:lnTo>
                      <a:pt x="1487" y="207"/>
                    </a:lnTo>
                    <a:lnTo>
                      <a:pt x="1487" y="189"/>
                    </a:lnTo>
                    <a:lnTo>
                      <a:pt x="1487" y="180"/>
                    </a:lnTo>
                    <a:lnTo>
                      <a:pt x="1473" y="180"/>
                    </a:lnTo>
                    <a:lnTo>
                      <a:pt x="1473" y="167"/>
                    </a:lnTo>
                    <a:lnTo>
                      <a:pt x="1447" y="132"/>
                    </a:lnTo>
                    <a:lnTo>
                      <a:pt x="1416" y="92"/>
                    </a:lnTo>
                    <a:lnTo>
                      <a:pt x="1398" y="48"/>
                    </a:lnTo>
                    <a:lnTo>
                      <a:pt x="1394" y="0"/>
                    </a:lnTo>
                    <a:lnTo>
                      <a:pt x="1099" y="180"/>
                    </a:lnTo>
                    <a:lnTo>
                      <a:pt x="829" y="414"/>
                    </a:lnTo>
                    <a:lnTo>
                      <a:pt x="586" y="665"/>
                    </a:lnTo>
                    <a:lnTo>
                      <a:pt x="388" y="961"/>
                    </a:lnTo>
                    <a:lnTo>
                      <a:pt x="220" y="1275"/>
                    </a:lnTo>
                    <a:lnTo>
                      <a:pt x="92" y="1614"/>
                    </a:lnTo>
                    <a:lnTo>
                      <a:pt x="22" y="1967"/>
                    </a:lnTo>
                    <a:lnTo>
                      <a:pt x="0" y="2338"/>
                    </a:lnTo>
                    <a:lnTo>
                      <a:pt x="22" y="2682"/>
                    </a:lnTo>
                    <a:lnTo>
                      <a:pt x="88" y="2999"/>
                    </a:lnTo>
                    <a:lnTo>
                      <a:pt x="198" y="3312"/>
                    </a:lnTo>
                    <a:lnTo>
                      <a:pt x="326" y="3613"/>
                    </a:lnTo>
                    <a:lnTo>
                      <a:pt x="502" y="3878"/>
                    </a:lnTo>
                    <a:lnTo>
                      <a:pt x="705" y="4138"/>
                    </a:lnTo>
                    <a:lnTo>
                      <a:pt x="948" y="4354"/>
                    </a:lnTo>
                    <a:lnTo>
                      <a:pt x="1200" y="4552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01560" y="3693960"/>
                <a:ext cx="1306800" cy="1908360"/>
              </a:xfrm>
              <a:custGeom>
                <a:avLst/>
                <a:gdLst/>
                <a:ahLst/>
                <a:rect l="0" t="0" r="r" b="b"/>
                <a:pathLst>
                  <a:path w="3630" h="5301">
                    <a:moveTo>
                      <a:pt x="3542" y="3246"/>
                    </a:moveTo>
                    <a:lnTo>
                      <a:pt x="3559" y="3193"/>
                    </a:lnTo>
                    <a:lnTo>
                      <a:pt x="3564" y="3145"/>
                    </a:lnTo>
                    <a:lnTo>
                      <a:pt x="3581" y="3096"/>
                    </a:lnTo>
                    <a:lnTo>
                      <a:pt x="3590" y="3048"/>
                    </a:lnTo>
                    <a:lnTo>
                      <a:pt x="3542" y="3048"/>
                    </a:lnTo>
                    <a:lnTo>
                      <a:pt x="3511" y="3034"/>
                    </a:lnTo>
                    <a:lnTo>
                      <a:pt x="3453" y="3026"/>
                    </a:lnTo>
                    <a:lnTo>
                      <a:pt x="3422" y="2999"/>
                    </a:lnTo>
                    <a:lnTo>
                      <a:pt x="3396" y="2977"/>
                    </a:lnTo>
                    <a:lnTo>
                      <a:pt x="3383" y="2937"/>
                    </a:lnTo>
                    <a:lnTo>
                      <a:pt x="3356" y="2915"/>
                    </a:lnTo>
                    <a:lnTo>
                      <a:pt x="3352" y="2889"/>
                    </a:lnTo>
                    <a:lnTo>
                      <a:pt x="3334" y="2827"/>
                    </a:lnTo>
                    <a:lnTo>
                      <a:pt x="3334" y="2752"/>
                    </a:lnTo>
                    <a:lnTo>
                      <a:pt x="3352" y="2690"/>
                    </a:lnTo>
                    <a:lnTo>
                      <a:pt x="3383" y="2641"/>
                    </a:lnTo>
                    <a:lnTo>
                      <a:pt x="3444" y="2632"/>
                    </a:lnTo>
                    <a:lnTo>
                      <a:pt x="3493" y="2641"/>
                    </a:lnTo>
                    <a:lnTo>
                      <a:pt x="3542" y="2682"/>
                    </a:lnTo>
                    <a:lnTo>
                      <a:pt x="3581" y="2712"/>
                    </a:lnTo>
                    <a:lnTo>
                      <a:pt x="3612" y="2770"/>
                    </a:lnTo>
                    <a:lnTo>
                      <a:pt x="3630" y="2730"/>
                    </a:lnTo>
                    <a:lnTo>
                      <a:pt x="3630" y="2690"/>
                    </a:lnTo>
                    <a:lnTo>
                      <a:pt x="3630" y="2668"/>
                    </a:lnTo>
                    <a:lnTo>
                      <a:pt x="3630" y="2632"/>
                    </a:lnTo>
                    <a:lnTo>
                      <a:pt x="3612" y="2420"/>
                    </a:lnTo>
                    <a:lnTo>
                      <a:pt x="3590" y="2213"/>
                    </a:lnTo>
                    <a:lnTo>
                      <a:pt x="3559" y="2006"/>
                    </a:lnTo>
                    <a:lnTo>
                      <a:pt x="3493" y="1812"/>
                    </a:lnTo>
                    <a:lnTo>
                      <a:pt x="3422" y="1613"/>
                    </a:lnTo>
                    <a:lnTo>
                      <a:pt x="3334" y="1433"/>
                    </a:lnTo>
                    <a:lnTo>
                      <a:pt x="3237" y="1256"/>
                    </a:lnTo>
                    <a:lnTo>
                      <a:pt x="3127" y="1089"/>
                    </a:lnTo>
                    <a:lnTo>
                      <a:pt x="3109" y="1089"/>
                    </a:lnTo>
                    <a:lnTo>
                      <a:pt x="3096" y="1075"/>
                    </a:lnTo>
                    <a:lnTo>
                      <a:pt x="3078" y="1075"/>
                    </a:lnTo>
                    <a:lnTo>
                      <a:pt x="3056" y="1067"/>
                    </a:lnTo>
                    <a:lnTo>
                      <a:pt x="2986" y="1115"/>
                    </a:lnTo>
                    <a:lnTo>
                      <a:pt x="2946" y="1120"/>
                    </a:lnTo>
                    <a:lnTo>
                      <a:pt x="2911" y="1137"/>
                    </a:lnTo>
                    <a:lnTo>
                      <a:pt x="2871" y="1155"/>
                    </a:lnTo>
                    <a:lnTo>
                      <a:pt x="2832" y="1164"/>
                    </a:lnTo>
                    <a:lnTo>
                      <a:pt x="2783" y="1177"/>
                    </a:lnTo>
                    <a:lnTo>
                      <a:pt x="2730" y="1203"/>
                    </a:lnTo>
                    <a:lnTo>
                      <a:pt x="2673" y="1225"/>
                    </a:lnTo>
                    <a:lnTo>
                      <a:pt x="2620" y="1247"/>
                    </a:lnTo>
                    <a:lnTo>
                      <a:pt x="2571" y="1256"/>
                    </a:lnTo>
                    <a:lnTo>
                      <a:pt x="2532" y="1274"/>
                    </a:lnTo>
                    <a:lnTo>
                      <a:pt x="2501" y="1283"/>
                    </a:lnTo>
                    <a:lnTo>
                      <a:pt x="2457" y="1274"/>
                    </a:lnTo>
                    <a:lnTo>
                      <a:pt x="2443" y="1256"/>
                    </a:lnTo>
                    <a:lnTo>
                      <a:pt x="2417" y="1234"/>
                    </a:lnTo>
                    <a:lnTo>
                      <a:pt x="2413" y="1225"/>
                    </a:lnTo>
                    <a:lnTo>
                      <a:pt x="2395" y="1203"/>
                    </a:lnTo>
                    <a:lnTo>
                      <a:pt x="2364" y="1137"/>
                    </a:lnTo>
                    <a:lnTo>
                      <a:pt x="2346" y="1075"/>
                    </a:lnTo>
                    <a:lnTo>
                      <a:pt x="2346" y="1018"/>
                    </a:lnTo>
                    <a:lnTo>
                      <a:pt x="2338" y="956"/>
                    </a:lnTo>
                    <a:lnTo>
                      <a:pt x="2346" y="890"/>
                    </a:lnTo>
                    <a:lnTo>
                      <a:pt x="2386" y="837"/>
                    </a:lnTo>
                    <a:lnTo>
                      <a:pt x="2435" y="780"/>
                    </a:lnTo>
                    <a:lnTo>
                      <a:pt x="2483" y="749"/>
                    </a:lnTo>
                    <a:lnTo>
                      <a:pt x="2532" y="701"/>
                    </a:lnTo>
                    <a:lnTo>
                      <a:pt x="2571" y="643"/>
                    </a:lnTo>
                    <a:lnTo>
                      <a:pt x="2593" y="590"/>
                    </a:lnTo>
                    <a:lnTo>
                      <a:pt x="2593" y="524"/>
                    </a:lnTo>
                    <a:lnTo>
                      <a:pt x="2505" y="463"/>
                    </a:lnTo>
                    <a:lnTo>
                      <a:pt x="2435" y="405"/>
                    </a:lnTo>
                    <a:lnTo>
                      <a:pt x="2346" y="357"/>
                    </a:lnTo>
                    <a:lnTo>
                      <a:pt x="2258" y="308"/>
                    </a:lnTo>
                    <a:lnTo>
                      <a:pt x="2166" y="255"/>
                    </a:lnTo>
                    <a:lnTo>
                      <a:pt x="2077" y="207"/>
                    </a:lnTo>
                    <a:lnTo>
                      <a:pt x="1980" y="167"/>
                    </a:lnTo>
                    <a:lnTo>
                      <a:pt x="1888" y="136"/>
                    </a:lnTo>
                    <a:lnTo>
                      <a:pt x="1950" y="198"/>
                    </a:lnTo>
                    <a:lnTo>
                      <a:pt x="2007" y="246"/>
                    </a:lnTo>
                    <a:lnTo>
                      <a:pt x="2051" y="277"/>
                    </a:lnTo>
                    <a:lnTo>
                      <a:pt x="2135" y="326"/>
                    </a:lnTo>
                    <a:lnTo>
                      <a:pt x="2139" y="388"/>
                    </a:lnTo>
                    <a:lnTo>
                      <a:pt x="2135" y="463"/>
                    </a:lnTo>
                    <a:lnTo>
                      <a:pt x="2108" y="542"/>
                    </a:lnTo>
                    <a:lnTo>
                      <a:pt x="2108" y="595"/>
                    </a:lnTo>
                    <a:lnTo>
                      <a:pt x="2135" y="661"/>
                    </a:lnTo>
                    <a:lnTo>
                      <a:pt x="2135" y="683"/>
                    </a:lnTo>
                    <a:lnTo>
                      <a:pt x="2117" y="709"/>
                    </a:lnTo>
                    <a:lnTo>
                      <a:pt x="2091" y="732"/>
                    </a:lnTo>
                    <a:lnTo>
                      <a:pt x="2069" y="749"/>
                    </a:lnTo>
                    <a:lnTo>
                      <a:pt x="2051" y="771"/>
                    </a:lnTo>
                    <a:lnTo>
                      <a:pt x="2051" y="793"/>
                    </a:lnTo>
                    <a:lnTo>
                      <a:pt x="2051" y="837"/>
                    </a:lnTo>
                    <a:lnTo>
                      <a:pt x="2047" y="859"/>
                    </a:lnTo>
                    <a:lnTo>
                      <a:pt x="2029" y="868"/>
                    </a:lnTo>
                    <a:lnTo>
                      <a:pt x="2020" y="881"/>
                    </a:lnTo>
                    <a:lnTo>
                      <a:pt x="2007" y="881"/>
                    </a:lnTo>
                    <a:lnTo>
                      <a:pt x="1998" y="881"/>
                    </a:lnTo>
                    <a:lnTo>
                      <a:pt x="1972" y="868"/>
                    </a:lnTo>
                    <a:lnTo>
                      <a:pt x="1950" y="881"/>
                    </a:lnTo>
                    <a:lnTo>
                      <a:pt x="1910" y="890"/>
                    </a:lnTo>
                    <a:lnTo>
                      <a:pt x="1888" y="890"/>
                    </a:lnTo>
                    <a:lnTo>
                      <a:pt x="1870" y="881"/>
                    </a:lnTo>
                    <a:lnTo>
                      <a:pt x="1870" y="868"/>
                    </a:lnTo>
                    <a:lnTo>
                      <a:pt x="1861" y="859"/>
                    </a:lnTo>
                    <a:lnTo>
                      <a:pt x="1848" y="723"/>
                    </a:lnTo>
                    <a:lnTo>
                      <a:pt x="1812" y="701"/>
                    </a:lnTo>
                    <a:lnTo>
                      <a:pt x="1790" y="661"/>
                    </a:lnTo>
                    <a:lnTo>
                      <a:pt x="1750" y="621"/>
                    </a:lnTo>
                    <a:lnTo>
                      <a:pt x="1719" y="590"/>
                    </a:lnTo>
                    <a:lnTo>
                      <a:pt x="1702" y="551"/>
                    </a:lnTo>
                    <a:lnTo>
                      <a:pt x="1693" y="515"/>
                    </a:lnTo>
                    <a:lnTo>
                      <a:pt x="1680" y="476"/>
                    </a:lnTo>
                    <a:lnTo>
                      <a:pt x="1693" y="454"/>
                    </a:lnTo>
                    <a:lnTo>
                      <a:pt x="1702" y="436"/>
                    </a:lnTo>
                    <a:lnTo>
                      <a:pt x="1719" y="436"/>
                    </a:lnTo>
                    <a:lnTo>
                      <a:pt x="1719" y="427"/>
                    </a:lnTo>
                    <a:lnTo>
                      <a:pt x="1724" y="427"/>
                    </a:lnTo>
                    <a:lnTo>
                      <a:pt x="1750" y="454"/>
                    </a:lnTo>
                    <a:lnTo>
                      <a:pt x="1790" y="476"/>
                    </a:lnTo>
                    <a:lnTo>
                      <a:pt x="1822" y="485"/>
                    </a:lnTo>
                    <a:lnTo>
                      <a:pt x="1861" y="485"/>
                    </a:lnTo>
                    <a:lnTo>
                      <a:pt x="1870" y="485"/>
                    </a:lnTo>
                    <a:lnTo>
                      <a:pt x="1870" y="476"/>
                    </a:lnTo>
                    <a:lnTo>
                      <a:pt x="1870" y="317"/>
                    </a:lnTo>
                    <a:lnTo>
                      <a:pt x="1812" y="246"/>
                    </a:lnTo>
                    <a:lnTo>
                      <a:pt x="1741" y="185"/>
                    </a:lnTo>
                    <a:lnTo>
                      <a:pt x="1662" y="119"/>
                    </a:lnTo>
                    <a:lnTo>
                      <a:pt x="1605" y="39"/>
                    </a:lnTo>
                    <a:lnTo>
                      <a:pt x="1543" y="22"/>
                    </a:lnTo>
                    <a:lnTo>
                      <a:pt x="1494" y="8"/>
                    </a:lnTo>
                    <a:lnTo>
                      <a:pt x="1433" y="0"/>
                    </a:lnTo>
                    <a:lnTo>
                      <a:pt x="1375" y="0"/>
                    </a:lnTo>
                    <a:lnTo>
                      <a:pt x="1358" y="0"/>
                    </a:lnTo>
                    <a:lnTo>
                      <a:pt x="1358" y="8"/>
                    </a:lnTo>
                    <a:lnTo>
                      <a:pt x="1358" y="22"/>
                    </a:lnTo>
                    <a:lnTo>
                      <a:pt x="1353" y="39"/>
                    </a:lnTo>
                    <a:lnTo>
                      <a:pt x="1274" y="61"/>
                    </a:lnTo>
                    <a:lnTo>
                      <a:pt x="1239" y="119"/>
                    </a:lnTo>
                    <a:lnTo>
                      <a:pt x="1217" y="185"/>
                    </a:lnTo>
                    <a:lnTo>
                      <a:pt x="1168" y="246"/>
                    </a:lnTo>
                    <a:lnTo>
                      <a:pt x="1146" y="246"/>
                    </a:lnTo>
                    <a:lnTo>
                      <a:pt x="1128" y="246"/>
                    </a:lnTo>
                    <a:lnTo>
                      <a:pt x="1106" y="246"/>
                    </a:lnTo>
                    <a:lnTo>
                      <a:pt x="1098" y="255"/>
                    </a:lnTo>
                    <a:lnTo>
                      <a:pt x="1058" y="317"/>
                    </a:lnTo>
                    <a:lnTo>
                      <a:pt x="1018" y="383"/>
                    </a:lnTo>
                    <a:lnTo>
                      <a:pt x="987" y="436"/>
                    </a:lnTo>
                    <a:lnTo>
                      <a:pt x="939" y="485"/>
                    </a:lnTo>
                    <a:lnTo>
                      <a:pt x="921" y="485"/>
                    </a:lnTo>
                    <a:lnTo>
                      <a:pt x="921" y="502"/>
                    </a:lnTo>
                    <a:lnTo>
                      <a:pt x="811" y="612"/>
                    </a:lnTo>
                    <a:lnTo>
                      <a:pt x="811" y="621"/>
                    </a:lnTo>
                    <a:lnTo>
                      <a:pt x="859" y="643"/>
                    </a:lnTo>
                    <a:lnTo>
                      <a:pt x="921" y="661"/>
                    </a:lnTo>
                    <a:lnTo>
                      <a:pt x="987" y="674"/>
                    </a:lnTo>
                    <a:lnTo>
                      <a:pt x="1031" y="674"/>
                    </a:lnTo>
                    <a:lnTo>
                      <a:pt x="1040" y="683"/>
                    </a:lnTo>
                    <a:lnTo>
                      <a:pt x="1058" y="683"/>
                    </a:lnTo>
                    <a:lnTo>
                      <a:pt x="1058" y="701"/>
                    </a:lnTo>
                    <a:lnTo>
                      <a:pt x="1067" y="709"/>
                    </a:lnTo>
                    <a:lnTo>
                      <a:pt x="1058" y="723"/>
                    </a:lnTo>
                    <a:lnTo>
                      <a:pt x="1031" y="732"/>
                    </a:lnTo>
                    <a:lnTo>
                      <a:pt x="1018" y="749"/>
                    </a:lnTo>
                    <a:lnTo>
                      <a:pt x="992" y="754"/>
                    </a:lnTo>
                    <a:lnTo>
                      <a:pt x="970" y="793"/>
                    </a:lnTo>
                    <a:lnTo>
                      <a:pt x="948" y="859"/>
                    </a:lnTo>
                    <a:lnTo>
                      <a:pt x="921" y="917"/>
                    </a:lnTo>
                    <a:lnTo>
                      <a:pt x="921" y="978"/>
                    </a:lnTo>
                    <a:lnTo>
                      <a:pt x="939" y="1001"/>
                    </a:lnTo>
                    <a:lnTo>
                      <a:pt x="948" y="1001"/>
                    </a:lnTo>
                    <a:lnTo>
                      <a:pt x="939" y="1018"/>
                    </a:lnTo>
                    <a:lnTo>
                      <a:pt x="921" y="1049"/>
                    </a:lnTo>
                    <a:lnTo>
                      <a:pt x="939" y="1067"/>
                    </a:lnTo>
                    <a:lnTo>
                      <a:pt x="948" y="1075"/>
                    </a:lnTo>
                    <a:lnTo>
                      <a:pt x="1018" y="1027"/>
                    </a:lnTo>
                    <a:lnTo>
                      <a:pt x="1146" y="1018"/>
                    </a:lnTo>
                    <a:lnTo>
                      <a:pt x="1146" y="1001"/>
                    </a:lnTo>
                    <a:lnTo>
                      <a:pt x="1155" y="996"/>
                    </a:lnTo>
                    <a:lnTo>
                      <a:pt x="1168" y="996"/>
                    </a:lnTo>
                    <a:lnTo>
                      <a:pt x="1177" y="978"/>
                    </a:lnTo>
                    <a:lnTo>
                      <a:pt x="1177" y="881"/>
                    </a:lnTo>
                    <a:lnTo>
                      <a:pt x="1274" y="683"/>
                    </a:lnTo>
                    <a:lnTo>
                      <a:pt x="1287" y="683"/>
                    </a:lnTo>
                    <a:lnTo>
                      <a:pt x="1336" y="749"/>
                    </a:lnTo>
                    <a:lnTo>
                      <a:pt x="1375" y="793"/>
                    </a:lnTo>
                    <a:lnTo>
                      <a:pt x="1424" y="859"/>
                    </a:lnTo>
                    <a:lnTo>
                      <a:pt x="1481" y="908"/>
                    </a:lnTo>
                    <a:lnTo>
                      <a:pt x="1512" y="930"/>
                    </a:lnTo>
                    <a:lnTo>
                      <a:pt x="1521" y="956"/>
                    </a:lnTo>
                    <a:lnTo>
                      <a:pt x="1543" y="996"/>
                    </a:lnTo>
                    <a:lnTo>
                      <a:pt x="1561" y="1018"/>
                    </a:lnTo>
                    <a:lnTo>
                      <a:pt x="1561" y="1075"/>
                    </a:lnTo>
                    <a:lnTo>
                      <a:pt x="1561" y="1137"/>
                    </a:lnTo>
                    <a:lnTo>
                      <a:pt x="1583" y="1203"/>
                    </a:lnTo>
                    <a:lnTo>
                      <a:pt x="1605" y="1247"/>
                    </a:lnTo>
                    <a:lnTo>
                      <a:pt x="1613" y="1256"/>
                    </a:lnTo>
                    <a:lnTo>
                      <a:pt x="1631" y="1274"/>
                    </a:lnTo>
                    <a:lnTo>
                      <a:pt x="1640" y="1283"/>
                    </a:lnTo>
                    <a:lnTo>
                      <a:pt x="1653" y="1296"/>
                    </a:lnTo>
                    <a:lnTo>
                      <a:pt x="1653" y="1314"/>
                    </a:lnTo>
                    <a:lnTo>
                      <a:pt x="1640" y="1322"/>
                    </a:lnTo>
                    <a:lnTo>
                      <a:pt x="1640" y="1344"/>
                    </a:lnTo>
                    <a:lnTo>
                      <a:pt x="1631" y="1362"/>
                    </a:lnTo>
                    <a:lnTo>
                      <a:pt x="1583" y="1344"/>
                    </a:lnTo>
                    <a:lnTo>
                      <a:pt x="1534" y="1296"/>
                    </a:lnTo>
                    <a:lnTo>
                      <a:pt x="1481" y="1256"/>
                    </a:lnTo>
                    <a:lnTo>
                      <a:pt x="1424" y="1247"/>
                    </a:lnTo>
                    <a:lnTo>
                      <a:pt x="1384" y="1274"/>
                    </a:lnTo>
                    <a:lnTo>
                      <a:pt x="1358" y="1296"/>
                    </a:lnTo>
                    <a:lnTo>
                      <a:pt x="1318" y="1322"/>
                    </a:lnTo>
                    <a:lnTo>
                      <a:pt x="1305" y="1344"/>
                    </a:lnTo>
                    <a:lnTo>
                      <a:pt x="1314" y="1362"/>
                    </a:lnTo>
                    <a:lnTo>
                      <a:pt x="1318" y="1367"/>
                    </a:lnTo>
                    <a:lnTo>
                      <a:pt x="1318" y="1384"/>
                    </a:lnTo>
                    <a:lnTo>
                      <a:pt x="1336" y="1384"/>
                    </a:lnTo>
                    <a:lnTo>
                      <a:pt x="1375" y="1384"/>
                    </a:lnTo>
                    <a:lnTo>
                      <a:pt x="1397" y="1393"/>
                    </a:lnTo>
                    <a:lnTo>
                      <a:pt x="1406" y="1415"/>
                    </a:lnTo>
                    <a:lnTo>
                      <a:pt x="1424" y="1455"/>
                    </a:lnTo>
                    <a:lnTo>
                      <a:pt x="1406" y="1472"/>
                    </a:lnTo>
                    <a:lnTo>
                      <a:pt x="1397" y="1494"/>
                    </a:lnTo>
                    <a:lnTo>
                      <a:pt x="1146" y="1441"/>
                    </a:lnTo>
                    <a:lnTo>
                      <a:pt x="1146" y="1472"/>
                    </a:lnTo>
                    <a:lnTo>
                      <a:pt x="1146" y="1494"/>
                    </a:lnTo>
                    <a:lnTo>
                      <a:pt x="1146" y="1521"/>
                    </a:lnTo>
                    <a:lnTo>
                      <a:pt x="1128" y="1530"/>
                    </a:lnTo>
                    <a:lnTo>
                      <a:pt x="1106" y="1569"/>
                    </a:lnTo>
                    <a:lnTo>
                      <a:pt x="1098" y="1574"/>
                    </a:lnTo>
                    <a:lnTo>
                      <a:pt x="1067" y="1613"/>
                    </a:lnTo>
                    <a:lnTo>
                      <a:pt x="992" y="1733"/>
                    </a:lnTo>
                    <a:lnTo>
                      <a:pt x="833" y="1812"/>
                    </a:lnTo>
                    <a:lnTo>
                      <a:pt x="829" y="1821"/>
                    </a:lnTo>
                    <a:lnTo>
                      <a:pt x="811" y="1847"/>
                    </a:lnTo>
                    <a:lnTo>
                      <a:pt x="811" y="1869"/>
                    </a:lnTo>
                    <a:lnTo>
                      <a:pt x="811" y="1896"/>
                    </a:lnTo>
                    <a:lnTo>
                      <a:pt x="811" y="1935"/>
                    </a:lnTo>
                    <a:lnTo>
                      <a:pt x="811" y="1997"/>
                    </a:lnTo>
                    <a:lnTo>
                      <a:pt x="811" y="2068"/>
                    </a:lnTo>
                    <a:lnTo>
                      <a:pt x="811" y="2107"/>
                    </a:lnTo>
                    <a:lnTo>
                      <a:pt x="762" y="2107"/>
                    </a:lnTo>
                    <a:lnTo>
                      <a:pt x="723" y="2094"/>
                    </a:lnTo>
                    <a:lnTo>
                      <a:pt x="692" y="2068"/>
                    </a:lnTo>
                    <a:lnTo>
                      <a:pt x="665" y="2046"/>
                    </a:lnTo>
                    <a:lnTo>
                      <a:pt x="665" y="1979"/>
                    </a:lnTo>
                    <a:lnTo>
                      <a:pt x="652" y="1918"/>
                    </a:lnTo>
                    <a:lnTo>
                      <a:pt x="621" y="1869"/>
                    </a:lnTo>
                    <a:lnTo>
                      <a:pt x="573" y="1821"/>
                    </a:lnTo>
                    <a:lnTo>
                      <a:pt x="515" y="1838"/>
                    </a:lnTo>
                    <a:lnTo>
                      <a:pt x="485" y="1838"/>
                    </a:lnTo>
                    <a:lnTo>
                      <a:pt x="445" y="1821"/>
                    </a:lnTo>
                    <a:lnTo>
                      <a:pt x="414" y="1799"/>
                    </a:lnTo>
                    <a:lnTo>
                      <a:pt x="366" y="1772"/>
                    </a:lnTo>
                    <a:lnTo>
                      <a:pt x="317" y="1750"/>
                    </a:lnTo>
                    <a:lnTo>
                      <a:pt x="260" y="1733"/>
                    </a:lnTo>
                    <a:lnTo>
                      <a:pt x="216" y="1728"/>
                    </a:lnTo>
                    <a:lnTo>
                      <a:pt x="167" y="1772"/>
                    </a:lnTo>
                    <a:lnTo>
                      <a:pt x="92" y="1869"/>
                    </a:lnTo>
                    <a:lnTo>
                      <a:pt x="22" y="1975"/>
                    </a:lnTo>
                    <a:lnTo>
                      <a:pt x="0" y="2006"/>
                    </a:lnTo>
                    <a:lnTo>
                      <a:pt x="92" y="2094"/>
                    </a:lnTo>
                    <a:lnTo>
                      <a:pt x="110" y="2275"/>
                    </a:lnTo>
                    <a:lnTo>
                      <a:pt x="127" y="2275"/>
                    </a:lnTo>
                    <a:lnTo>
                      <a:pt x="167" y="2262"/>
                    </a:lnTo>
                    <a:lnTo>
                      <a:pt x="189" y="2253"/>
                    </a:lnTo>
                    <a:lnTo>
                      <a:pt x="216" y="2226"/>
                    </a:lnTo>
                    <a:lnTo>
                      <a:pt x="238" y="2187"/>
                    </a:lnTo>
                    <a:lnTo>
                      <a:pt x="255" y="2165"/>
                    </a:lnTo>
                    <a:lnTo>
                      <a:pt x="277" y="2138"/>
                    </a:lnTo>
                    <a:lnTo>
                      <a:pt x="317" y="2116"/>
                    </a:lnTo>
                    <a:lnTo>
                      <a:pt x="326" y="2116"/>
                    </a:lnTo>
                    <a:lnTo>
                      <a:pt x="326" y="2134"/>
                    </a:lnTo>
                    <a:lnTo>
                      <a:pt x="326" y="2138"/>
                    </a:lnTo>
                    <a:lnTo>
                      <a:pt x="277" y="2372"/>
                    </a:lnTo>
                    <a:lnTo>
                      <a:pt x="348" y="2451"/>
                    </a:lnTo>
                    <a:lnTo>
                      <a:pt x="339" y="2500"/>
                    </a:lnTo>
                    <a:lnTo>
                      <a:pt x="299" y="2531"/>
                    </a:lnTo>
                    <a:lnTo>
                      <a:pt x="260" y="2570"/>
                    </a:lnTo>
                    <a:lnTo>
                      <a:pt x="238" y="2632"/>
                    </a:lnTo>
                    <a:lnTo>
                      <a:pt x="238" y="2682"/>
                    </a:lnTo>
                    <a:lnTo>
                      <a:pt x="277" y="2730"/>
                    </a:lnTo>
                    <a:lnTo>
                      <a:pt x="326" y="2779"/>
                    </a:lnTo>
                    <a:lnTo>
                      <a:pt x="388" y="2827"/>
                    </a:lnTo>
                    <a:lnTo>
                      <a:pt x="445" y="2849"/>
                    </a:lnTo>
                    <a:lnTo>
                      <a:pt x="502" y="2849"/>
                    </a:lnTo>
                    <a:lnTo>
                      <a:pt x="546" y="2840"/>
                    </a:lnTo>
                    <a:lnTo>
                      <a:pt x="582" y="2827"/>
                    </a:lnTo>
                    <a:lnTo>
                      <a:pt x="621" y="2801"/>
                    </a:lnTo>
                    <a:lnTo>
                      <a:pt x="652" y="2801"/>
                    </a:lnTo>
                    <a:lnTo>
                      <a:pt x="674" y="2818"/>
                    </a:lnTo>
                    <a:lnTo>
                      <a:pt x="705" y="2827"/>
                    </a:lnTo>
                    <a:lnTo>
                      <a:pt x="740" y="2840"/>
                    </a:lnTo>
                    <a:lnTo>
                      <a:pt x="811" y="2876"/>
                    </a:lnTo>
                    <a:lnTo>
                      <a:pt x="859" y="2915"/>
                    </a:lnTo>
                    <a:lnTo>
                      <a:pt x="921" y="2955"/>
                    </a:lnTo>
                    <a:lnTo>
                      <a:pt x="970" y="2986"/>
                    </a:lnTo>
                    <a:lnTo>
                      <a:pt x="992" y="3048"/>
                    </a:lnTo>
                    <a:lnTo>
                      <a:pt x="1009" y="3114"/>
                    </a:lnTo>
                    <a:lnTo>
                      <a:pt x="1018" y="3184"/>
                    </a:lnTo>
                    <a:lnTo>
                      <a:pt x="1031" y="3255"/>
                    </a:lnTo>
                    <a:lnTo>
                      <a:pt x="1098" y="3281"/>
                    </a:lnTo>
                    <a:lnTo>
                      <a:pt x="1155" y="3303"/>
                    </a:lnTo>
                    <a:lnTo>
                      <a:pt x="1217" y="3343"/>
                    </a:lnTo>
                    <a:lnTo>
                      <a:pt x="1265" y="3405"/>
                    </a:lnTo>
                    <a:lnTo>
                      <a:pt x="1314" y="3528"/>
                    </a:lnTo>
                    <a:lnTo>
                      <a:pt x="1358" y="3661"/>
                    </a:lnTo>
                    <a:lnTo>
                      <a:pt x="1406" y="3797"/>
                    </a:lnTo>
                    <a:lnTo>
                      <a:pt x="1472" y="3908"/>
                    </a:lnTo>
                    <a:lnTo>
                      <a:pt x="1543" y="3987"/>
                    </a:lnTo>
                    <a:lnTo>
                      <a:pt x="1613" y="4075"/>
                    </a:lnTo>
                    <a:lnTo>
                      <a:pt x="1680" y="4163"/>
                    </a:lnTo>
                    <a:lnTo>
                      <a:pt x="1741" y="4260"/>
                    </a:lnTo>
                    <a:lnTo>
                      <a:pt x="1750" y="4322"/>
                    </a:lnTo>
                    <a:lnTo>
                      <a:pt x="1750" y="4379"/>
                    </a:lnTo>
                    <a:lnTo>
                      <a:pt x="1724" y="4441"/>
                    </a:lnTo>
                    <a:lnTo>
                      <a:pt x="1680" y="4490"/>
                    </a:lnTo>
                    <a:lnTo>
                      <a:pt x="1605" y="4507"/>
                    </a:lnTo>
                    <a:lnTo>
                      <a:pt x="1534" y="4529"/>
                    </a:lnTo>
                    <a:lnTo>
                      <a:pt x="1472" y="4551"/>
                    </a:lnTo>
                    <a:lnTo>
                      <a:pt x="1406" y="4578"/>
                    </a:lnTo>
                    <a:lnTo>
                      <a:pt x="1353" y="4600"/>
                    </a:lnTo>
                    <a:lnTo>
                      <a:pt x="1287" y="4640"/>
                    </a:lnTo>
                    <a:lnTo>
                      <a:pt x="1225" y="4688"/>
                    </a:lnTo>
                    <a:lnTo>
                      <a:pt x="1155" y="4737"/>
                    </a:lnTo>
                    <a:lnTo>
                      <a:pt x="1098" y="4776"/>
                    </a:lnTo>
                    <a:lnTo>
                      <a:pt x="1018" y="4807"/>
                    </a:lnTo>
                    <a:lnTo>
                      <a:pt x="948" y="4825"/>
                    </a:lnTo>
                    <a:lnTo>
                      <a:pt x="873" y="4847"/>
                    </a:lnTo>
                    <a:lnTo>
                      <a:pt x="802" y="4873"/>
                    </a:lnTo>
                    <a:lnTo>
                      <a:pt x="723" y="4895"/>
                    </a:lnTo>
                    <a:lnTo>
                      <a:pt x="665" y="4935"/>
                    </a:lnTo>
                    <a:lnTo>
                      <a:pt x="621" y="4992"/>
                    </a:lnTo>
                    <a:lnTo>
                      <a:pt x="546" y="5054"/>
                    </a:lnTo>
                    <a:lnTo>
                      <a:pt x="467" y="5116"/>
                    </a:lnTo>
                    <a:lnTo>
                      <a:pt x="388" y="5164"/>
                    </a:lnTo>
                    <a:lnTo>
                      <a:pt x="299" y="5204"/>
                    </a:lnTo>
                    <a:lnTo>
                      <a:pt x="388" y="5230"/>
                    </a:lnTo>
                    <a:lnTo>
                      <a:pt x="467" y="5239"/>
                    </a:lnTo>
                    <a:lnTo>
                      <a:pt x="546" y="5261"/>
                    </a:lnTo>
                    <a:lnTo>
                      <a:pt x="626" y="5279"/>
                    </a:lnTo>
                    <a:lnTo>
                      <a:pt x="714" y="5283"/>
                    </a:lnTo>
                    <a:lnTo>
                      <a:pt x="802" y="5283"/>
                    </a:lnTo>
                    <a:lnTo>
                      <a:pt x="881" y="5301"/>
                    </a:lnTo>
                    <a:lnTo>
                      <a:pt x="970" y="5301"/>
                    </a:lnTo>
                    <a:lnTo>
                      <a:pt x="1111" y="5301"/>
                    </a:lnTo>
                    <a:lnTo>
                      <a:pt x="1265" y="5283"/>
                    </a:lnTo>
                    <a:lnTo>
                      <a:pt x="1406" y="5261"/>
                    </a:lnTo>
                    <a:lnTo>
                      <a:pt x="1561" y="5230"/>
                    </a:lnTo>
                    <a:lnTo>
                      <a:pt x="1702" y="5191"/>
                    </a:lnTo>
                    <a:lnTo>
                      <a:pt x="1839" y="5151"/>
                    </a:lnTo>
                    <a:lnTo>
                      <a:pt x="1972" y="5094"/>
                    </a:lnTo>
                    <a:lnTo>
                      <a:pt x="2108" y="5032"/>
                    </a:lnTo>
                    <a:lnTo>
                      <a:pt x="2227" y="4966"/>
                    </a:lnTo>
                    <a:lnTo>
                      <a:pt x="2364" y="4895"/>
                    </a:lnTo>
                    <a:lnTo>
                      <a:pt x="2466" y="4825"/>
                    </a:lnTo>
                    <a:lnTo>
                      <a:pt x="2593" y="4737"/>
                    </a:lnTo>
                    <a:lnTo>
                      <a:pt x="2704" y="4640"/>
                    </a:lnTo>
                    <a:lnTo>
                      <a:pt x="2809" y="4538"/>
                    </a:lnTo>
                    <a:lnTo>
                      <a:pt x="2911" y="4441"/>
                    </a:lnTo>
                    <a:lnTo>
                      <a:pt x="3008" y="4331"/>
                    </a:lnTo>
                    <a:lnTo>
                      <a:pt x="2937" y="4260"/>
                    </a:lnTo>
                    <a:lnTo>
                      <a:pt x="2849" y="4212"/>
                    </a:lnTo>
                    <a:lnTo>
                      <a:pt x="2761" y="4146"/>
                    </a:lnTo>
                    <a:lnTo>
                      <a:pt x="2690" y="4097"/>
                    </a:lnTo>
                    <a:lnTo>
                      <a:pt x="2602" y="4066"/>
                    </a:lnTo>
                    <a:lnTo>
                      <a:pt x="2532" y="4044"/>
                    </a:lnTo>
                    <a:lnTo>
                      <a:pt x="2457" y="3987"/>
                    </a:lnTo>
                    <a:lnTo>
                      <a:pt x="2413" y="3938"/>
                    </a:lnTo>
                    <a:lnTo>
                      <a:pt x="2413" y="3934"/>
                    </a:lnTo>
                    <a:lnTo>
                      <a:pt x="2413" y="3916"/>
                    </a:lnTo>
                    <a:lnTo>
                      <a:pt x="2395" y="3916"/>
                    </a:lnTo>
                    <a:lnTo>
                      <a:pt x="2395" y="3908"/>
                    </a:lnTo>
                    <a:lnTo>
                      <a:pt x="2395" y="3855"/>
                    </a:lnTo>
                    <a:lnTo>
                      <a:pt x="2413" y="3806"/>
                    </a:lnTo>
                    <a:lnTo>
                      <a:pt x="2413" y="3771"/>
                    </a:lnTo>
                    <a:lnTo>
                      <a:pt x="2417" y="3727"/>
                    </a:lnTo>
                    <a:lnTo>
                      <a:pt x="2457" y="3612"/>
                    </a:lnTo>
                    <a:lnTo>
                      <a:pt x="2501" y="3489"/>
                    </a:lnTo>
                    <a:lnTo>
                      <a:pt x="2554" y="3392"/>
                    </a:lnTo>
                    <a:lnTo>
                      <a:pt x="2651" y="3321"/>
                    </a:lnTo>
                    <a:lnTo>
                      <a:pt x="2704" y="3303"/>
                    </a:lnTo>
                    <a:lnTo>
                      <a:pt x="2752" y="3281"/>
                    </a:lnTo>
                    <a:lnTo>
                      <a:pt x="2783" y="3273"/>
                    </a:lnTo>
                    <a:lnTo>
                      <a:pt x="2832" y="3255"/>
                    </a:lnTo>
                    <a:lnTo>
                      <a:pt x="2889" y="3255"/>
                    </a:lnTo>
                    <a:lnTo>
                      <a:pt x="2937" y="3246"/>
                    </a:lnTo>
                    <a:lnTo>
                      <a:pt x="2968" y="3215"/>
                    </a:lnTo>
                    <a:lnTo>
                      <a:pt x="3017" y="3206"/>
                    </a:lnTo>
                    <a:lnTo>
                      <a:pt x="3065" y="3206"/>
                    </a:lnTo>
                    <a:lnTo>
                      <a:pt x="3105" y="3184"/>
                    </a:lnTo>
                    <a:lnTo>
                      <a:pt x="3153" y="3167"/>
                    </a:lnTo>
                    <a:lnTo>
                      <a:pt x="3198" y="3145"/>
                    </a:lnTo>
                    <a:lnTo>
                      <a:pt x="3246" y="3136"/>
                    </a:lnTo>
                    <a:lnTo>
                      <a:pt x="3303" y="3118"/>
                    </a:lnTo>
                    <a:lnTo>
                      <a:pt x="3352" y="3118"/>
                    </a:lnTo>
                    <a:lnTo>
                      <a:pt x="3396" y="3136"/>
                    </a:lnTo>
                    <a:lnTo>
                      <a:pt x="3422" y="3162"/>
                    </a:lnTo>
                    <a:lnTo>
                      <a:pt x="3453" y="3184"/>
                    </a:lnTo>
                    <a:lnTo>
                      <a:pt x="3493" y="3215"/>
                    </a:lnTo>
                    <a:lnTo>
                      <a:pt x="3542" y="3246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41320" y="4498920"/>
                <a:ext cx="98640" cy="114840"/>
              </a:xfrm>
              <a:custGeom>
                <a:avLst/>
                <a:gdLst/>
                <a:ahLst/>
                <a:rect l="0" t="0" r="r" b="b"/>
                <a:pathLst>
                  <a:path w="274" h="319">
                    <a:moveTo>
                      <a:pt x="186" y="288"/>
                    </a:moveTo>
                    <a:lnTo>
                      <a:pt x="256" y="319"/>
                    </a:lnTo>
                    <a:lnTo>
                      <a:pt x="274" y="319"/>
                    </a:lnTo>
                    <a:lnTo>
                      <a:pt x="274" y="297"/>
                    </a:lnTo>
                    <a:lnTo>
                      <a:pt x="256" y="288"/>
                    </a:lnTo>
                    <a:lnTo>
                      <a:pt x="256" y="275"/>
                    </a:lnTo>
                    <a:lnTo>
                      <a:pt x="195" y="248"/>
                    </a:lnTo>
                    <a:lnTo>
                      <a:pt x="164" y="199"/>
                    </a:lnTo>
                    <a:lnTo>
                      <a:pt x="136" y="150"/>
                    </a:lnTo>
                    <a:lnTo>
                      <a:pt x="114" y="89"/>
                    </a:lnTo>
                    <a:lnTo>
                      <a:pt x="39" y="0"/>
                    </a:lnTo>
                    <a:lnTo>
                      <a:pt x="26" y="17"/>
                    </a:lnTo>
                    <a:lnTo>
                      <a:pt x="8" y="39"/>
                    </a:lnTo>
                    <a:lnTo>
                      <a:pt x="0" y="48"/>
                    </a:lnTo>
                    <a:lnTo>
                      <a:pt x="0" y="79"/>
                    </a:lnTo>
                    <a:lnTo>
                      <a:pt x="0" y="89"/>
                    </a:lnTo>
                    <a:lnTo>
                      <a:pt x="39" y="137"/>
                    </a:lnTo>
                    <a:lnTo>
                      <a:pt x="88" y="199"/>
                    </a:lnTo>
                    <a:lnTo>
                      <a:pt x="136" y="248"/>
                    </a:lnTo>
                    <a:lnTo>
                      <a:pt x="186" y="288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0" name=""/>
          <p:cNvSpPr txBox="1"/>
          <p:nvPr/>
        </p:nvSpPr>
        <p:spPr>
          <a:xfrm>
            <a:off x="990720" y="1828800"/>
            <a:ext cx="79246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LionNet  -  On the Net We Ser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3962520"/>
            <a:ext cx="6858000" cy="11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Tiedottamisen rinnakkainen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5257800" y="5638680"/>
            <a:ext cx="3565440" cy="8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"/>
          <p:cNvGrpSpPr/>
          <p:nvPr/>
        </p:nvGrpSpPr>
        <p:grpSpPr>
          <a:xfrm>
            <a:off x="1440" y="119160"/>
            <a:ext cx="9142560" cy="6738840"/>
            <a:chOff x="1440" y="119160"/>
            <a:chExt cx="9142560" cy="6738840"/>
          </a:xfrm>
        </p:grpSpPr>
        <p:sp>
          <p:nvSpPr>
            <p:cNvPr id="262" name=""/>
            <p:cNvSpPr/>
            <p:nvPr/>
          </p:nvSpPr>
          <p:spPr>
            <a:xfrm>
              <a:off x="687240" y="6531120"/>
              <a:ext cx="3505320" cy="32688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87240" y="2440080"/>
              <a:ext cx="8456760" cy="7621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82720" y="119160"/>
              <a:ext cx="6660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82720" y="34920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82720" y="5763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82720" y="103500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82720" y="1262160"/>
              <a:ext cx="6660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82720" y="149220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82720" y="17193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82720" y="1949400"/>
              <a:ext cx="6660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82720" y="217800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4540320" y="6672240"/>
              <a:ext cx="4332240" cy="65160"/>
              <a:chOff x="4540320" y="6672240"/>
              <a:chExt cx="4332240" cy="65160"/>
            </a:xfrm>
          </p:grpSpPr>
          <p:sp>
            <p:nvSpPr>
              <p:cNvPr id="274" name=""/>
              <p:cNvSpPr/>
              <p:nvPr/>
            </p:nvSpPr>
            <p:spPr>
              <a:xfrm>
                <a:off x="4540320" y="667224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5149800" y="667224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759280" y="667224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369120" y="667224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978600" y="667224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588080" y="667224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8197920" y="667224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8807400" y="667224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" name=""/>
            <p:cNvSpPr/>
            <p:nvPr/>
          </p:nvSpPr>
          <p:spPr>
            <a:xfrm>
              <a:off x="882720" y="806400"/>
              <a:ext cx="6660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3" name=""/>
            <p:cNvGrpSpPr/>
            <p:nvPr/>
          </p:nvGrpSpPr>
          <p:grpSpPr>
            <a:xfrm>
              <a:off x="1440" y="3695760"/>
              <a:ext cx="1908720" cy="1908360"/>
              <a:chOff x="1440" y="3695760"/>
              <a:chExt cx="1908720" cy="1908360"/>
            </a:xfrm>
          </p:grpSpPr>
          <p:sp>
            <p:nvSpPr>
              <p:cNvPr id="284" name=""/>
              <p:cNvSpPr/>
              <p:nvPr/>
            </p:nvSpPr>
            <p:spPr>
              <a:xfrm>
                <a:off x="1440" y="3801960"/>
                <a:ext cx="702000" cy="1638720"/>
              </a:xfrm>
              <a:custGeom>
                <a:avLst/>
                <a:gdLst/>
                <a:ahLst/>
                <a:rect l="0" t="0" r="r" b="b"/>
                <a:pathLst>
                  <a:path w="1950" h="4552">
                    <a:moveTo>
                      <a:pt x="1200" y="4552"/>
                    </a:moveTo>
                    <a:lnTo>
                      <a:pt x="1279" y="4482"/>
                    </a:lnTo>
                    <a:lnTo>
                      <a:pt x="1328" y="4376"/>
                    </a:lnTo>
                    <a:lnTo>
                      <a:pt x="1394" y="4297"/>
                    </a:lnTo>
                    <a:lnTo>
                      <a:pt x="1447" y="4213"/>
                    </a:lnTo>
                    <a:lnTo>
                      <a:pt x="1562" y="4058"/>
                    </a:lnTo>
                    <a:lnTo>
                      <a:pt x="1645" y="3988"/>
                    </a:lnTo>
                    <a:lnTo>
                      <a:pt x="1694" y="3900"/>
                    </a:lnTo>
                    <a:lnTo>
                      <a:pt x="1720" y="3741"/>
                    </a:lnTo>
                    <a:lnTo>
                      <a:pt x="1681" y="3670"/>
                    </a:lnTo>
                    <a:lnTo>
                      <a:pt x="1654" y="3582"/>
                    </a:lnTo>
                    <a:lnTo>
                      <a:pt x="1632" y="3503"/>
                    </a:lnTo>
                    <a:lnTo>
                      <a:pt x="1592" y="3415"/>
                    </a:lnTo>
                    <a:lnTo>
                      <a:pt x="1592" y="3352"/>
                    </a:lnTo>
                    <a:lnTo>
                      <a:pt x="1592" y="3295"/>
                    </a:lnTo>
                    <a:lnTo>
                      <a:pt x="1592" y="3237"/>
                    </a:lnTo>
                    <a:lnTo>
                      <a:pt x="1584" y="3184"/>
                    </a:lnTo>
                    <a:lnTo>
                      <a:pt x="1584" y="3118"/>
                    </a:lnTo>
                    <a:lnTo>
                      <a:pt x="1606" y="3078"/>
                    </a:lnTo>
                    <a:lnTo>
                      <a:pt x="1645" y="3048"/>
                    </a:lnTo>
                    <a:lnTo>
                      <a:pt x="1720" y="3026"/>
                    </a:lnTo>
                    <a:lnTo>
                      <a:pt x="1725" y="3026"/>
                    </a:lnTo>
                    <a:lnTo>
                      <a:pt x="1742" y="3008"/>
                    </a:lnTo>
                    <a:lnTo>
                      <a:pt x="1742" y="2999"/>
                    </a:lnTo>
                    <a:lnTo>
                      <a:pt x="1742" y="2986"/>
                    </a:lnTo>
                    <a:lnTo>
                      <a:pt x="1720" y="2959"/>
                    </a:lnTo>
                    <a:lnTo>
                      <a:pt x="1703" y="2937"/>
                    </a:lnTo>
                    <a:lnTo>
                      <a:pt x="1703" y="2911"/>
                    </a:lnTo>
                    <a:lnTo>
                      <a:pt x="1742" y="2889"/>
                    </a:lnTo>
                    <a:lnTo>
                      <a:pt x="1928" y="2801"/>
                    </a:lnTo>
                    <a:lnTo>
                      <a:pt x="1950" y="2761"/>
                    </a:lnTo>
                    <a:lnTo>
                      <a:pt x="1950" y="2730"/>
                    </a:lnTo>
                    <a:lnTo>
                      <a:pt x="1950" y="2704"/>
                    </a:lnTo>
                    <a:lnTo>
                      <a:pt x="1932" y="2664"/>
                    </a:lnTo>
                    <a:lnTo>
                      <a:pt x="1839" y="2545"/>
                    </a:lnTo>
                    <a:lnTo>
                      <a:pt x="1764" y="2395"/>
                    </a:lnTo>
                    <a:lnTo>
                      <a:pt x="1725" y="2254"/>
                    </a:lnTo>
                    <a:lnTo>
                      <a:pt x="1694" y="2091"/>
                    </a:lnTo>
                    <a:lnTo>
                      <a:pt x="1623" y="2051"/>
                    </a:lnTo>
                    <a:lnTo>
                      <a:pt x="1562" y="2007"/>
                    </a:lnTo>
                    <a:lnTo>
                      <a:pt x="1495" y="1958"/>
                    </a:lnTo>
                    <a:lnTo>
                      <a:pt x="1438" y="1910"/>
                    </a:lnTo>
                    <a:lnTo>
                      <a:pt x="1398" y="1861"/>
                    </a:lnTo>
                    <a:lnTo>
                      <a:pt x="1376" y="1813"/>
                    </a:lnTo>
                    <a:lnTo>
                      <a:pt x="1359" y="1773"/>
                    </a:lnTo>
                    <a:lnTo>
                      <a:pt x="1354" y="1725"/>
                    </a:lnTo>
                    <a:lnTo>
                      <a:pt x="1257" y="1601"/>
                    </a:lnTo>
                    <a:lnTo>
                      <a:pt x="1279" y="1495"/>
                    </a:lnTo>
                    <a:lnTo>
                      <a:pt x="1328" y="1385"/>
                    </a:lnTo>
                    <a:lnTo>
                      <a:pt x="1359" y="1275"/>
                    </a:lnTo>
                    <a:lnTo>
                      <a:pt x="1359" y="1178"/>
                    </a:lnTo>
                    <a:lnTo>
                      <a:pt x="1315" y="1226"/>
                    </a:lnTo>
                    <a:lnTo>
                      <a:pt x="1266" y="1297"/>
                    </a:lnTo>
                    <a:lnTo>
                      <a:pt x="1235" y="1354"/>
                    </a:lnTo>
                    <a:lnTo>
                      <a:pt x="1200" y="1385"/>
                    </a:lnTo>
                    <a:lnTo>
                      <a:pt x="1187" y="1248"/>
                    </a:lnTo>
                    <a:lnTo>
                      <a:pt x="1196" y="1120"/>
                    </a:lnTo>
                    <a:lnTo>
                      <a:pt x="1200" y="987"/>
                    </a:lnTo>
                    <a:lnTo>
                      <a:pt x="1200" y="859"/>
                    </a:lnTo>
                    <a:lnTo>
                      <a:pt x="1235" y="780"/>
                    </a:lnTo>
                    <a:lnTo>
                      <a:pt x="1235" y="723"/>
                    </a:lnTo>
                    <a:lnTo>
                      <a:pt x="1235" y="643"/>
                    </a:lnTo>
                    <a:lnTo>
                      <a:pt x="1240" y="586"/>
                    </a:lnTo>
                    <a:lnTo>
                      <a:pt x="1240" y="542"/>
                    </a:lnTo>
                    <a:lnTo>
                      <a:pt x="1257" y="498"/>
                    </a:lnTo>
                    <a:lnTo>
                      <a:pt x="1279" y="458"/>
                    </a:lnTo>
                    <a:lnTo>
                      <a:pt x="1306" y="427"/>
                    </a:lnTo>
                    <a:lnTo>
                      <a:pt x="1315" y="414"/>
                    </a:lnTo>
                    <a:lnTo>
                      <a:pt x="1328" y="405"/>
                    </a:lnTo>
                    <a:lnTo>
                      <a:pt x="1337" y="379"/>
                    </a:lnTo>
                    <a:lnTo>
                      <a:pt x="1354" y="366"/>
                    </a:lnTo>
                    <a:lnTo>
                      <a:pt x="1359" y="366"/>
                    </a:lnTo>
                    <a:lnTo>
                      <a:pt x="1398" y="348"/>
                    </a:lnTo>
                    <a:lnTo>
                      <a:pt x="1425" y="339"/>
                    </a:lnTo>
                    <a:lnTo>
                      <a:pt x="1447" y="339"/>
                    </a:lnTo>
                    <a:lnTo>
                      <a:pt x="1473" y="326"/>
                    </a:lnTo>
                    <a:lnTo>
                      <a:pt x="1487" y="326"/>
                    </a:lnTo>
                    <a:lnTo>
                      <a:pt x="1495" y="317"/>
                    </a:lnTo>
                    <a:lnTo>
                      <a:pt x="1522" y="295"/>
                    </a:lnTo>
                    <a:lnTo>
                      <a:pt x="1522" y="277"/>
                    </a:lnTo>
                    <a:lnTo>
                      <a:pt x="1487" y="220"/>
                    </a:lnTo>
                    <a:lnTo>
                      <a:pt x="1487" y="207"/>
                    </a:lnTo>
                    <a:lnTo>
                      <a:pt x="1487" y="189"/>
                    </a:lnTo>
                    <a:lnTo>
                      <a:pt x="1487" y="180"/>
                    </a:lnTo>
                    <a:lnTo>
                      <a:pt x="1473" y="180"/>
                    </a:lnTo>
                    <a:lnTo>
                      <a:pt x="1473" y="167"/>
                    </a:lnTo>
                    <a:lnTo>
                      <a:pt x="1447" y="132"/>
                    </a:lnTo>
                    <a:lnTo>
                      <a:pt x="1416" y="92"/>
                    </a:lnTo>
                    <a:lnTo>
                      <a:pt x="1398" y="48"/>
                    </a:lnTo>
                    <a:lnTo>
                      <a:pt x="1394" y="0"/>
                    </a:lnTo>
                    <a:lnTo>
                      <a:pt x="1099" y="180"/>
                    </a:lnTo>
                    <a:lnTo>
                      <a:pt x="829" y="414"/>
                    </a:lnTo>
                    <a:lnTo>
                      <a:pt x="586" y="665"/>
                    </a:lnTo>
                    <a:lnTo>
                      <a:pt x="388" y="961"/>
                    </a:lnTo>
                    <a:lnTo>
                      <a:pt x="220" y="1275"/>
                    </a:lnTo>
                    <a:lnTo>
                      <a:pt x="92" y="1614"/>
                    </a:lnTo>
                    <a:lnTo>
                      <a:pt x="22" y="1967"/>
                    </a:lnTo>
                    <a:lnTo>
                      <a:pt x="0" y="2338"/>
                    </a:lnTo>
                    <a:lnTo>
                      <a:pt x="22" y="2682"/>
                    </a:lnTo>
                    <a:lnTo>
                      <a:pt x="88" y="2999"/>
                    </a:lnTo>
                    <a:lnTo>
                      <a:pt x="198" y="3312"/>
                    </a:lnTo>
                    <a:lnTo>
                      <a:pt x="326" y="3613"/>
                    </a:lnTo>
                    <a:lnTo>
                      <a:pt x="502" y="3878"/>
                    </a:lnTo>
                    <a:lnTo>
                      <a:pt x="705" y="4138"/>
                    </a:lnTo>
                    <a:lnTo>
                      <a:pt x="948" y="4354"/>
                    </a:lnTo>
                    <a:lnTo>
                      <a:pt x="1200" y="4552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03360" y="3695760"/>
                <a:ext cx="1306800" cy="1908360"/>
              </a:xfrm>
              <a:custGeom>
                <a:avLst/>
                <a:gdLst/>
                <a:ahLst/>
                <a:rect l="0" t="0" r="r" b="b"/>
                <a:pathLst>
                  <a:path w="3630" h="5301">
                    <a:moveTo>
                      <a:pt x="3542" y="3246"/>
                    </a:moveTo>
                    <a:lnTo>
                      <a:pt x="3559" y="3193"/>
                    </a:lnTo>
                    <a:lnTo>
                      <a:pt x="3564" y="3145"/>
                    </a:lnTo>
                    <a:lnTo>
                      <a:pt x="3581" y="3096"/>
                    </a:lnTo>
                    <a:lnTo>
                      <a:pt x="3590" y="3048"/>
                    </a:lnTo>
                    <a:lnTo>
                      <a:pt x="3542" y="3048"/>
                    </a:lnTo>
                    <a:lnTo>
                      <a:pt x="3511" y="3034"/>
                    </a:lnTo>
                    <a:lnTo>
                      <a:pt x="3453" y="3026"/>
                    </a:lnTo>
                    <a:lnTo>
                      <a:pt x="3422" y="2999"/>
                    </a:lnTo>
                    <a:lnTo>
                      <a:pt x="3396" y="2977"/>
                    </a:lnTo>
                    <a:lnTo>
                      <a:pt x="3383" y="2937"/>
                    </a:lnTo>
                    <a:lnTo>
                      <a:pt x="3356" y="2915"/>
                    </a:lnTo>
                    <a:lnTo>
                      <a:pt x="3352" y="2889"/>
                    </a:lnTo>
                    <a:lnTo>
                      <a:pt x="3334" y="2827"/>
                    </a:lnTo>
                    <a:lnTo>
                      <a:pt x="3334" y="2752"/>
                    </a:lnTo>
                    <a:lnTo>
                      <a:pt x="3352" y="2690"/>
                    </a:lnTo>
                    <a:lnTo>
                      <a:pt x="3383" y="2641"/>
                    </a:lnTo>
                    <a:lnTo>
                      <a:pt x="3444" y="2632"/>
                    </a:lnTo>
                    <a:lnTo>
                      <a:pt x="3493" y="2641"/>
                    </a:lnTo>
                    <a:lnTo>
                      <a:pt x="3542" y="2682"/>
                    </a:lnTo>
                    <a:lnTo>
                      <a:pt x="3581" y="2712"/>
                    </a:lnTo>
                    <a:lnTo>
                      <a:pt x="3612" y="2770"/>
                    </a:lnTo>
                    <a:lnTo>
                      <a:pt x="3630" y="2730"/>
                    </a:lnTo>
                    <a:lnTo>
                      <a:pt x="3630" y="2690"/>
                    </a:lnTo>
                    <a:lnTo>
                      <a:pt x="3630" y="2668"/>
                    </a:lnTo>
                    <a:lnTo>
                      <a:pt x="3630" y="2632"/>
                    </a:lnTo>
                    <a:lnTo>
                      <a:pt x="3612" y="2420"/>
                    </a:lnTo>
                    <a:lnTo>
                      <a:pt x="3590" y="2213"/>
                    </a:lnTo>
                    <a:lnTo>
                      <a:pt x="3559" y="2006"/>
                    </a:lnTo>
                    <a:lnTo>
                      <a:pt x="3493" y="1812"/>
                    </a:lnTo>
                    <a:lnTo>
                      <a:pt x="3422" y="1613"/>
                    </a:lnTo>
                    <a:lnTo>
                      <a:pt x="3334" y="1433"/>
                    </a:lnTo>
                    <a:lnTo>
                      <a:pt x="3237" y="1256"/>
                    </a:lnTo>
                    <a:lnTo>
                      <a:pt x="3127" y="1089"/>
                    </a:lnTo>
                    <a:lnTo>
                      <a:pt x="3109" y="1089"/>
                    </a:lnTo>
                    <a:lnTo>
                      <a:pt x="3096" y="1075"/>
                    </a:lnTo>
                    <a:lnTo>
                      <a:pt x="3078" y="1075"/>
                    </a:lnTo>
                    <a:lnTo>
                      <a:pt x="3056" y="1067"/>
                    </a:lnTo>
                    <a:lnTo>
                      <a:pt x="2986" y="1115"/>
                    </a:lnTo>
                    <a:lnTo>
                      <a:pt x="2946" y="1120"/>
                    </a:lnTo>
                    <a:lnTo>
                      <a:pt x="2911" y="1137"/>
                    </a:lnTo>
                    <a:lnTo>
                      <a:pt x="2871" y="1155"/>
                    </a:lnTo>
                    <a:lnTo>
                      <a:pt x="2832" y="1164"/>
                    </a:lnTo>
                    <a:lnTo>
                      <a:pt x="2783" y="1177"/>
                    </a:lnTo>
                    <a:lnTo>
                      <a:pt x="2730" y="1203"/>
                    </a:lnTo>
                    <a:lnTo>
                      <a:pt x="2673" y="1225"/>
                    </a:lnTo>
                    <a:lnTo>
                      <a:pt x="2620" y="1247"/>
                    </a:lnTo>
                    <a:lnTo>
                      <a:pt x="2571" y="1256"/>
                    </a:lnTo>
                    <a:lnTo>
                      <a:pt x="2532" y="1274"/>
                    </a:lnTo>
                    <a:lnTo>
                      <a:pt x="2501" y="1283"/>
                    </a:lnTo>
                    <a:lnTo>
                      <a:pt x="2457" y="1274"/>
                    </a:lnTo>
                    <a:lnTo>
                      <a:pt x="2443" y="1256"/>
                    </a:lnTo>
                    <a:lnTo>
                      <a:pt x="2417" y="1234"/>
                    </a:lnTo>
                    <a:lnTo>
                      <a:pt x="2413" y="1225"/>
                    </a:lnTo>
                    <a:lnTo>
                      <a:pt x="2395" y="1203"/>
                    </a:lnTo>
                    <a:lnTo>
                      <a:pt x="2364" y="1137"/>
                    </a:lnTo>
                    <a:lnTo>
                      <a:pt x="2346" y="1075"/>
                    </a:lnTo>
                    <a:lnTo>
                      <a:pt x="2346" y="1018"/>
                    </a:lnTo>
                    <a:lnTo>
                      <a:pt x="2338" y="956"/>
                    </a:lnTo>
                    <a:lnTo>
                      <a:pt x="2346" y="890"/>
                    </a:lnTo>
                    <a:lnTo>
                      <a:pt x="2386" y="837"/>
                    </a:lnTo>
                    <a:lnTo>
                      <a:pt x="2435" y="780"/>
                    </a:lnTo>
                    <a:lnTo>
                      <a:pt x="2483" y="749"/>
                    </a:lnTo>
                    <a:lnTo>
                      <a:pt x="2532" y="701"/>
                    </a:lnTo>
                    <a:lnTo>
                      <a:pt x="2571" y="643"/>
                    </a:lnTo>
                    <a:lnTo>
                      <a:pt x="2593" y="590"/>
                    </a:lnTo>
                    <a:lnTo>
                      <a:pt x="2593" y="524"/>
                    </a:lnTo>
                    <a:lnTo>
                      <a:pt x="2505" y="463"/>
                    </a:lnTo>
                    <a:lnTo>
                      <a:pt x="2435" y="405"/>
                    </a:lnTo>
                    <a:lnTo>
                      <a:pt x="2346" y="357"/>
                    </a:lnTo>
                    <a:lnTo>
                      <a:pt x="2258" y="308"/>
                    </a:lnTo>
                    <a:lnTo>
                      <a:pt x="2166" y="255"/>
                    </a:lnTo>
                    <a:lnTo>
                      <a:pt x="2077" y="207"/>
                    </a:lnTo>
                    <a:lnTo>
                      <a:pt x="1980" y="167"/>
                    </a:lnTo>
                    <a:lnTo>
                      <a:pt x="1888" y="136"/>
                    </a:lnTo>
                    <a:lnTo>
                      <a:pt x="1950" y="198"/>
                    </a:lnTo>
                    <a:lnTo>
                      <a:pt x="2007" y="246"/>
                    </a:lnTo>
                    <a:lnTo>
                      <a:pt x="2051" y="277"/>
                    </a:lnTo>
                    <a:lnTo>
                      <a:pt x="2135" y="326"/>
                    </a:lnTo>
                    <a:lnTo>
                      <a:pt x="2139" y="388"/>
                    </a:lnTo>
                    <a:lnTo>
                      <a:pt x="2135" y="463"/>
                    </a:lnTo>
                    <a:lnTo>
                      <a:pt x="2108" y="542"/>
                    </a:lnTo>
                    <a:lnTo>
                      <a:pt x="2108" y="595"/>
                    </a:lnTo>
                    <a:lnTo>
                      <a:pt x="2135" y="661"/>
                    </a:lnTo>
                    <a:lnTo>
                      <a:pt x="2135" y="683"/>
                    </a:lnTo>
                    <a:lnTo>
                      <a:pt x="2117" y="709"/>
                    </a:lnTo>
                    <a:lnTo>
                      <a:pt x="2091" y="732"/>
                    </a:lnTo>
                    <a:lnTo>
                      <a:pt x="2069" y="749"/>
                    </a:lnTo>
                    <a:lnTo>
                      <a:pt x="2051" y="771"/>
                    </a:lnTo>
                    <a:lnTo>
                      <a:pt x="2051" y="793"/>
                    </a:lnTo>
                    <a:lnTo>
                      <a:pt x="2051" y="837"/>
                    </a:lnTo>
                    <a:lnTo>
                      <a:pt x="2047" y="859"/>
                    </a:lnTo>
                    <a:lnTo>
                      <a:pt x="2029" y="868"/>
                    </a:lnTo>
                    <a:lnTo>
                      <a:pt x="2020" y="881"/>
                    </a:lnTo>
                    <a:lnTo>
                      <a:pt x="2007" y="881"/>
                    </a:lnTo>
                    <a:lnTo>
                      <a:pt x="1998" y="881"/>
                    </a:lnTo>
                    <a:lnTo>
                      <a:pt x="1972" y="868"/>
                    </a:lnTo>
                    <a:lnTo>
                      <a:pt x="1950" y="881"/>
                    </a:lnTo>
                    <a:lnTo>
                      <a:pt x="1910" y="890"/>
                    </a:lnTo>
                    <a:lnTo>
                      <a:pt x="1888" y="890"/>
                    </a:lnTo>
                    <a:lnTo>
                      <a:pt x="1870" y="881"/>
                    </a:lnTo>
                    <a:lnTo>
                      <a:pt x="1870" y="868"/>
                    </a:lnTo>
                    <a:lnTo>
                      <a:pt x="1861" y="859"/>
                    </a:lnTo>
                    <a:lnTo>
                      <a:pt x="1848" y="723"/>
                    </a:lnTo>
                    <a:lnTo>
                      <a:pt x="1812" y="701"/>
                    </a:lnTo>
                    <a:lnTo>
                      <a:pt x="1790" y="661"/>
                    </a:lnTo>
                    <a:lnTo>
                      <a:pt x="1750" y="621"/>
                    </a:lnTo>
                    <a:lnTo>
                      <a:pt x="1719" y="590"/>
                    </a:lnTo>
                    <a:lnTo>
                      <a:pt x="1702" y="551"/>
                    </a:lnTo>
                    <a:lnTo>
                      <a:pt x="1693" y="515"/>
                    </a:lnTo>
                    <a:lnTo>
                      <a:pt x="1680" y="476"/>
                    </a:lnTo>
                    <a:lnTo>
                      <a:pt x="1693" y="454"/>
                    </a:lnTo>
                    <a:lnTo>
                      <a:pt x="1702" y="436"/>
                    </a:lnTo>
                    <a:lnTo>
                      <a:pt x="1719" y="436"/>
                    </a:lnTo>
                    <a:lnTo>
                      <a:pt x="1719" y="427"/>
                    </a:lnTo>
                    <a:lnTo>
                      <a:pt x="1724" y="427"/>
                    </a:lnTo>
                    <a:lnTo>
                      <a:pt x="1750" y="454"/>
                    </a:lnTo>
                    <a:lnTo>
                      <a:pt x="1790" y="476"/>
                    </a:lnTo>
                    <a:lnTo>
                      <a:pt x="1822" y="485"/>
                    </a:lnTo>
                    <a:lnTo>
                      <a:pt x="1861" y="485"/>
                    </a:lnTo>
                    <a:lnTo>
                      <a:pt x="1870" y="485"/>
                    </a:lnTo>
                    <a:lnTo>
                      <a:pt x="1870" y="476"/>
                    </a:lnTo>
                    <a:lnTo>
                      <a:pt x="1870" y="317"/>
                    </a:lnTo>
                    <a:lnTo>
                      <a:pt x="1812" y="246"/>
                    </a:lnTo>
                    <a:lnTo>
                      <a:pt x="1741" y="185"/>
                    </a:lnTo>
                    <a:lnTo>
                      <a:pt x="1662" y="119"/>
                    </a:lnTo>
                    <a:lnTo>
                      <a:pt x="1605" y="39"/>
                    </a:lnTo>
                    <a:lnTo>
                      <a:pt x="1543" y="22"/>
                    </a:lnTo>
                    <a:lnTo>
                      <a:pt x="1494" y="8"/>
                    </a:lnTo>
                    <a:lnTo>
                      <a:pt x="1433" y="0"/>
                    </a:lnTo>
                    <a:lnTo>
                      <a:pt x="1375" y="0"/>
                    </a:lnTo>
                    <a:lnTo>
                      <a:pt x="1358" y="0"/>
                    </a:lnTo>
                    <a:lnTo>
                      <a:pt x="1358" y="8"/>
                    </a:lnTo>
                    <a:lnTo>
                      <a:pt x="1358" y="22"/>
                    </a:lnTo>
                    <a:lnTo>
                      <a:pt x="1353" y="39"/>
                    </a:lnTo>
                    <a:lnTo>
                      <a:pt x="1274" y="61"/>
                    </a:lnTo>
                    <a:lnTo>
                      <a:pt x="1239" y="119"/>
                    </a:lnTo>
                    <a:lnTo>
                      <a:pt x="1217" y="185"/>
                    </a:lnTo>
                    <a:lnTo>
                      <a:pt x="1168" y="246"/>
                    </a:lnTo>
                    <a:lnTo>
                      <a:pt x="1146" y="246"/>
                    </a:lnTo>
                    <a:lnTo>
                      <a:pt x="1128" y="246"/>
                    </a:lnTo>
                    <a:lnTo>
                      <a:pt x="1106" y="246"/>
                    </a:lnTo>
                    <a:lnTo>
                      <a:pt x="1098" y="255"/>
                    </a:lnTo>
                    <a:lnTo>
                      <a:pt x="1058" y="317"/>
                    </a:lnTo>
                    <a:lnTo>
                      <a:pt x="1018" y="383"/>
                    </a:lnTo>
                    <a:lnTo>
                      <a:pt x="987" y="436"/>
                    </a:lnTo>
                    <a:lnTo>
                      <a:pt x="939" y="485"/>
                    </a:lnTo>
                    <a:lnTo>
                      <a:pt x="921" y="485"/>
                    </a:lnTo>
                    <a:lnTo>
                      <a:pt x="921" y="502"/>
                    </a:lnTo>
                    <a:lnTo>
                      <a:pt x="811" y="612"/>
                    </a:lnTo>
                    <a:lnTo>
                      <a:pt x="811" y="621"/>
                    </a:lnTo>
                    <a:lnTo>
                      <a:pt x="859" y="643"/>
                    </a:lnTo>
                    <a:lnTo>
                      <a:pt x="921" y="661"/>
                    </a:lnTo>
                    <a:lnTo>
                      <a:pt x="987" y="674"/>
                    </a:lnTo>
                    <a:lnTo>
                      <a:pt x="1031" y="674"/>
                    </a:lnTo>
                    <a:lnTo>
                      <a:pt x="1040" y="683"/>
                    </a:lnTo>
                    <a:lnTo>
                      <a:pt x="1058" y="683"/>
                    </a:lnTo>
                    <a:lnTo>
                      <a:pt x="1058" y="701"/>
                    </a:lnTo>
                    <a:lnTo>
                      <a:pt x="1067" y="709"/>
                    </a:lnTo>
                    <a:lnTo>
                      <a:pt x="1058" y="723"/>
                    </a:lnTo>
                    <a:lnTo>
                      <a:pt x="1031" y="732"/>
                    </a:lnTo>
                    <a:lnTo>
                      <a:pt x="1018" y="749"/>
                    </a:lnTo>
                    <a:lnTo>
                      <a:pt x="992" y="754"/>
                    </a:lnTo>
                    <a:lnTo>
                      <a:pt x="970" y="793"/>
                    </a:lnTo>
                    <a:lnTo>
                      <a:pt x="948" y="859"/>
                    </a:lnTo>
                    <a:lnTo>
                      <a:pt x="921" y="917"/>
                    </a:lnTo>
                    <a:lnTo>
                      <a:pt x="921" y="978"/>
                    </a:lnTo>
                    <a:lnTo>
                      <a:pt x="939" y="1001"/>
                    </a:lnTo>
                    <a:lnTo>
                      <a:pt x="948" y="1001"/>
                    </a:lnTo>
                    <a:lnTo>
                      <a:pt x="939" y="1018"/>
                    </a:lnTo>
                    <a:lnTo>
                      <a:pt x="921" y="1049"/>
                    </a:lnTo>
                    <a:lnTo>
                      <a:pt x="939" y="1067"/>
                    </a:lnTo>
                    <a:lnTo>
                      <a:pt x="948" y="1075"/>
                    </a:lnTo>
                    <a:lnTo>
                      <a:pt x="1018" y="1027"/>
                    </a:lnTo>
                    <a:lnTo>
                      <a:pt x="1146" y="1018"/>
                    </a:lnTo>
                    <a:lnTo>
                      <a:pt x="1146" y="1001"/>
                    </a:lnTo>
                    <a:lnTo>
                      <a:pt x="1155" y="996"/>
                    </a:lnTo>
                    <a:lnTo>
                      <a:pt x="1168" y="996"/>
                    </a:lnTo>
                    <a:lnTo>
                      <a:pt x="1177" y="978"/>
                    </a:lnTo>
                    <a:lnTo>
                      <a:pt x="1177" y="881"/>
                    </a:lnTo>
                    <a:lnTo>
                      <a:pt x="1274" y="683"/>
                    </a:lnTo>
                    <a:lnTo>
                      <a:pt x="1287" y="683"/>
                    </a:lnTo>
                    <a:lnTo>
                      <a:pt x="1336" y="749"/>
                    </a:lnTo>
                    <a:lnTo>
                      <a:pt x="1375" y="793"/>
                    </a:lnTo>
                    <a:lnTo>
                      <a:pt x="1424" y="859"/>
                    </a:lnTo>
                    <a:lnTo>
                      <a:pt x="1481" y="908"/>
                    </a:lnTo>
                    <a:lnTo>
                      <a:pt x="1512" y="930"/>
                    </a:lnTo>
                    <a:lnTo>
                      <a:pt x="1521" y="956"/>
                    </a:lnTo>
                    <a:lnTo>
                      <a:pt x="1543" y="996"/>
                    </a:lnTo>
                    <a:lnTo>
                      <a:pt x="1561" y="1018"/>
                    </a:lnTo>
                    <a:lnTo>
                      <a:pt x="1561" y="1075"/>
                    </a:lnTo>
                    <a:lnTo>
                      <a:pt x="1561" y="1137"/>
                    </a:lnTo>
                    <a:lnTo>
                      <a:pt x="1583" y="1203"/>
                    </a:lnTo>
                    <a:lnTo>
                      <a:pt x="1605" y="1247"/>
                    </a:lnTo>
                    <a:lnTo>
                      <a:pt x="1613" y="1256"/>
                    </a:lnTo>
                    <a:lnTo>
                      <a:pt x="1631" y="1274"/>
                    </a:lnTo>
                    <a:lnTo>
                      <a:pt x="1640" y="1283"/>
                    </a:lnTo>
                    <a:lnTo>
                      <a:pt x="1653" y="1296"/>
                    </a:lnTo>
                    <a:lnTo>
                      <a:pt x="1653" y="1314"/>
                    </a:lnTo>
                    <a:lnTo>
                      <a:pt x="1640" y="1322"/>
                    </a:lnTo>
                    <a:lnTo>
                      <a:pt x="1640" y="1344"/>
                    </a:lnTo>
                    <a:lnTo>
                      <a:pt x="1631" y="1362"/>
                    </a:lnTo>
                    <a:lnTo>
                      <a:pt x="1583" y="1344"/>
                    </a:lnTo>
                    <a:lnTo>
                      <a:pt x="1534" y="1296"/>
                    </a:lnTo>
                    <a:lnTo>
                      <a:pt x="1481" y="1256"/>
                    </a:lnTo>
                    <a:lnTo>
                      <a:pt x="1424" y="1247"/>
                    </a:lnTo>
                    <a:lnTo>
                      <a:pt x="1384" y="1274"/>
                    </a:lnTo>
                    <a:lnTo>
                      <a:pt x="1358" y="1296"/>
                    </a:lnTo>
                    <a:lnTo>
                      <a:pt x="1318" y="1322"/>
                    </a:lnTo>
                    <a:lnTo>
                      <a:pt x="1305" y="1344"/>
                    </a:lnTo>
                    <a:lnTo>
                      <a:pt x="1314" y="1362"/>
                    </a:lnTo>
                    <a:lnTo>
                      <a:pt x="1318" y="1367"/>
                    </a:lnTo>
                    <a:lnTo>
                      <a:pt x="1318" y="1384"/>
                    </a:lnTo>
                    <a:lnTo>
                      <a:pt x="1336" y="1384"/>
                    </a:lnTo>
                    <a:lnTo>
                      <a:pt x="1375" y="1384"/>
                    </a:lnTo>
                    <a:lnTo>
                      <a:pt x="1397" y="1393"/>
                    </a:lnTo>
                    <a:lnTo>
                      <a:pt x="1406" y="1415"/>
                    </a:lnTo>
                    <a:lnTo>
                      <a:pt x="1424" y="1455"/>
                    </a:lnTo>
                    <a:lnTo>
                      <a:pt x="1406" y="1472"/>
                    </a:lnTo>
                    <a:lnTo>
                      <a:pt x="1397" y="1494"/>
                    </a:lnTo>
                    <a:lnTo>
                      <a:pt x="1146" y="1441"/>
                    </a:lnTo>
                    <a:lnTo>
                      <a:pt x="1146" y="1472"/>
                    </a:lnTo>
                    <a:lnTo>
                      <a:pt x="1146" y="1494"/>
                    </a:lnTo>
                    <a:lnTo>
                      <a:pt x="1146" y="1521"/>
                    </a:lnTo>
                    <a:lnTo>
                      <a:pt x="1128" y="1530"/>
                    </a:lnTo>
                    <a:lnTo>
                      <a:pt x="1106" y="1569"/>
                    </a:lnTo>
                    <a:lnTo>
                      <a:pt x="1098" y="1574"/>
                    </a:lnTo>
                    <a:lnTo>
                      <a:pt x="1067" y="1613"/>
                    </a:lnTo>
                    <a:lnTo>
                      <a:pt x="992" y="1733"/>
                    </a:lnTo>
                    <a:lnTo>
                      <a:pt x="833" y="1812"/>
                    </a:lnTo>
                    <a:lnTo>
                      <a:pt x="829" y="1821"/>
                    </a:lnTo>
                    <a:lnTo>
                      <a:pt x="811" y="1847"/>
                    </a:lnTo>
                    <a:lnTo>
                      <a:pt x="811" y="1869"/>
                    </a:lnTo>
                    <a:lnTo>
                      <a:pt x="811" y="1896"/>
                    </a:lnTo>
                    <a:lnTo>
                      <a:pt x="811" y="1935"/>
                    </a:lnTo>
                    <a:lnTo>
                      <a:pt x="811" y="1997"/>
                    </a:lnTo>
                    <a:lnTo>
                      <a:pt x="811" y="2068"/>
                    </a:lnTo>
                    <a:lnTo>
                      <a:pt x="811" y="2107"/>
                    </a:lnTo>
                    <a:lnTo>
                      <a:pt x="762" y="2107"/>
                    </a:lnTo>
                    <a:lnTo>
                      <a:pt x="723" y="2094"/>
                    </a:lnTo>
                    <a:lnTo>
                      <a:pt x="692" y="2068"/>
                    </a:lnTo>
                    <a:lnTo>
                      <a:pt x="665" y="2046"/>
                    </a:lnTo>
                    <a:lnTo>
                      <a:pt x="665" y="1979"/>
                    </a:lnTo>
                    <a:lnTo>
                      <a:pt x="652" y="1918"/>
                    </a:lnTo>
                    <a:lnTo>
                      <a:pt x="621" y="1869"/>
                    </a:lnTo>
                    <a:lnTo>
                      <a:pt x="573" y="1821"/>
                    </a:lnTo>
                    <a:lnTo>
                      <a:pt x="515" y="1838"/>
                    </a:lnTo>
                    <a:lnTo>
                      <a:pt x="485" y="1838"/>
                    </a:lnTo>
                    <a:lnTo>
                      <a:pt x="445" y="1821"/>
                    </a:lnTo>
                    <a:lnTo>
                      <a:pt x="414" y="1799"/>
                    </a:lnTo>
                    <a:lnTo>
                      <a:pt x="366" y="1772"/>
                    </a:lnTo>
                    <a:lnTo>
                      <a:pt x="317" y="1750"/>
                    </a:lnTo>
                    <a:lnTo>
                      <a:pt x="260" y="1733"/>
                    </a:lnTo>
                    <a:lnTo>
                      <a:pt x="216" y="1728"/>
                    </a:lnTo>
                    <a:lnTo>
                      <a:pt x="167" y="1772"/>
                    </a:lnTo>
                    <a:lnTo>
                      <a:pt x="92" y="1869"/>
                    </a:lnTo>
                    <a:lnTo>
                      <a:pt x="22" y="1975"/>
                    </a:lnTo>
                    <a:lnTo>
                      <a:pt x="0" y="2006"/>
                    </a:lnTo>
                    <a:lnTo>
                      <a:pt x="92" y="2094"/>
                    </a:lnTo>
                    <a:lnTo>
                      <a:pt x="110" y="2275"/>
                    </a:lnTo>
                    <a:lnTo>
                      <a:pt x="127" y="2275"/>
                    </a:lnTo>
                    <a:lnTo>
                      <a:pt x="167" y="2262"/>
                    </a:lnTo>
                    <a:lnTo>
                      <a:pt x="189" y="2253"/>
                    </a:lnTo>
                    <a:lnTo>
                      <a:pt x="216" y="2226"/>
                    </a:lnTo>
                    <a:lnTo>
                      <a:pt x="238" y="2187"/>
                    </a:lnTo>
                    <a:lnTo>
                      <a:pt x="255" y="2165"/>
                    </a:lnTo>
                    <a:lnTo>
                      <a:pt x="277" y="2138"/>
                    </a:lnTo>
                    <a:lnTo>
                      <a:pt x="317" y="2116"/>
                    </a:lnTo>
                    <a:lnTo>
                      <a:pt x="326" y="2116"/>
                    </a:lnTo>
                    <a:lnTo>
                      <a:pt x="326" y="2134"/>
                    </a:lnTo>
                    <a:lnTo>
                      <a:pt x="326" y="2138"/>
                    </a:lnTo>
                    <a:lnTo>
                      <a:pt x="277" y="2372"/>
                    </a:lnTo>
                    <a:lnTo>
                      <a:pt x="348" y="2451"/>
                    </a:lnTo>
                    <a:lnTo>
                      <a:pt x="339" y="2500"/>
                    </a:lnTo>
                    <a:lnTo>
                      <a:pt x="299" y="2531"/>
                    </a:lnTo>
                    <a:lnTo>
                      <a:pt x="260" y="2570"/>
                    </a:lnTo>
                    <a:lnTo>
                      <a:pt x="238" y="2632"/>
                    </a:lnTo>
                    <a:lnTo>
                      <a:pt x="238" y="2682"/>
                    </a:lnTo>
                    <a:lnTo>
                      <a:pt x="277" y="2730"/>
                    </a:lnTo>
                    <a:lnTo>
                      <a:pt x="326" y="2779"/>
                    </a:lnTo>
                    <a:lnTo>
                      <a:pt x="388" y="2827"/>
                    </a:lnTo>
                    <a:lnTo>
                      <a:pt x="445" y="2849"/>
                    </a:lnTo>
                    <a:lnTo>
                      <a:pt x="502" y="2849"/>
                    </a:lnTo>
                    <a:lnTo>
                      <a:pt x="546" y="2840"/>
                    </a:lnTo>
                    <a:lnTo>
                      <a:pt x="582" y="2827"/>
                    </a:lnTo>
                    <a:lnTo>
                      <a:pt x="621" y="2801"/>
                    </a:lnTo>
                    <a:lnTo>
                      <a:pt x="652" y="2801"/>
                    </a:lnTo>
                    <a:lnTo>
                      <a:pt x="674" y="2818"/>
                    </a:lnTo>
                    <a:lnTo>
                      <a:pt x="705" y="2827"/>
                    </a:lnTo>
                    <a:lnTo>
                      <a:pt x="740" y="2840"/>
                    </a:lnTo>
                    <a:lnTo>
                      <a:pt x="811" y="2876"/>
                    </a:lnTo>
                    <a:lnTo>
                      <a:pt x="859" y="2915"/>
                    </a:lnTo>
                    <a:lnTo>
                      <a:pt x="921" y="2955"/>
                    </a:lnTo>
                    <a:lnTo>
                      <a:pt x="970" y="2986"/>
                    </a:lnTo>
                    <a:lnTo>
                      <a:pt x="992" y="3048"/>
                    </a:lnTo>
                    <a:lnTo>
                      <a:pt x="1009" y="3114"/>
                    </a:lnTo>
                    <a:lnTo>
                      <a:pt x="1018" y="3184"/>
                    </a:lnTo>
                    <a:lnTo>
                      <a:pt x="1031" y="3255"/>
                    </a:lnTo>
                    <a:lnTo>
                      <a:pt x="1098" y="3281"/>
                    </a:lnTo>
                    <a:lnTo>
                      <a:pt x="1155" y="3303"/>
                    </a:lnTo>
                    <a:lnTo>
                      <a:pt x="1217" y="3343"/>
                    </a:lnTo>
                    <a:lnTo>
                      <a:pt x="1265" y="3405"/>
                    </a:lnTo>
                    <a:lnTo>
                      <a:pt x="1314" y="3528"/>
                    </a:lnTo>
                    <a:lnTo>
                      <a:pt x="1358" y="3661"/>
                    </a:lnTo>
                    <a:lnTo>
                      <a:pt x="1406" y="3797"/>
                    </a:lnTo>
                    <a:lnTo>
                      <a:pt x="1472" y="3908"/>
                    </a:lnTo>
                    <a:lnTo>
                      <a:pt x="1543" y="3987"/>
                    </a:lnTo>
                    <a:lnTo>
                      <a:pt x="1613" y="4075"/>
                    </a:lnTo>
                    <a:lnTo>
                      <a:pt x="1680" y="4163"/>
                    </a:lnTo>
                    <a:lnTo>
                      <a:pt x="1741" y="4260"/>
                    </a:lnTo>
                    <a:lnTo>
                      <a:pt x="1750" y="4322"/>
                    </a:lnTo>
                    <a:lnTo>
                      <a:pt x="1750" y="4379"/>
                    </a:lnTo>
                    <a:lnTo>
                      <a:pt x="1724" y="4441"/>
                    </a:lnTo>
                    <a:lnTo>
                      <a:pt x="1680" y="4490"/>
                    </a:lnTo>
                    <a:lnTo>
                      <a:pt x="1605" y="4507"/>
                    </a:lnTo>
                    <a:lnTo>
                      <a:pt x="1534" y="4529"/>
                    </a:lnTo>
                    <a:lnTo>
                      <a:pt x="1472" y="4551"/>
                    </a:lnTo>
                    <a:lnTo>
                      <a:pt x="1406" y="4578"/>
                    </a:lnTo>
                    <a:lnTo>
                      <a:pt x="1353" y="4600"/>
                    </a:lnTo>
                    <a:lnTo>
                      <a:pt x="1287" y="4640"/>
                    </a:lnTo>
                    <a:lnTo>
                      <a:pt x="1225" y="4688"/>
                    </a:lnTo>
                    <a:lnTo>
                      <a:pt x="1155" y="4737"/>
                    </a:lnTo>
                    <a:lnTo>
                      <a:pt x="1098" y="4776"/>
                    </a:lnTo>
                    <a:lnTo>
                      <a:pt x="1018" y="4807"/>
                    </a:lnTo>
                    <a:lnTo>
                      <a:pt x="948" y="4825"/>
                    </a:lnTo>
                    <a:lnTo>
                      <a:pt x="873" y="4847"/>
                    </a:lnTo>
                    <a:lnTo>
                      <a:pt x="802" y="4873"/>
                    </a:lnTo>
                    <a:lnTo>
                      <a:pt x="723" y="4895"/>
                    </a:lnTo>
                    <a:lnTo>
                      <a:pt x="665" y="4935"/>
                    </a:lnTo>
                    <a:lnTo>
                      <a:pt x="621" y="4992"/>
                    </a:lnTo>
                    <a:lnTo>
                      <a:pt x="546" y="5054"/>
                    </a:lnTo>
                    <a:lnTo>
                      <a:pt x="467" y="5116"/>
                    </a:lnTo>
                    <a:lnTo>
                      <a:pt x="388" y="5164"/>
                    </a:lnTo>
                    <a:lnTo>
                      <a:pt x="299" y="5204"/>
                    </a:lnTo>
                    <a:lnTo>
                      <a:pt x="388" y="5230"/>
                    </a:lnTo>
                    <a:lnTo>
                      <a:pt x="467" y="5239"/>
                    </a:lnTo>
                    <a:lnTo>
                      <a:pt x="546" y="5261"/>
                    </a:lnTo>
                    <a:lnTo>
                      <a:pt x="626" y="5279"/>
                    </a:lnTo>
                    <a:lnTo>
                      <a:pt x="714" y="5283"/>
                    </a:lnTo>
                    <a:lnTo>
                      <a:pt x="802" y="5283"/>
                    </a:lnTo>
                    <a:lnTo>
                      <a:pt x="881" y="5301"/>
                    </a:lnTo>
                    <a:lnTo>
                      <a:pt x="970" y="5301"/>
                    </a:lnTo>
                    <a:lnTo>
                      <a:pt x="1111" y="5301"/>
                    </a:lnTo>
                    <a:lnTo>
                      <a:pt x="1265" y="5283"/>
                    </a:lnTo>
                    <a:lnTo>
                      <a:pt x="1406" y="5261"/>
                    </a:lnTo>
                    <a:lnTo>
                      <a:pt x="1561" y="5230"/>
                    </a:lnTo>
                    <a:lnTo>
                      <a:pt x="1702" y="5191"/>
                    </a:lnTo>
                    <a:lnTo>
                      <a:pt x="1839" y="5151"/>
                    </a:lnTo>
                    <a:lnTo>
                      <a:pt x="1972" y="5094"/>
                    </a:lnTo>
                    <a:lnTo>
                      <a:pt x="2108" y="5032"/>
                    </a:lnTo>
                    <a:lnTo>
                      <a:pt x="2227" y="4966"/>
                    </a:lnTo>
                    <a:lnTo>
                      <a:pt x="2364" y="4895"/>
                    </a:lnTo>
                    <a:lnTo>
                      <a:pt x="2466" y="4825"/>
                    </a:lnTo>
                    <a:lnTo>
                      <a:pt x="2593" y="4737"/>
                    </a:lnTo>
                    <a:lnTo>
                      <a:pt x="2704" y="4640"/>
                    </a:lnTo>
                    <a:lnTo>
                      <a:pt x="2809" y="4538"/>
                    </a:lnTo>
                    <a:lnTo>
                      <a:pt x="2911" y="4441"/>
                    </a:lnTo>
                    <a:lnTo>
                      <a:pt x="3008" y="4331"/>
                    </a:lnTo>
                    <a:lnTo>
                      <a:pt x="2937" y="4260"/>
                    </a:lnTo>
                    <a:lnTo>
                      <a:pt x="2849" y="4212"/>
                    </a:lnTo>
                    <a:lnTo>
                      <a:pt x="2761" y="4146"/>
                    </a:lnTo>
                    <a:lnTo>
                      <a:pt x="2690" y="4097"/>
                    </a:lnTo>
                    <a:lnTo>
                      <a:pt x="2602" y="4066"/>
                    </a:lnTo>
                    <a:lnTo>
                      <a:pt x="2532" y="4044"/>
                    </a:lnTo>
                    <a:lnTo>
                      <a:pt x="2457" y="3987"/>
                    </a:lnTo>
                    <a:lnTo>
                      <a:pt x="2413" y="3938"/>
                    </a:lnTo>
                    <a:lnTo>
                      <a:pt x="2413" y="3934"/>
                    </a:lnTo>
                    <a:lnTo>
                      <a:pt x="2413" y="3916"/>
                    </a:lnTo>
                    <a:lnTo>
                      <a:pt x="2395" y="3916"/>
                    </a:lnTo>
                    <a:lnTo>
                      <a:pt x="2395" y="3908"/>
                    </a:lnTo>
                    <a:lnTo>
                      <a:pt x="2395" y="3855"/>
                    </a:lnTo>
                    <a:lnTo>
                      <a:pt x="2413" y="3806"/>
                    </a:lnTo>
                    <a:lnTo>
                      <a:pt x="2413" y="3771"/>
                    </a:lnTo>
                    <a:lnTo>
                      <a:pt x="2417" y="3727"/>
                    </a:lnTo>
                    <a:lnTo>
                      <a:pt x="2457" y="3612"/>
                    </a:lnTo>
                    <a:lnTo>
                      <a:pt x="2501" y="3489"/>
                    </a:lnTo>
                    <a:lnTo>
                      <a:pt x="2554" y="3392"/>
                    </a:lnTo>
                    <a:lnTo>
                      <a:pt x="2651" y="3321"/>
                    </a:lnTo>
                    <a:lnTo>
                      <a:pt x="2704" y="3303"/>
                    </a:lnTo>
                    <a:lnTo>
                      <a:pt x="2752" y="3281"/>
                    </a:lnTo>
                    <a:lnTo>
                      <a:pt x="2783" y="3273"/>
                    </a:lnTo>
                    <a:lnTo>
                      <a:pt x="2832" y="3255"/>
                    </a:lnTo>
                    <a:lnTo>
                      <a:pt x="2889" y="3255"/>
                    </a:lnTo>
                    <a:lnTo>
                      <a:pt x="2937" y="3246"/>
                    </a:lnTo>
                    <a:lnTo>
                      <a:pt x="2968" y="3215"/>
                    </a:lnTo>
                    <a:lnTo>
                      <a:pt x="3017" y="3206"/>
                    </a:lnTo>
                    <a:lnTo>
                      <a:pt x="3065" y="3206"/>
                    </a:lnTo>
                    <a:lnTo>
                      <a:pt x="3105" y="3184"/>
                    </a:lnTo>
                    <a:lnTo>
                      <a:pt x="3153" y="3167"/>
                    </a:lnTo>
                    <a:lnTo>
                      <a:pt x="3198" y="3145"/>
                    </a:lnTo>
                    <a:lnTo>
                      <a:pt x="3246" y="3136"/>
                    </a:lnTo>
                    <a:lnTo>
                      <a:pt x="3303" y="3118"/>
                    </a:lnTo>
                    <a:lnTo>
                      <a:pt x="3352" y="3118"/>
                    </a:lnTo>
                    <a:lnTo>
                      <a:pt x="3396" y="3136"/>
                    </a:lnTo>
                    <a:lnTo>
                      <a:pt x="3422" y="3162"/>
                    </a:lnTo>
                    <a:lnTo>
                      <a:pt x="3453" y="3184"/>
                    </a:lnTo>
                    <a:lnTo>
                      <a:pt x="3493" y="3215"/>
                    </a:lnTo>
                    <a:lnTo>
                      <a:pt x="3542" y="3246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843120" y="4500720"/>
                <a:ext cx="98640" cy="114840"/>
              </a:xfrm>
              <a:custGeom>
                <a:avLst/>
                <a:gdLst/>
                <a:ahLst/>
                <a:rect l="0" t="0" r="r" b="b"/>
                <a:pathLst>
                  <a:path w="274" h="319">
                    <a:moveTo>
                      <a:pt x="186" y="288"/>
                    </a:moveTo>
                    <a:lnTo>
                      <a:pt x="256" y="319"/>
                    </a:lnTo>
                    <a:lnTo>
                      <a:pt x="274" y="319"/>
                    </a:lnTo>
                    <a:lnTo>
                      <a:pt x="274" y="297"/>
                    </a:lnTo>
                    <a:lnTo>
                      <a:pt x="256" y="288"/>
                    </a:lnTo>
                    <a:lnTo>
                      <a:pt x="256" y="275"/>
                    </a:lnTo>
                    <a:lnTo>
                      <a:pt x="195" y="248"/>
                    </a:lnTo>
                    <a:lnTo>
                      <a:pt x="164" y="199"/>
                    </a:lnTo>
                    <a:lnTo>
                      <a:pt x="136" y="150"/>
                    </a:lnTo>
                    <a:lnTo>
                      <a:pt x="114" y="89"/>
                    </a:lnTo>
                    <a:lnTo>
                      <a:pt x="39" y="0"/>
                    </a:lnTo>
                    <a:lnTo>
                      <a:pt x="26" y="17"/>
                    </a:lnTo>
                    <a:lnTo>
                      <a:pt x="8" y="39"/>
                    </a:lnTo>
                    <a:lnTo>
                      <a:pt x="0" y="48"/>
                    </a:lnTo>
                    <a:lnTo>
                      <a:pt x="0" y="79"/>
                    </a:lnTo>
                    <a:lnTo>
                      <a:pt x="0" y="89"/>
                    </a:lnTo>
                    <a:lnTo>
                      <a:pt x="39" y="137"/>
                    </a:lnTo>
                    <a:lnTo>
                      <a:pt x="88" y="199"/>
                    </a:lnTo>
                    <a:lnTo>
                      <a:pt x="136" y="248"/>
                    </a:lnTo>
                    <a:lnTo>
                      <a:pt x="186" y="288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7" name=""/>
          <p:cNvSpPr txBox="1"/>
          <p:nvPr/>
        </p:nvSpPr>
        <p:spPr>
          <a:xfrm>
            <a:off x="762120" y="190512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LionNet - organisaatio ja raken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LionNet on lionien kansainvälinen palveluverkko Internetiss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5257800" y="5638680"/>
            <a:ext cx="3565440" cy="8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...LionNetin hierark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ansainvälinen taso - LionNet Interna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ansallinen taso - LionNet Fin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piiritaso - </a:t>
            </a:r>
            <a:r>
              <a:rPr b="1" lang="en-US" sz="24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esim.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 </a:t>
            </a:r>
            <a:r>
              <a:rPr b="1" lang="en-US" sz="24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LionNet Finland - district 107-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lubitaso - </a:t>
            </a:r>
            <a:r>
              <a:rPr b="1" lang="en-US" sz="24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esim. LC Espoo / Me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yksilötaso - </a:t>
            </a:r>
            <a:r>
              <a:rPr b="1" lang="en-US" sz="24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esim.    www.funet.fi/~siissa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perustieto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1981080"/>
            <a:ext cx="7772400" cy="460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mukana on nyt n. 50 kansallista ja osavaltiotason LionNet-palvelusolmua (nod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linkkejä noin 480:ään eri lionien Internet-palvelu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LionNet Internationalin osoite on www.lionnet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Toukokuu 199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kansallinen ta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ansallisella tasolla vain yksi noodi,      esim. LionNet Fin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vastuullinen taho on Suomen Lions-liiton tiedotustoimikunnan alainen LionNet-työryhmä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kansallisen tason toimij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Node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LionNet - työryhm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piirien Internet - toimikuntapuheenjohtaj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piirien Internet - toimikunn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lubien Webmaster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piiritason kotisiv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1981080"/>
            <a:ext cx="77724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piirin perusinformaatio ja halli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ajankohtaiset tapahtu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piirin top ten -aktiviteet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linkit piirin klubeih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piirin lehti ja PK - tiedott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 u="sng">
                <a:solidFill>
                  <a:srgbClr val="660066"/>
                </a:solidFill>
                <a:uFillTx/>
                <a:latin typeface="Goudy Old Style"/>
                <a:ea typeface="Goudy Old Style"/>
              </a:rPr>
              <a:t>muista päivitys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klubitason kotisiv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1981080"/>
            <a:ext cx="77724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lubin perusinformaatio ja virkailij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ajankohtaiset tapahtu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lubin parhaat aktiviteet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linkit piirin kotisivui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lubin lehti ja tiedott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vuosikertomus t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 u="sng">
                <a:solidFill>
                  <a:srgbClr val="660066"/>
                </a:solidFill>
                <a:uFillTx/>
                <a:latin typeface="Goudy Old Style"/>
                <a:ea typeface="Goudy Old Style"/>
              </a:rPr>
              <a:t>muista päivitys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henkilötason kotisiv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monilla lioneilla on jo omia henkilökohtaisia kotisivu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näihin pääsee klubin kotisivujen kautta,   jos klubit ja jäsenet itse haluav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 u="sng">
                <a:solidFill>
                  <a:srgbClr val="660066"/>
                </a:solidFill>
                <a:uFillTx/>
                <a:latin typeface="Goudy Old Style"/>
                <a:ea typeface="Goudy Old Style"/>
              </a:rPr>
              <a:t>muista päivitys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Internet - Intranet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648320" y="1905120"/>
            <a:ext cx="380988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Internet - julkinen, kaikille avoin verkk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Intranet - Internetin  sisäiseen käyttöön suljettu osaverkk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 u="sng">
                <a:solidFill>
                  <a:srgbClr val="660066"/>
                </a:solidFill>
                <a:uFillTx/>
                <a:latin typeface="Goudy Old Style"/>
                <a:ea typeface="Goudy Old Style"/>
              </a:rPr>
              <a:t>Mieti mikä tieto menee kenelle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344160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lähtökoh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Internetin käyttäjiä on paljon - miljoona viikoittaista käyttäjää Pohjoismais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moni tuntee Internetin myös liiketoimintansa kaut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lähtökoh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erinomainen vuorovaikutteinen tiedonvälityskan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liiketoiminnas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harrastustoiminnas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ansainvälisen järjestön yhteydenpidos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...vaihtoehtoinen me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ajantasaisin tieto löytyy Internetist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perinteisen median merkitys ei väh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Internet tarjoa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vaihtoehd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vuorovaikutteisuu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reaaliaikaisuu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1440" y="119160"/>
            <a:ext cx="9142560" cy="6738840"/>
            <a:chOff x="1440" y="119160"/>
            <a:chExt cx="9142560" cy="6738840"/>
          </a:xfrm>
        </p:grpSpPr>
        <p:sp>
          <p:nvSpPr>
            <p:cNvPr id="216" name=""/>
            <p:cNvSpPr/>
            <p:nvPr/>
          </p:nvSpPr>
          <p:spPr>
            <a:xfrm>
              <a:off x="687240" y="6531120"/>
              <a:ext cx="3505320" cy="32688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87240" y="2440080"/>
              <a:ext cx="8456760" cy="7621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82720" y="119160"/>
              <a:ext cx="6660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82720" y="34920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82720" y="5763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82720" y="103500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82720" y="1262160"/>
              <a:ext cx="6660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82720" y="149220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82720" y="17193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82720" y="1949400"/>
              <a:ext cx="6660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82720" y="217800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4540320" y="6672240"/>
              <a:ext cx="4332240" cy="65160"/>
              <a:chOff x="4540320" y="6672240"/>
              <a:chExt cx="4332240" cy="65160"/>
            </a:xfrm>
          </p:grpSpPr>
          <p:sp>
            <p:nvSpPr>
              <p:cNvPr id="228" name=""/>
              <p:cNvSpPr/>
              <p:nvPr/>
            </p:nvSpPr>
            <p:spPr>
              <a:xfrm>
                <a:off x="4540320" y="667224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149800" y="667224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759280" y="667224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369120" y="667224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978600" y="667224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7588080" y="667224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8197920" y="667224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8807400" y="667224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6" name=""/>
            <p:cNvSpPr/>
            <p:nvPr/>
          </p:nvSpPr>
          <p:spPr>
            <a:xfrm>
              <a:off x="882720" y="806400"/>
              <a:ext cx="6660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1440" y="3695760"/>
              <a:ext cx="1908720" cy="1908360"/>
              <a:chOff x="1440" y="3695760"/>
              <a:chExt cx="1908720" cy="1908360"/>
            </a:xfrm>
          </p:grpSpPr>
          <p:sp>
            <p:nvSpPr>
              <p:cNvPr id="238" name=""/>
              <p:cNvSpPr/>
              <p:nvPr/>
            </p:nvSpPr>
            <p:spPr>
              <a:xfrm>
                <a:off x="1440" y="3801960"/>
                <a:ext cx="702000" cy="1638720"/>
              </a:xfrm>
              <a:custGeom>
                <a:avLst/>
                <a:gdLst/>
                <a:ahLst/>
                <a:rect l="0" t="0" r="r" b="b"/>
                <a:pathLst>
                  <a:path w="1950" h="4552">
                    <a:moveTo>
                      <a:pt x="1200" y="4552"/>
                    </a:moveTo>
                    <a:lnTo>
                      <a:pt x="1279" y="4482"/>
                    </a:lnTo>
                    <a:lnTo>
                      <a:pt x="1328" y="4376"/>
                    </a:lnTo>
                    <a:lnTo>
                      <a:pt x="1394" y="4297"/>
                    </a:lnTo>
                    <a:lnTo>
                      <a:pt x="1447" y="4213"/>
                    </a:lnTo>
                    <a:lnTo>
                      <a:pt x="1562" y="4058"/>
                    </a:lnTo>
                    <a:lnTo>
                      <a:pt x="1645" y="3988"/>
                    </a:lnTo>
                    <a:lnTo>
                      <a:pt x="1694" y="3900"/>
                    </a:lnTo>
                    <a:lnTo>
                      <a:pt x="1720" y="3741"/>
                    </a:lnTo>
                    <a:lnTo>
                      <a:pt x="1681" y="3670"/>
                    </a:lnTo>
                    <a:lnTo>
                      <a:pt x="1654" y="3582"/>
                    </a:lnTo>
                    <a:lnTo>
                      <a:pt x="1632" y="3503"/>
                    </a:lnTo>
                    <a:lnTo>
                      <a:pt x="1592" y="3415"/>
                    </a:lnTo>
                    <a:lnTo>
                      <a:pt x="1592" y="3352"/>
                    </a:lnTo>
                    <a:lnTo>
                      <a:pt x="1592" y="3295"/>
                    </a:lnTo>
                    <a:lnTo>
                      <a:pt x="1592" y="3237"/>
                    </a:lnTo>
                    <a:lnTo>
                      <a:pt x="1584" y="3184"/>
                    </a:lnTo>
                    <a:lnTo>
                      <a:pt x="1584" y="3118"/>
                    </a:lnTo>
                    <a:lnTo>
                      <a:pt x="1606" y="3078"/>
                    </a:lnTo>
                    <a:lnTo>
                      <a:pt x="1645" y="3048"/>
                    </a:lnTo>
                    <a:lnTo>
                      <a:pt x="1720" y="3026"/>
                    </a:lnTo>
                    <a:lnTo>
                      <a:pt x="1725" y="3026"/>
                    </a:lnTo>
                    <a:lnTo>
                      <a:pt x="1742" y="3008"/>
                    </a:lnTo>
                    <a:lnTo>
                      <a:pt x="1742" y="2999"/>
                    </a:lnTo>
                    <a:lnTo>
                      <a:pt x="1742" y="2986"/>
                    </a:lnTo>
                    <a:lnTo>
                      <a:pt x="1720" y="2959"/>
                    </a:lnTo>
                    <a:lnTo>
                      <a:pt x="1703" y="2937"/>
                    </a:lnTo>
                    <a:lnTo>
                      <a:pt x="1703" y="2911"/>
                    </a:lnTo>
                    <a:lnTo>
                      <a:pt x="1742" y="2889"/>
                    </a:lnTo>
                    <a:lnTo>
                      <a:pt x="1928" y="2801"/>
                    </a:lnTo>
                    <a:lnTo>
                      <a:pt x="1950" y="2761"/>
                    </a:lnTo>
                    <a:lnTo>
                      <a:pt x="1950" y="2730"/>
                    </a:lnTo>
                    <a:lnTo>
                      <a:pt x="1950" y="2704"/>
                    </a:lnTo>
                    <a:lnTo>
                      <a:pt x="1932" y="2664"/>
                    </a:lnTo>
                    <a:lnTo>
                      <a:pt x="1839" y="2545"/>
                    </a:lnTo>
                    <a:lnTo>
                      <a:pt x="1764" y="2395"/>
                    </a:lnTo>
                    <a:lnTo>
                      <a:pt x="1725" y="2254"/>
                    </a:lnTo>
                    <a:lnTo>
                      <a:pt x="1694" y="2091"/>
                    </a:lnTo>
                    <a:lnTo>
                      <a:pt x="1623" y="2051"/>
                    </a:lnTo>
                    <a:lnTo>
                      <a:pt x="1562" y="2007"/>
                    </a:lnTo>
                    <a:lnTo>
                      <a:pt x="1495" y="1958"/>
                    </a:lnTo>
                    <a:lnTo>
                      <a:pt x="1438" y="1910"/>
                    </a:lnTo>
                    <a:lnTo>
                      <a:pt x="1398" y="1861"/>
                    </a:lnTo>
                    <a:lnTo>
                      <a:pt x="1376" y="1813"/>
                    </a:lnTo>
                    <a:lnTo>
                      <a:pt x="1359" y="1773"/>
                    </a:lnTo>
                    <a:lnTo>
                      <a:pt x="1354" y="1725"/>
                    </a:lnTo>
                    <a:lnTo>
                      <a:pt x="1257" y="1601"/>
                    </a:lnTo>
                    <a:lnTo>
                      <a:pt x="1279" y="1495"/>
                    </a:lnTo>
                    <a:lnTo>
                      <a:pt x="1328" y="1385"/>
                    </a:lnTo>
                    <a:lnTo>
                      <a:pt x="1359" y="1275"/>
                    </a:lnTo>
                    <a:lnTo>
                      <a:pt x="1359" y="1178"/>
                    </a:lnTo>
                    <a:lnTo>
                      <a:pt x="1315" y="1226"/>
                    </a:lnTo>
                    <a:lnTo>
                      <a:pt x="1266" y="1297"/>
                    </a:lnTo>
                    <a:lnTo>
                      <a:pt x="1235" y="1354"/>
                    </a:lnTo>
                    <a:lnTo>
                      <a:pt x="1200" y="1385"/>
                    </a:lnTo>
                    <a:lnTo>
                      <a:pt x="1187" y="1248"/>
                    </a:lnTo>
                    <a:lnTo>
                      <a:pt x="1196" y="1120"/>
                    </a:lnTo>
                    <a:lnTo>
                      <a:pt x="1200" y="987"/>
                    </a:lnTo>
                    <a:lnTo>
                      <a:pt x="1200" y="859"/>
                    </a:lnTo>
                    <a:lnTo>
                      <a:pt x="1235" y="780"/>
                    </a:lnTo>
                    <a:lnTo>
                      <a:pt x="1235" y="723"/>
                    </a:lnTo>
                    <a:lnTo>
                      <a:pt x="1235" y="643"/>
                    </a:lnTo>
                    <a:lnTo>
                      <a:pt x="1240" y="586"/>
                    </a:lnTo>
                    <a:lnTo>
                      <a:pt x="1240" y="542"/>
                    </a:lnTo>
                    <a:lnTo>
                      <a:pt x="1257" y="498"/>
                    </a:lnTo>
                    <a:lnTo>
                      <a:pt x="1279" y="458"/>
                    </a:lnTo>
                    <a:lnTo>
                      <a:pt x="1306" y="427"/>
                    </a:lnTo>
                    <a:lnTo>
                      <a:pt x="1315" y="414"/>
                    </a:lnTo>
                    <a:lnTo>
                      <a:pt x="1328" y="405"/>
                    </a:lnTo>
                    <a:lnTo>
                      <a:pt x="1337" y="379"/>
                    </a:lnTo>
                    <a:lnTo>
                      <a:pt x="1354" y="366"/>
                    </a:lnTo>
                    <a:lnTo>
                      <a:pt x="1359" y="366"/>
                    </a:lnTo>
                    <a:lnTo>
                      <a:pt x="1398" y="348"/>
                    </a:lnTo>
                    <a:lnTo>
                      <a:pt x="1425" y="339"/>
                    </a:lnTo>
                    <a:lnTo>
                      <a:pt x="1447" y="339"/>
                    </a:lnTo>
                    <a:lnTo>
                      <a:pt x="1473" y="326"/>
                    </a:lnTo>
                    <a:lnTo>
                      <a:pt x="1487" y="326"/>
                    </a:lnTo>
                    <a:lnTo>
                      <a:pt x="1495" y="317"/>
                    </a:lnTo>
                    <a:lnTo>
                      <a:pt x="1522" y="295"/>
                    </a:lnTo>
                    <a:lnTo>
                      <a:pt x="1522" y="277"/>
                    </a:lnTo>
                    <a:lnTo>
                      <a:pt x="1487" y="220"/>
                    </a:lnTo>
                    <a:lnTo>
                      <a:pt x="1487" y="207"/>
                    </a:lnTo>
                    <a:lnTo>
                      <a:pt x="1487" y="189"/>
                    </a:lnTo>
                    <a:lnTo>
                      <a:pt x="1487" y="180"/>
                    </a:lnTo>
                    <a:lnTo>
                      <a:pt x="1473" y="180"/>
                    </a:lnTo>
                    <a:lnTo>
                      <a:pt x="1473" y="167"/>
                    </a:lnTo>
                    <a:lnTo>
                      <a:pt x="1447" y="132"/>
                    </a:lnTo>
                    <a:lnTo>
                      <a:pt x="1416" y="92"/>
                    </a:lnTo>
                    <a:lnTo>
                      <a:pt x="1398" y="48"/>
                    </a:lnTo>
                    <a:lnTo>
                      <a:pt x="1394" y="0"/>
                    </a:lnTo>
                    <a:lnTo>
                      <a:pt x="1099" y="180"/>
                    </a:lnTo>
                    <a:lnTo>
                      <a:pt x="829" y="414"/>
                    </a:lnTo>
                    <a:lnTo>
                      <a:pt x="586" y="665"/>
                    </a:lnTo>
                    <a:lnTo>
                      <a:pt x="388" y="961"/>
                    </a:lnTo>
                    <a:lnTo>
                      <a:pt x="220" y="1275"/>
                    </a:lnTo>
                    <a:lnTo>
                      <a:pt x="92" y="1614"/>
                    </a:lnTo>
                    <a:lnTo>
                      <a:pt x="22" y="1967"/>
                    </a:lnTo>
                    <a:lnTo>
                      <a:pt x="0" y="2338"/>
                    </a:lnTo>
                    <a:lnTo>
                      <a:pt x="22" y="2682"/>
                    </a:lnTo>
                    <a:lnTo>
                      <a:pt x="88" y="2999"/>
                    </a:lnTo>
                    <a:lnTo>
                      <a:pt x="198" y="3312"/>
                    </a:lnTo>
                    <a:lnTo>
                      <a:pt x="326" y="3613"/>
                    </a:lnTo>
                    <a:lnTo>
                      <a:pt x="502" y="3878"/>
                    </a:lnTo>
                    <a:lnTo>
                      <a:pt x="705" y="4138"/>
                    </a:lnTo>
                    <a:lnTo>
                      <a:pt x="948" y="4354"/>
                    </a:lnTo>
                    <a:lnTo>
                      <a:pt x="1200" y="4552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03360" y="3695760"/>
                <a:ext cx="1306800" cy="1908360"/>
              </a:xfrm>
              <a:custGeom>
                <a:avLst/>
                <a:gdLst/>
                <a:ahLst/>
                <a:rect l="0" t="0" r="r" b="b"/>
                <a:pathLst>
                  <a:path w="3630" h="5301">
                    <a:moveTo>
                      <a:pt x="3542" y="3246"/>
                    </a:moveTo>
                    <a:lnTo>
                      <a:pt x="3559" y="3193"/>
                    </a:lnTo>
                    <a:lnTo>
                      <a:pt x="3564" y="3145"/>
                    </a:lnTo>
                    <a:lnTo>
                      <a:pt x="3581" y="3096"/>
                    </a:lnTo>
                    <a:lnTo>
                      <a:pt x="3590" y="3048"/>
                    </a:lnTo>
                    <a:lnTo>
                      <a:pt x="3542" y="3048"/>
                    </a:lnTo>
                    <a:lnTo>
                      <a:pt x="3511" y="3034"/>
                    </a:lnTo>
                    <a:lnTo>
                      <a:pt x="3453" y="3026"/>
                    </a:lnTo>
                    <a:lnTo>
                      <a:pt x="3422" y="2999"/>
                    </a:lnTo>
                    <a:lnTo>
                      <a:pt x="3396" y="2977"/>
                    </a:lnTo>
                    <a:lnTo>
                      <a:pt x="3383" y="2937"/>
                    </a:lnTo>
                    <a:lnTo>
                      <a:pt x="3356" y="2915"/>
                    </a:lnTo>
                    <a:lnTo>
                      <a:pt x="3352" y="2889"/>
                    </a:lnTo>
                    <a:lnTo>
                      <a:pt x="3334" y="2827"/>
                    </a:lnTo>
                    <a:lnTo>
                      <a:pt x="3334" y="2752"/>
                    </a:lnTo>
                    <a:lnTo>
                      <a:pt x="3352" y="2690"/>
                    </a:lnTo>
                    <a:lnTo>
                      <a:pt x="3383" y="2641"/>
                    </a:lnTo>
                    <a:lnTo>
                      <a:pt x="3444" y="2632"/>
                    </a:lnTo>
                    <a:lnTo>
                      <a:pt x="3493" y="2641"/>
                    </a:lnTo>
                    <a:lnTo>
                      <a:pt x="3542" y="2682"/>
                    </a:lnTo>
                    <a:lnTo>
                      <a:pt x="3581" y="2712"/>
                    </a:lnTo>
                    <a:lnTo>
                      <a:pt x="3612" y="2770"/>
                    </a:lnTo>
                    <a:lnTo>
                      <a:pt x="3630" y="2730"/>
                    </a:lnTo>
                    <a:lnTo>
                      <a:pt x="3630" y="2690"/>
                    </a:lnTo>
                    <a:lnTo>
                      <a:pt x="3630" y="2668"/>
                    </a:lnTo>
                    <a:lnTo>
                      <a:pt x="3630" y="2632"/>
                    </a:lnTo>
                    <a:lnTo>
                      <a:pt x="3612" y="2420"/>
                    </a:lnTo>
                    <a:lnTo>
                      <a:pt x="3590" y="2213"/>
                    </a:lnTo>
                    <a:lnTo>
                      <a:pt x="3559" y="2006"/>
                    </a:lnTo>
                    <a:lnTo>
                      <a:pt x="3493" y="1812"/>
                    </a:lnTo>
                    <a:lnTo>
                      <a:pt x="3422" y="1613"/>
                    </a:lnTo>
                    <a:lnTo>
                      <a:pt x="3334" y="1433"/>
                    </a:lnTo>
                    <a:lnTo>
                      <a:pt x="3237" y="1256"/>
                    </a:lnTo>
                    <a:lnTo>
                      <a:pt x="3127" y="1089"/>
                    </a:lnTo>
                    <a:lnTo>
                      <a:pt x="3109" y="1089"/>
                    </a:lnTo>
                    <a:lnTo>
                      <a:pt x="3096" y="1075"/>
                    </a:lnTo>
                    <a:lnTo>
                      <a:pt x="3078" y="1075"/>
                    </a:lnTo>
                    <a:lnTo>
                      <a:pt x="3056" y="1067"/>
                    </a:lnTo>
                    <a:lnTo>
                      <a:pt x="2986" y="1115"/>
                    </a:lnTo>
                    <a:lnTo>
                      <a:pt x="2946" y="1120"/>
                    </a:lnTo>
                    <a:lnTo>
                      <a:pt x="2911" y="1137"/>
                    </a:lnTo>
                    <a:lnTo>
                      <a:pt x="2871" y="1155"/>
                    </a:lnTo>
                    <a:lnTo>
                      <a:pt x="2832" y="1164"/>
                    </a:lnTo>
                    <a:lnTo>
                      <a:pt x="2783" y="1177"/>
                    </a:lnTo>
                    <a:lnTo>
                      <a:pt x="2730" y="1203"/>
                    </a:lnTo>
                    <a:lnTo>
                      <a:pt x="2673" y="1225"/>
                    </a:lnTo>
                    <a:lnTo>
                      <a:pt x="2620" y="1247"/>
                    </a:lnTo>
                    <a:lnTo>
                      <a:pt x="2571" y="1256"/>
                    </a:lnTo>
                    <a:lnTo>
                      <a:pt x="2532" y="1274"/>
                    </a:lnTo>
                    <a:lnTo>
                      <a:pt x="2501" y="1283"/>
                    </a:lnTo>
                    <a:lnTo>
                      <a:pt x="2457" y="1274"/>
                    </a:lnTo>
                    <a:lnTo>
                      <a:pt x="2443" y="1256"/>
                    </a:lnTo>
                    <a:lnTo>
                      <a:pt x="2417" y="1234"/>
                    </a:lnTo>
                    <a:lnTo>
                      <a:pt x="2413" y="1225"/>
                    </a:lnTo>
                    <a:lnTo>
                      <a:pt x="2395" y="1203"/>
                    </a:lnTo>
                    <a:lnTo>
                      <a:pt x="2364" y="1137"/>
                    </a:lnTo>
                    <a:lnTo>
                      <a:pt x="2346" y="1075"/>
                    </a:lnTo>
                    <a:lnTo>
                      <a:pt x="2346" y="1018"/>
                    </a:lnTo>
                    <a:lnTo>
                      <a:pt x="2338" y="956"/>
                    </a:lnTo>
                    <a:lnTo>
                      <a:pt x="2346" y="890"/>
                    </a:lnTo>
                    <a:lnTo>
                      <a:pt x="2386" y="837"/>
                    </a:lnTo>
                    <a:lnTo>
                      <a:pt x="2435" y="780"/>
                    </a:lnTo>
                    <a:lnTo>
                      <a:pt x="2483" y="749"/>
                    </a:lnTo>
                    <a:lnTo>
                      <a:pt x="2532" y="701"/>
                    </a:lnTo>
                    <a:lnTo>
                      <a:pt x="2571" y="643"/>
                    </a:lnTo>
                    <a:lnTo>
                      <a:pt x="2593" y="590"/>
                    </a:lnTo>
                    <a:lnTo>
                      <a:pt x="2593" y="524"/>
                    </a:lnTo>
                    <a:lnTo>
                      <a:pt x="2505" y="463"/>
                    </a:lnTo>
                    <a:lnTo>
                      <a:pt x="2435" y="405"/>
                    </a:lnTo>
                    <a:lnTo>
                      <a:pt x="2346" y="357"/>
                    </a:lnTo>
                    <a:lnTo>
                      <a:pt x="2258" y="308"/>
                    </a:lnTo>
                    <a:lnTo>
                      <a:pt x="2166" y="255"/>
                    </a:lnTo>
                    <a:lnTo>
                      <a:pt x="2077" y="207"/>
                    </a:lnTo>
                    <a:lnTo>
                      <a:pt x="1980" y="167"/>
                    </a:lnTo>
                    <a:lnTo>
                      <a:pt x="1888" y="136"/>
                    </a:lnTo>
                    <a:lnTo>
                      <a:pt x="1950" y="198"/>
                    </a:lnTo>
                    <a:lnTo>
                      <a:pt x="2007" y="246"/>
                    </a:lnTo>
                    <a:lnTo>
                      <a:pt x="2051" y="277"/>
                    </a:lnTo>
                    <a:lnTo>
                      <a:pt x="2135" y="326"/>
                    </a:lnTo>
                    <a:lnTo>
                      <a:pt x="2139" y="388"/>
                    </a:lnTo>
                    <a:lnTo>
                      <a:pt x="2135" y="463"/>
                    </a:lnTo>
                    <a:lnTo>
                      <a:pt x="2108" y="542"/>
                    </a:lnTo>
                    <a:lnTo>
                      <a:pt x="2108" y="595"/>
                    </a:lnTo>
                    <a:lnTo>
                      <a:pt x="2135" y="661"/>
                    </a:lnTo>
                    <a:lnTo>
                      <a:pt x="2135" y="683"/>
                    </a:lnTo>
                    <a:lnTo>
                      <a:pt x="2117" y="709"/>
                    </a:lnTo>
                    <a:lnTo>
                      <a:pt x="2091" y="732"/>
                    </a:lnTo>
                    <a:lnTo>
                      <a:pt x="2069" y="749"/>
                    </a:lnTo>
                    <a:lnTo>
                      <a:pt x="2051" y="771"/>
                    </a:lnTo>
                    <a:lnTo>
                      <a:pt x="2051" y="793"/>
                    </a:lnTo>
                    <a:lnTo>
                      <a:pt x="2051" y="837"/>
                    </a:lnTo>
                    <a:lnTo>
                      <a:pt x="2047" y="859"/>
                    </a:lnTo>
                    <a:lnTo>
                      <a:pt x="2029" y="868"/>
                    </a:lnTo>
                    <a:lnTo>
                      <a:pt x="2020" y="881"/>
                    </a:lnTo>
                    <a:lnTo>
                      <a:pt x="2007" y="881"/>
                    </a:lnTo>
                    <a:lnTo>
                      <a:pt x="1998" y="881"/>
                    </a:lnTo>
                    <a:lnTo>
                      <a:pt x="1972" y="868"/>
                    </a:lnTo>
                    <a:lnTo>
                      <a:pt x="1950" y="881"/>
                    </a:lnTo>
                    <a:lnTo>
                      <a:pt x="1910" y="890"/>
                    </a:lnTo>
                    <a:lnTo>
                      <a:pt x="1888" y="890"/>
                    </a:lnTo>
                    <a:lnTo>
                      <a:pt x="1870" y="881"/>
                    </a:lnTo>
                    <a:lnTo>
                      <a:pt x="1870" y="868"/>
                    </a:lnTo>
                    <a:lnTo>
                      <a:pt x="1861" y="859"/>
                    </a:lnTo>
                    <a:lnTo>
                      <a:pt x="1848" y="723"/>
                    </a:lnTo>
                    <a:lnTo>
                      <a:pt x="1812" y="701"/>
                    </a:lnTo>
                    <a:lnTo>
                      <a:pt x="1790" y="661"/>
                    </a:lnTo>
                    <a:lnTo>
                      <a:pt x="1750" y="621"/>
                    </a:lnTo>
                    <a:lnTo>
                      <a:pt x="1719" y="590"/>
                    </a:lnTo>
                    <a:lnTo>
                      <a:pt x="1702" y="551"/>
                    </a:lnTo>
                    <a:lnTo>
                      <a:pt x="1693" y="515"/>
                    </a:lnTo>
                    <a:lnTo>
                      <a:pt x="1680" y="476"/>
                    </a:lnTo>
                    <a:lnTo>
                      <a:pt x="1693" y="454"/>
                    </a:lnTo>
                    <a:lnTo>
                      <a:pt x="1702" y="436"/>
                    </a:lnTo>
                    <a:lnTo>
                      <a:pt x="1719" y="436"/>
                    </a:lnTo>
                    <a:lnTo>
                      <a:pt x="1719" y="427"/>
                    </a:lnTo>
                    <a:lnTo>
                      <a:pt x="1724" y="427"/>
                    </a:lnTo>
                    <a:lnTo>
                      <a:pt x="1750" y="454"/>
                    </a:lnTo>
                    <a:lnTo>
                      <a:pt x="1790" y="476"/>
                    </a:lnTo>
                    <a:lnTo>
                      <a:pt x="1822" y="485"/>
                    </a:lnTo>
                    <a:lnTo>
                      <a:pt x="1861" y="485"/>
                    </a:lnTo>
                    <a:lnTo>
                      <a:pt x="1870" y="485"/>
                    </a:lnTo>
                    <a:lnTo>
                      <a:pt x="1870" y="476"/>
                    </a:lnTo>
                    <a:lnTo>
                      <a:pt x="1870" y="317"/>
                    </a:lnTo>
                    <a:lnTo>
                      <a:pt x="1812" y="246"/>
                    </a:lnTo>
                    <a:lnTo>
                      <a:pt x="1741" y="185"/>
                    </a:lnTo>
                    <a:lnTo>
                      <a:pt x="1662" y="119"/>
                    </a:lnTo>
                    <a:lnTo>
                      <a:pt x="1605" y="39"/>
                    </a:lnTo>
                    <a:lnTo>
                      <a:pt x="1543" y="22"/>
                    </a:lnTo>
                    <a:lnTo>
                      <a:pt x="1494" y="8"/>
                    </a:lnTo>
                    <a:lnTo>
                      <a:pt x="1433" y="0"/>
                    </a:lnTo>
                    <a:lnTo>
                      <a:pt x="1375" y="0"/>
                    </a:lnTo>
                    <a:lnTo>
                      <a:pt x="1358" y="0"/>
                    </a:lnTo>
                    <a:lnTo>
                      <a:pt x="1358" y="8"/>
                    </a:lnTo>
                    <a:lnTo>
                      <a:pt x="1358" y="22"/>
                    </a:lnTo>
                    <a:lnTo>
                      <a:pt x="1353" y="39"/>
                    </a:lnTo>
                    <a:lnTo>
                      <a:pt x="1274" y="61"/>
                    </a:lnTo>
                    <a:lnTo>
                      <a:pt x="1239" y="119"/>
                    </a:lnTo>
                    <a:lnTo>
                      <a:pt x="1217" y="185"/>
                    </a:lnTo>
                    <a:lnTo>
                      <a:pt x="1168" y="246"/>
                    </a:lnTo>
                    <a:lnTo>
                      <a:pt x="1146" y="246"/>
                    </a:lnTo>
                    <a:lnTo>
                      <a:pt x="1128" y="246"/>
                    </a:lnTo>
                    <a:lnTo>
                      <a:pt x="1106" y="246"/>
                    </a:lnTo>
                    <a:lnTo>
                      <a:pt x="1098" y="255"/>
                    </a:lnTo>
                    <a:lnTo>
                      <a:pt x="1058" y="317"/>
                    </a:lnTo>
                    <a:lnTo>
                      <a:pt x="1018" y="383"/>
                    </a:lnTo>
                    <a:lnTo>
                      <a:pt x="987" y="436"/>
                    </a:lnTo>
                    <a:lnTo>
                      <a:pt x="939" y="485"/>
                    </a:lnTo>
                    <a:lnTo>
                      <a:pt x="921" y="485"/>
                    </a:lnTo>
                    <a:lnTo>
                      <a:pt x="921" y="502"/>
                    </a:lnTo>
                    <a:lnTo>
                      <a:pt x="811" y="612"/>
                    </a:lnTo>
                    <a:lnTo>
                      <a:pt x="811" y="621"/>
                    </a:lnTo>
                    <a:lnTo>
                      <a:pt x="859" y="643"/>
                    </a:lnTo>
                    <a:lnTo>
                      <a:pt x="921" y="661"/>
                    </a:lnTo>
                    <a:lnTo>
                      <a:pt x="987" y="674"/>
                    </a:lnTo>
                    <a:lnTo>
                      <a:pt x="1031" y="674"/>
                    </a:lnTo>
                    <a:lnTo>
                      <a:pt x="1040" y="683"/>
                    </a:lnTo>
                    <a:lnTo>
                      <a:pt x="1058" y="683"/>
                    </a:lnTo>
                    <a:lnTo>
                      <a:pt x="1058" y="701"/>
                    </a:lnTo>
                    <a:lnTo>
                      <a:pt x="1067" y="709"/>
                    </a:lnTo>
                    <a:lnTo>
                      <a:pt x="1058" y="723"/>
                    </a:lnTo>
                    <a:lnTo>
                      <a:pt x="1031" y="732"/>
                    </a:lnTo>
                    <a:lnTo>
                      <a:pt x="1018" y="749"/>
                    </a:lnTo>
                    <a:lnTo>
                      <a:pt x="992" y="754"/>
                    </a:lnTo>
                    <a:lnTo>
                      <a:pt x="970" y="793"/>
                    </a:lnTo>
                    <a:lnTo>
                      <a:pt x="948" y="859"/>
                    </a:lnTo>
                    <a:lnTo>
                      <a:pt x="921" y="917"/>
                    </a:lnTo>
                    <a:lnTo>
                      <a:pt x="921" y="978"/>
                    </a:lnTo>
                    <a:lnTo>
                      <a:pt x="939" y="1001"/>
                    </a:lnTo>
                    <a:lnTo>
                      <a:pt x="948" y="1001"/>
                    </a:lnTo>
                    <a:lnTo>
                      <a:pt x="939" y="1018"/>
                    </a:lnTo>
                    <a:lnTo>
                      <a:pt x="921" y="1049"/>
                    </a:lnTo>
                    <a:lnTo>
                      <a:pt x="939" y="1067"/>
                    </a:lnTo>
                    <a:lnTo>
                      <a:pt x="948" y="1075"/>
                    </a:lnTo>
                    <a:lnTo>
                      <a:pt x="1018" y="1027"/>
                    </a:lnTo>
                    <a:lnTo>
                      <a:pt x="1146" y="1018"/>
                    </a:lnTo>
                    <a:lnTo>
                      <a:pt x="1146" y="1001"/>
                    </a:lnTo>
                    <a:lnTo>
                      <a:pt x="1155" y="996"/>
                    </a:lnTo>
                    <a:lnTo>
                      <a:pt x="1168" y="996"/>
                    </a:lnTo>
                    <a:lnTo>
                      <a:pt x="1177" y="978"/>
                    </a:lnTo>
                    <a:lnTo>
                      <a:pt x="1177" y="881"/>
                    </a:lnTo>
                    <a:lnTo>
                      <a:pt x="1274" y="683"/>
                    </a:lnTo>
                    <a:lnTo>
                      <a:pt x="1287" y="683"/>
                    </a:lnTo>
                    <a:lnTo>
                      <a:pt x="1336" y="749"/>
                    </a:lnTo>
                    <a:lnTo>
                      <a:pt x="1375" y="793"/>
                    </a:lnTo>
                    <a:lnTo>
                      <a:pt x="1424" y="859"/>
                    </a:lnTo>
                    <a:lnTo>
                      <a:pt x="1481" y="908"/>
                    </a:lnTo>
                    <a:lnTo>
                      <a:pt x="1512" y="930"/>
                    </a:lnTo>
                    <a:lnTo>
                      <a:pt x="1521" y="956"/>
                    </a:lnTo>
                    <a:lnTo>
                      <a:pt x="1543" y="996"/>
                    </a:lnTo>
                    <a:lnTo>
                      <a:pt x="1561" y="1018"/>
                    </a:lnTo>
                    <a:lnTo>
                      <a:pt x="1561" y="1075"/>
                    </a:lnTo>
                    <a:lnTo>
                      <a:pt x="1561" y="1137"/>
                    </a:lnTo>
                    <a:lnTo>
                      <a:pt x="1583" y="1203"/>
                    </a:lnTo>
                    <a:lnTo>
                      <a:pt x="1605" y="1247"/>
                    </a:lnTo>
                    <a:lnTo>
                      <a:pt x="1613" y="1256"/>
                    </a:lnTo>
                    <a:lnTo>
                      <a:pt x="1631" y="1274"/>
                    </a:lnTo>
                    <a:lnTo>
                      <a:pt x="1640" y="1283"/>
                    </a:lnTo>
                    <a:lnTo>
                      <a:pt x="1653" y="1296"/>
                    </a:lnTo>
                    <a:lnTo>
                      <a:pt x="1653" y="1314"/>
                    </a:lnTo>
                    <a:lnTo>
                      <a:pt x="1640" y="1322"/>
                    </a:lnTo>
                    <a:lnTo>
                      <a:pt x="1640" y="1344"/>
                    </a:lnTo>
                    <a:lnTo>
                      <a:pt x="1631" y="1362"/>
                    </a:lnTo>
                    <a:lnTo>
                      <a:pt x="1583" y="1344"/>
                    </a:lnTo>
                    <a:lnTo>
                      <a:pt x="1534" y="1296"/>
                    </a:lnTo>
                    <a:lnTo>
                      <a:pt x="1481" y="1256"/>
                    </a:lnTo>
                    <a:lnTo>
                      <a:pt x="1424" y="1247"/>
                    </a:lnTo>
                    <a:lnTo>
                      <a:pt x="1384" y="1274"/>
                    </a:lnTo>
                    <a:lnTo>
                      <a:pt x="1358" y="1296"/>
                    </a:lnTo>
                    <a:lnTo>
                      <a:pt x="1318" y="1322"/>
                    </a:lnTo>
                    <a:lnTo>
                      <a:pt x="1305" y="1344"/>
                    </a:lnTo>
                    <a:lnTo>
                      <a:pt x="1314" y="1362"/>
                    </a:lnTo>
                    <a:lnTo>
                      <a:pt x="1318" y="1367"/>
                    </a:lnTo>
                    <a:lnTo>
                      <a:pt x="1318" y="1384"/>
                    </a:lnTo>
                    <a:lnTo>
                      <a:pt x="1336" y="1384"/>
                    </a:lnTo>
                    <a:lnTo>
                      <a:pt x="1375" y="1384"/>
                    </a:lnTo>
                    <a:lnTo>
                      <a:pt x="1397" y="1393"/>
                    </a:lnTo>
                    <a:lnTo>
                      <a:pt x="1406" y="1415"/>
                    </a:lnTo>
                    <a:lnTo>
                      <a:pt x="1424" y="1455"/>
                    </a:lnTo>
                    <a:lnTo>
                      <a:pt x="1406" y="1472"/>
                    </a:lnTo>
                    <a:lnTo>
                      <a:pt x="1397" y="1494"/>
                    </a:lnTo>
                    <a:lnTo>
                      <a:pt x="1146" y="1441"/>
                    </a:lnTo>
                    <a:lnTo>
                      <a:pt x="1146" y="1472"/>
                    </a:lnTo>
                    <a:lnTo>
                      <a:pt x="1146" y="1494"/>
                    </a:lnTo>
                    <a:lnTo>
                      <a:pt x="1146" y="1521"/>
                    </a:lnTo>
                    <a:lnTo>
                      <a:pt x="1128" y="1530"/>
                    </a:lnTo>
                    <a:lnTo>
                      <a:pt x="1106" y="1569"/>
                    </a:lnTo>
                    <a:lnTo>
                      <a:pt x="1098" y="1574"/>
                    </a:lnTo>
                    <a:lnTo>
                      <a:pt x="1067" y="1613"/>
                    </a:lnTo>
                    <a:lnTo>
                      <a:pt x="992" y="1733"/>
                    </a:lnTo>
                    <a:lnTo>
                      <a:pt x="833" y="1812"/>
                    </a:lnTo>
                    <a:lnTo>
                      <a:pt x="829" y="1821"/>
                    </a:lnTo>
                    <a:lnTo>
                      <a:pt x="811" y="1847"/>
                    </a:lnTo>
                    <a:lnTo>
                      <a:pt x="811" y="1869"/>
                    </a:lnTo>
                    <a:lnTo>
                      <a:pt x="811" y="1896"/>
                    </a:lnTo>
                    <a:lnTo>
                      <a:pt x="811" y="1935"/>
                    </a:lnTo>
                    <a:lnTo>
                      <a:pt x="811" y="1997"/>
                    </a:lnTo>
                    <a:lnTo>
                      <a:pt x="811" y="2068"/>
                    </a:lnTo>
                    <a:lnTo>
                      <a:pt x="811" y="2107"/>
                    </a:lnTo>
                    <a:lnTo>
                      <a:pt x="762" y="2107"/>
                    </a:lnTo>
                    <a:lnTo>
                      <a:pt x="723" y="2094"/>
                    </a:lnTo>
                    <a:lnTo>
                      <a:pt x="692" y="2068"/>
                    </a:lnTo>
                    <a:lnTo>
                      <a:pt x="665" y="2046"/>
                    </a:lnTo>
                    <a:lnTo>
                      <a:pt x="665" y="1979"/>
                    </a:lnTo>
                    <a:lnTo>
                      <a:pt x="652" y="1918"/>
                    </a:lnTo>
                    <a:lnTo>
                      <a:pt x="621" y="1869"/>
                    </a:lnTo>
                    <a:lnTo>
                      <a:pt x="573" y="1821"/>
                    </a:lnTo>
                    <a:lnTo>
                      <a:pt x="515" y="1838"/>
                    </a:lnTo>
                    <a:lnTo>
                      <a:pt x="485" y="1838"/>
                    </a:lnTo>
                    <a:lnTo>
                      <a:pt x="445" y="1821"/>
                    </a:lnTo>
                    <a:lnTo>
                      <a:pt x="414" y="1799"/>
                    </a:lnTo>
                    <a:lnTo>
                      <a:pt x="366" y="1772"/>
                    </a:lnTo>
                    <a:lnTo>
                      <a:pt x="317" y="1750"/>
                    </a:lnTo>
                    <a:lnTo>
                      <a:pt x="260" y="1733"/>
                    </a:lnTo>
                    <a:lnTo>
                      <a:pt x="216" y="1728"/>
                    </a:lnTo>
                    <a:lnTo>
                      <a:pt x="167" y="1772"/>
                    </a:lnTo>
                    <a:lnTo>
                      <a:pt x="92" y="1869"/>
                    </a:lnTo>
                    <a:lnTo>
                      <a:pt x="22" y="1975"/>
                    </a:lnTo>
                    <a:lnTo>
                      <a:pt x="0" y="2006"/>
                    </a:lnTo>
                    <a:lnTo>
                      <a:pt x="92" y="2094"/>
                    </a:lnTo>
                    <a:lnTo>
                      <a:pt x="110" y="2275"/>
                    </a:lnTo>
                    <a:lnTo>
                      <a:pt x="127" y="2275"/>
                    </a:lnTo>
                    <a:lnTo>
                      <a:pt x="167" y="2262"/>
                    </a:lnTo>
                    <a:lnTo>
                      <a:pt x="189" y="2253"/>
                    </a:lnTo>
                    <a:lnTo>
                      <a:pt x="216" y="2226"/>
                    </a:lnTo>
                    <a:lnTo>
                      <a:pt x="238" y="2187"/>
                    </a:lnTo>
                    <a:lnTo>
                      <a:pt x="255" y="2165"/>
                    </a:lnTo>
                    <a:lnTo>
                      <a:pt x="277" y="2138"/>
                    </a:lnTo>
                    <a:lnTo>
                      <a:pt x="317" y="2116"/>
                    </a:lnTo>
                    <a:lnTo>
                      <a:pt x="326" y="2116"/>
                    </a:lnTo>
                    <a:lnTo>
                      <a:pt x="326" y="2134"/>
                    </a:lnTo>
                    <a:lnTo>
                      <a:pt x="326" y="2138"/>
                    </a:lnTo>
                    <a:lnTo>
                      <a:pt x="277" y="2372"/>
                    </a:lnTo>
                    <a:lnTo>
                      <a:pt x="348" y="2451"/>
                    </a:lnTo>
                    <a:lnTo>
                      <a:pt x="339" y="2500"/>
                    </a:lnTo>
                    <a:lnTo>
                      <a:pt x="299" y="2531"/>
                    </a:lnTo>
                    <a:lnTo>
                      <a:pt x="260" y="2570"/>
                    </a:lnTo>
                    <a:lnTo>
                      <a:pt x="238" y="2632"/>
                    </a:lnTo>
                    <a:lnTo>
                      <a:pt x="238" y="2682"/>
                    </a:lnTo>
                    <a:lnTo>
                      <a:pt x="277" y="2730"/>
                    </a:lnTo>
                    <a:lnTo>
                      <a:pt x="326" y="2779"/>
                    </a:lnTo>
                    <a:lnTo>
                      <a:pt x="388" y="2827"/>
                    </a:lnTo>
                    <a:lnTo>
                      <a:pt x="445" y="2849"/>
                    </a:lnTo>
                    <a:lnTo>
                      <a:pt x="502" y="2849"/>
                    </a:lnTo>
                    <a:lnTo>
                      <a:pt x="546" y="2840"/>
                    </a:lnTo>
                    <a:lnTo>
                      <a:pt x="582" y="2827"/>
                    </a:lnTo>
                    <a:lnTo>
                      <a:pt x="621" y="2801"/>
                    </a:lnTo>
                    <a:lnTo>
                      <a:pt x="652" y="2801"/>
                    </a:lnTo>
                    <a:lnTo>
                      <a:pt x="674" y="2818"/>
                    </a:lnTo>
                    <a:lnTo>
                      <a:pt x="705" y="2827"/>
                    </a:lnTo>
                    <a:lnTo>
                      <a:pt x="740" y="2840"/>
                    </a:lnTo>
                    <a:lnTo>
                      <a:pt x="811" y="2876"/>
                    </a:lnTo>
                    <a:lnTo>
                      <a:pt x="859" y="2915"/>
                    </a:lnTo>
                    <a:lnTo>
                      <a:pt x="921" y="2955"/>
                    </a:lnTo>
                    <a:lnTo>
                      <a:pt x="970" y="2986"/>
                    </a:lnTo>
                    <a:lnTo>
                      <a:pt x="992" y="3048"/>
                    </a:lnTo>
                    <a:lnTo>
                      <a:pt x="1009" y="3114"/>
                    </a:lnTo>
                    <a:lnTo>
                      <a:pt x="1018" y="3184"/>
                    </a:lnTo>
                    <a:lnTo>
                      <a:pt x="1031" y="3255"/>
                    </a:lnTo>
                    <a:lnTo>
                      <a:pt x="1098" y="3281"/>
                    </a:lnTo>
                    <a:lnTo>
                      <a:pt x="1155" y="3303"/>
                    </a:lnTo>
                    <a:lnTo>
                      <a:pt x="1217" y="3343"/>
                    </a:lnTo>
                    <a:lnTo>
                      <a:pt x="1265" y="3405"/>
                    </a:lnTo>
                    <a:lnTo>
                      <a:pt x="1314" y="3528"/>
                    </a:lnTo>
                    <a:lnTo>
                      <a:pt x="1358" y="3661"/>
                    </a:lnTo>
                    <a:lnTo>
                      <a:pt x="1406" y="3797"/>
                    </a:lnTo>
                    <a:lnTo>
                      <a:pt x="1472" y="3908"/>
                    </a:lnTo>
                    <a:lnTo>
                      <a:pt x="1543" y="3987"/>
                    </a:lnTo>
                    <a:lnTo>
                      <a:pt x="1613" y="4075"/>
                    </a:lnTo>
                    <a:lnTo>
                      <a:pt x="1680" y="4163"/>
                    </a:lnTo>
                    <a:lnTo>
                      <a:pt x="1741" y="4260"/>
                    </a:lnTo>
                    <a:lnTo>
                      <a:pt x="1750" y="4322"/>
                    </a:lnTo>
                    <a:lnTo>
                      <a:pt x="1750" y="4379"/>
                    </a:lnTo>
                    <a:lnTo>
                      <a:pt x="1724" y="4441"/>
                    </a:lnTo>
                    <a:lnTo>
                      <a:pt x="1680" y="4490"/>
                    </a:lnTo>
                    <a:lnTo>
                      <a:pt x="1605" y="4507"/>
                    </a:lnTo>
                    <a:lnTo>
                      <a:pt x="1534" y="4529"/>
                    </a:lnTo>
                    <a:lnTo>
                      <a:pt x="1472" y="4551"/>
                    </a:lnTo>
                    <a:lnTo>
                      <a:pt x="1406" y="4578"/>
                    </a:lnTo>
                    <a:lnTo>
                      <a:pt x="1353" y="4600"/>
                    </a:lnTo>
                    <a:lnTo>
                      <a:pt x="1287" y="4640"/>
                    </a:lnTo>
                    <a:lnTo>
                      <a:pt x="1225" y="4688"/>
                    </a:lnTo>
                    <a:lnTo>
                      <a:pt x="1155" y="4737"/>
                    </a:lnTo>
                    <a:lnTo>
                      <a:pt x="1098" y="4776"/>
                    </a:lnTo>
                    <a:lnTo>
                      <a:pt x="1018" y="4807"/>
                    </a:lnTo>
                    <a:lnTo>
                      <a:pt x="948" y="4825"/>
                    </a:lnTo>
                    <a:lnTo>
                      <a:pt x="873" y="4847"/>
                    </a:lnTo>
                    <a:lnTo>
                      <a:pt x="802" y="4873"/>
                    </a:lnTo>
                    <a:lnTo>
                      <a:pt x="723" y="4895"/>
                    </a:lnTo>
                    <a:lnTo>
                      <a:pt x="665" y="4935"/>
                    </a:lnTo>
                    <a:lnTo>
                      <a:pt x="621" y="4992"/>
                    </a:lnTo>
                    <a:lnTo>
                      <a:pt x="546" y="5054"/>
                    </a:lnTo>
                    <a:lnTo>
                      <a:pt x="467" y="5116"/>
                    </a:lnTo>
                    <a:lnTo>
                      <a:pt x="388" y="5164"/>
                    </a:lnTo>
                    <a:lnTo>
                      <a:pt x="299" y="5204"/>
                    </a:lnTo>
                    <a:lnTo>
                      <a:pt x="388" y="5230"/>
                    </a:lnTo>
                    <a:lnTo>
                      <a:pt x="467" y="5239"/>
                    </a:lnTo>
                    <a:lnTo>
                      <a:pt x="546" y="5261"/>
                    </a:lnTo>
                    <a:lnTo>
                      <a:pt x="626" y="5279"/>
                    </a:lnTo>
                    <a:lnTo>
                      <a:pt x="714" y="5283"/>
                    </a:lnTo>
                    <a:lnTo>
                      <a:pt x="802" y="5283"/>
                    </a:lnTo>
                    <a:lnTo>
                      <a:pt x="881" y="5301"/>
                    </a:lnTo>
                    <a:lnTo>
                      <a:pt x="970" y="5301"/>
                    </a:lnTo>
                    <a:lnTo>
                      <a:pt x="1111" y="5301"/>
                    </a:lnTo>
                    <a:lnTo>
                      <a:pt x="1265" y="5283"/>
                    </a:lnTo>
                    <a:lnTo>
                      <a:pt x="1406" y="5261"/>
                    </a:lnTo>
                    <a:lnTo>
                      <a:pt x="1561" y="5230"/>
                    </a:lnTo>
                    <a:lnTo>
                      <a:pt x="1702" y="5191"/>
                    </a:lnTo>
                    <a:lnTo>
                      <a:pt x="1839" y="5151"/>
                    </a:lnTo>
                    <a:lnTo>
                      <a:pt x="1972" y="5094"/>
                    </a:lnTo>
                    <a:lnTo>
                      <a:pt x="2108" y="5032"/>
                    </a:lnTo>
                    <a:lnTo>
                      <a:pt x="2227" y="4966"/>
                    </a:lnTo>
                    <a:lnTo>
                      <a:pt x="2364" y="4895"/>
                    </a:lnTo>
                    <a:lnTo>
                      <a:pt x="2466" y="4825"/>
                    </a:lnTo>
                    <a:lnTo>
                      <a:pt x="2593" y="4737"/>
                    </a:lnTo>
                    <a:lnTo>
                      <a:pt x="2704" y="4640"/>
                    </a:lnTo>
                    <a:lnTo>
                      <a:pt x="2809" y="4538"/>
                    </a:lnTo>
                    <a:lnTo>
                      <a:pt x="2911" y="4441"/>
                    </a:lnTo>
                    <a:lnTo>
                      <a:pt x="3008" y="4331"/>
                    </a:lnTo>
                    <a:lnTo>
                      <a:pt x="2937" y="4260"/>
                    </a:lnTo>
                    <a:lnTo>
                      <a:pt x="2849" y="4212"/>
                    </a:lnTo>
                    <a:lnTo>
                      <a:pt x="2761" y="4146"/>
                    </a:lnTo>
                    <a:lnTo>
                      <a:pt x="2690" y="4097"/>
                    </a:lnTo>
                    <a:lnTo>
                      <a:pt x="2602" y="4066"/>
                    </a:lnTo>
                    <a:lnTo>
                      <a:pt x="2532" y="4044"/>
                    </a:lnTo>
                    <a:lnTo>
                      <a:pt x="2457" y="3987"/>
                    </a:lnTo>
                    <a:lnTo>
                      <a:pt x="2413" y="3938"/>
                    </a:lnTo>
                    <a:lnTo>
                      <a:pt x="2413" y="3934"/>
                    </a:lnTo>
                    <a:lnTo>
                      <a:pt x="2413" y="3916"/>
                    </a:lnTo>
                    <a:lnTo>
                      <a:pt x="2395" y="3916"/>
                    </a:lnTo>
                    <a:lnTo>
                      <a:pt x="2395" y="3908"/>
                    </a:lnTo>
                    <a:lnTo>
                      <a:pt x="2395" y="3855"/>
                    </a:lnTo>
                    <a:lnTo>
                      <a:pt x="2413" y="3806"/>
                    </a:lnTo>
                    <a:lnTo>
                      <a:pt x="2413" y="3771"/>
                    </a:lnTo>
                    <a:lnTo>
                      <a:pt x="2417" y="3727"/>
                    </a:lnTo>
                    <a:lnTo>
                      <a:pt x="2457" y="3612"/>
                    </a:lnTo>
                    <a:lnTo>
                      <a:pt x="2501" y="3489"/>
                    </a:lnTo>
                    <a:lnTo>
                      <a:pt x="2554" y="3392"/>
                    </a:lnTo>
                    <a:lnTo>
                      <a:pt x="2651" y="3321"/>
                    </a:lnTo>
                    <a:lnTo>
                      <a:pt x="2704" y="3303"/>
                    </a:lnTo>
                    <a:lnTo>
                      <a:pt x="2752" y="3281"/>
                    </a:lnTo>
                    <a:lnTo>
                      <a:pt x="2783" y="3273"/>
                    </a:lnTo>
                    <a:lnTo>
                      <a:pt x="2832" y="3255"/>
                    </a:lnTo>
                    <a:lnTo>
                      <a:pt x="2889" y="3255"/>
                    </a:lnTo>
                    <a:lnTo>
                      <a:pt x="2937" y="3246"/>
                    </a:lnTo>
                    <a:lnTo>
                      <a:pt x="2968" y="3215"/>
                    </a:lnTo>
                    <a:lnTo>
                      <a:pt x="3017" y="3206"/>
                    </a:lnTo>
                    <a:lnTo>
                      <a:pt x="3065" y="3206"/>
                    </a:lnTo>
                    <a:lnTo>
                      <a:pt x="3105" y="3184"/>
                    </a:lnTo>
                    <a:lnTo>
                      <a:pt x="3153" y="3167"/>
                    </a:lnTo>
                    <a:lnTo>
                      <a:pt x="3198" y="3145"/>
                    </a:lnTo>
                    <a:lnTo>
                      <a:pt x="3246" y="3136"/>
                    </a:lnTo>
                    <a:lnTo>
                      <a:pt x="3303" y="3118"/>
                    </a:lnTo>
                    <a:lnTo>
                      <a:pt x="3352" y="3118"/>
                    </a:lnTo>
                    <a:lnTo>
                      <a:pt x="3396" y="3136"/>
                    </a:lnTo>
                    <a:lnTo>
                      <a:pt x="3422" y="3162"/>
                    </a:lnTo>
                    <a:lnTo>
                      <a:pt x="3453" y="3184"/>
                    </a:lnTo>
                    <a:lnTo>
                      <a:pt x="3493" y="3215"/>
                    </a:lnTo>
                    <a:lnTo>
                      <a:pt x="3542" y="3246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43120" y="4500720"/>
                <a:ext cx="98640" cy="114840"/>
              </a:xfrm>
              <a:custGeom>
                <a:avLst/>
                <a:gdLst/>
                <a:ahLst/>
                <a:rect l="0" t="0" r="r" b="b"/>
                <a:pathLst>
                  <a:path w="274" h="319">
                    <a:moveTo>
                      <a:pt x="186" y="288"/>
                    </a:moveTo>
                    <a:lnTo>
                      <a:pt x="256" y="319"/>
                    </a:lnTo>
                    <a:lnTo>
                      <a:pt x="274" y="319"/>
                    </a:lnTo>
                    <a:lnTo>
                      <a:pt x="274" y="297"/>
                    </a:lnTo>
                    <a:lnTo>
                      <a:pt x="256" y="288"/>
                    </a:lnTo>
                    <a:lnTo>
                      <a:pt x="256" y="275"/>
                    </a:lnTo>
                    <a:lnTo>
                      <a:pt x="195" y="248"/>
                    </a:lnTo>
                    <a:lnTo>
                      <a:pt x="164" y="199"/>
                    </a:lnTo>
                    <a:lnTo>
                      <a:pt x="136" y="150"/>
                    </a:lnTo>
                    <a:lnTo>
                      <a:pt x="114" y="89"/>
                    </a:lnTo>
                    <a:lnTo>
                      <a:pt x="39" y="0"/>
                    </a:lnTo>
                    <a:lnTo>
                      <a:pt x="26" y="17"/>
                    </a:lnTo>
                    <a:lnTo>
                      <a:pt x="8" y="39"/>
                    </a:lnTo>
                    <a:lnTo>
                      <a:pt x="0" y="48"/>
                    </a:lnTo>
                    <a:lnTo>
                      <a:pt x="0" y="79"/>
                    </a:lnTo>
                    <a:lnTo>
                      <a:pt x="0" y="89"/>
                    </a:lnTo>
                    <a:lnTo>
                      <a:pt x="39" y="137"/>
                    </a:lnTo>
                    <a:lnTo>
                      <a:pt x="88" y="199"/>
                    </a:lnTo>
                    <a:lnTo>
                      <a:pt x="136" y="248"/>
                    </a:lnTo>
                    <a:lnTo>
                      <a:pt x="186" y="288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1" name=""/>
          <p:cNvSpPr txBox="1"/>
          <p:nvPr/>
        </p:nvSpPr>
        <p:spPr>
          <a:xfrm>
            <a:off x="762120" y="190512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LionNetin histo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2057400" y="4114800"/>
            <a:ext cx="6705720" cy="11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Lionit kansainvälisinä sillanrakentaj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257800" y="5638680"/>
            <a:ext cx="3565440" cy="87012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238880" y="533520"/>
            <a:ext cx="1384200" cy="10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83808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LionNet-historia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85800" y="1676520"/>
            <a:ext cx="8001000" cy="473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199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tammikuu: Suomesta Internetin 5. lions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palvelum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huhtikuu: LionNet Finland aloit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esäkuu: ensiesittely Kokkolan VK:s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elokuu: kansainvälisen LionNet-verkon al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83808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LionNet-historia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1676520"/>
            <a:ext cx="8153280" cy="5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199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esäkuu: Haminan VK maail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ensimmäisenä lions-kokouksena Internetiss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elokuu: Suomen LionNet-työryhmä aloit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syyskuu: Suomen lionien sähköposti aloit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marraskuu: LionNet International aloit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83808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LionNet-historia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85800" y="1676520"/>
            <a:ext cx="838188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1997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maaliskuu: KVN vakinaistaa Suom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LionNet-työryhmän osaksi tiedotustoimikunt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huhtikuu: Suomen piirit nimeävät 1. Internet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toimikuntapuheenjohtaj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toukokuu: järjestelmällinen Internet-koulut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aloitet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83808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LionNet-historia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685800" y="1676520"/>
            <a:ext cx="8381880" cy="41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1997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toukokuu: Sun lahjoittaa LionNetille o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palvelinkon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esäkuu: Porin VK:ssa näyttävä LionNet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esiintymi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syyskuu: Europa Forum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ionNet-työryhmä</dc:creator>
  <dc:description/>
  <dc:language>en-US</dc:language>
  <cp:lastModifiedBy>Ilkka Siissalo</cp:lastModifiedBy>
  <cp:revision>0</cp:revision>
  <dc:subject/>
  <dc:title>LionNet-esittely</dc:title>
</cp:coreProperties>
</file>