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39.xml" ContentType="application/vnd.openxmlformats-officedocument.presentationml.notesSlide+xml"/>
  <Override PartName="/ppt/notesSlides/notesSlide87.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127.xml" ContentType="application/vnd.openxmlformats-officedocument.presentationml.notesSlide+xml"/>
  <Override PartName="/ppt/notesSlides/_rels/notesSlide2.xml.rels" ContentType="application/vnd.openxmlformats-package.relationships+xml"/>
  <Override PartName="/ppt/notesSlides/_rels/notesSlide129.xml.rels" ContentType="application/vnd.openxmlformats-package.relationships+xml"/>
  <Override PartName="/ppt/notesSlides/_rels/notesSlide133.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139.xml.rels" ContentType="application/vnd.openxmlformats-package.relationships+xml"/>
  <Override PartName="/ppt/notesSlides/_rels/notesSlide10.xml.rels" ContentType="application/vnd.openxmlformats-package.relationships+xml"/>
  <Override PartName="/ppt/notesSlides/_rels/notesSlide147.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5.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0.xml.rels" ContentType="application/vnd.openxmlformats-package.relationships+xml"/>
  <Override PartName="/ppt/notesSlides/_rels/notesSlide132.xml.rels" ContentType="application/vnd.openxmlformats-package.relationships+xml"/>
  <Override PartName="/ppt/notesSlides/_rels/notesSlide76.xml.rels" ContentType="application/vnd.openxmlformats-package.relationships+xml"/>
  <Override PartName="/ppt/notesSlides/_rels/notesSlide1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27.xml.rels" ContentType="application/vnd.openxmlformats-package.relationships+xml"/>
  <Override PartName="/ppt/notesSlides/_rels/notesSlide42.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96.xml.rels" ContentType="application/vnd.openxmlformats-package.relationships+xml"/>
  <Override PartName="/ppt/notesSlides/_rels/notesSlide90.xml.rels" ContentType="application/vnd.openxmlformats-package.relationships+xml"/>
  <Override PartName="/ppt/notesSlides/_rels/notesSlide102.xml.rels" ContentType="application/vnd.openxmlformats-package.relationships+xml"/>
  <Override PartName="/ppt/notesSlides/_rels/notesSlide89.xml.rels" ContentType="application/vnd.openxmlformats-package.relationships+xml"/>
  <Override PartName="/ppt/notesSlides/_rels/notesSlide52.xml.rels" ContentType="application/vnd.openxmlformats-package.relationships+xml"/>
  <Override PartName="/ppt/notesSlides/_rels/notesSlide83.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113.xml.rels" ContentType="application/vnd.openxmlformats-package.relationships+xml"/>
  <Override PartName="/ppt/notesSlides/_rels/notesSlide106.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8.xml.rels" ContentType="application/vnd.openxmlformats-package.relationships+xml"/>
  <Override PartName="/ppt/notesSlides/_rels/notesSlide141.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119.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20.xml.rels" ContentType="application/vnd.openxmlformats-package.relationships+xml"/>
  <Override PartName="/ppt/notesSlides/_rels/notesSlide116.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1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6.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32.xml.rels" ContentType="application/vnd.openxmlformats-package.relationships+xml"/>
  <Override PartName="/ppt/notesSlides/notesSlide64.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0.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144.xml" ContentType="application/vnd.openxmlformats-officedocument.presentationml.notesSlide+xml"/>
  <Override PartName="/ppt/notesSlides/notesSlide45.xml" ContentType="application/vnd.openxmlformats-officedocument.presentationml.notesSlide+xml"/>
  <Override PartName="/ppt/notesSlides/notesSlide18.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9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3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37.xml" ContentType="application/vnd.openxmlformats-officedocument.presentationml.notesSlide+xml"/>
  <Override PartName="/ppt/notesSlides/notesSlide130.xml" ContentType="application/vnd.openxmlformats-officedocument.presentationml.notesSlide+xml"/>
  <Override PartName="/ppt/notesSlides/notesSlide119.xml" ContentType="application/vnd.openxmlformats-officedocument.presentationml.notesSlide+xml"/>
  <Override PartName="/ppt/notesSlides/notesSlide121.xml" ContentType="application/vnd.openxmlformats-officedocument.presentationml.notesSlide+xml"/>
  <Override PartName="/ppt/notesSlides/notesSlide116.xml" ContentType="application/vnd.openxmlformats-officedocument.presentationml.notesSlide+xml"/>
  <Override PartName="/ppt/notesSlides/notesSlide11.xml" ContentType="application/vnd.openxmlformats-officedocument.presentationml.notesSlide+xml"/>
  <Override PartName="/ppt/notesSlides/notesSlide83.xml" ContentType="application/vnd.openxmlformats-officedocument.presentationml.notesSlide+xml"/>
  <Override PartName="/ppt/notesSlides/notesSlide133.xml" ContentType="application/vnd.openxmlformats-officedocument.presentationml.notesSlide+xml"/>
  <Override PartName="/ppt/notesSlides/notesSlide115.xml" ContentType="application/vnd.openxmlformats-officedocument.presentationml.notesSlide+xml"/>
  <Override PartName="/ppt/notesSlides/notesSlide96.xml" ContentType="application/vnd.openxmlformats-officedocument.presentationml.notesSlide+xml"/>
  <Override PartName="/ppt/notesSlides/notesSlide148.xml" ContentType="application/vnd.openxmlformats-officedocument.presentationml.notesSlide+xml"/>
  <Override PartName="/ppt/notesSlides/notesSlide113.xml" ContentType="application/vnd.openxmlformats-officedocument.presentationml.notesSlide+xml"/>
  <Override PartName="/ppt/notesSlides/notesSlide106.xml" ContentType="application/vnd.openxmlformats-officedocument.presentationml.notesSlide+xml"/>
  <Override PartName="/ppt/notesSlides/notesSlide91.xml" ContentType="application/vnd.openxmlformats-officedocument.presentationml.notesSlide+xml"/>
  <Override PartName="/ppt/notesSlides/notesSlide141.xml" ContentType="application/vnd.openxmlformats-officedocument.presentationml.notesSlide+xml"/>
  <Override PartName="/ppt/notesSlides/notesSlide82.xml" ContentType="application/vnd.openxmlformats-officedocument.presentationml.notesSlide+xml"/>
  <Override PartName="/ppt/notesSlides/notesSlide132.xml" ContentType="application/vnd.openxmlformats-officedocument.presentationml.notesSlide+xml"/>
  <Override PartName="/ppt/notesSlides/notesSlide32.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0.xml" ContentType="application/vnd.openxmlformats-officedocument.presentationml.notesSlide+xml"/>
  <Override PartName="/ppt/notesSlides/notesSlide129.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149.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E27AC-1285-43C5-86FA-7297E436ED3F}"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1092240" y="685800"/>
            <a:ext cx="4673520" cy="3505320"/>
          </a:xfrm>
          <a:prstGeom prst="rect">
            <a:avLst/>
          </a:prstGeom>
          <a:ln w="0">
            <a:noFill/>
          </a:ln>
        </p:spPr>
      </p:sp>
      <p:sp>
        <p:nvSpPr>
          <p:cNvPr id="102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1092240" y="685800"/>
            <a:ext cx="4673520" cy="3505320"/>
          </a:xfrm>
          <a:prstGeom prst="rect">
            <a:avLst/>
          </a:prstGeom>
          <a:ln w="0">
            <a:noFill/>
          </a:ln>
        </p:spPr>
      </p:sp>
      <p:sp>
        <p:nvSpPr>
          <p:cNvPr id="11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sldImg"/>
          </p:nvPr>
        </p:nvSpPr>
        <p:spPr>
          <a:xfrm>
            <a:off x="1092240" y="685800"/>
            <a:ext cx="4673520" cy="3505320"/>
          </a:xfrm>
          <a:prstGeom prst="rect">
            <a:avLst/>
          </a:prstGeom>
          <a:ln w="0">
            <a:noFill/>
          </a:ln>
        </p:spPr>
      </p:sp>
      <p:sp>
        <p:nvSpPr>
          <p:cNvPr id="113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092240" y="685800"/>
            <a:ext cx="4673520" cy="3505320"/>
          </a:xfrm>
          <a:prstGeom prst="rect">
            <a:avLst/>
          </a:prstGeom>
          <a:ln w="0">
            <a:noFill/>
          </a:ln>
        </p:spPr>
      </p:sp>
      <p:sp>
        <p:nvSpPr>
          <p:cNvPr id="11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1069920" y="703440"/>
            <a:ext cx="4692600" cy="3519360"/>
          </a:xfrm>
          <a:prstGeom prst="rect">
            <a:avLst/>
          </a:prstGeom>
          <a:ln w="0">
            <a:noFill/>
          </a:ln>
        </p:spPr>
      </p:sp>
      <p:sp>
        <p:nvSpPr>
          <p:cNvPr id="113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092240" y="685800"/>
            <a:ext cx="4673520" cy="3505320"/>
          </a:xfrm>
          <a:prstGeom prst="rect">
            <a:avLst/>
          </a:prstGeom>
          <a:ln w="0">
            <a:noFill/>
          </a:ln>
        </p:spPr>
      </p:sp>
      <p:sp>
        <p:nvSpPr>
          <p:cNvPr id="102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092240" y="685800"/>
            <a:ext cx="4673520" cy="3505320"/>
          </a:xfrm>
          <a:prstGeom prst="rect">
            <a:avLst/>
          </a:prstGeom>
          <a:ln w="0">
            <a:noFill/>
          </a:ln>
        </p:spPr>
      </p:sp>
      <p:sp>
        <p:nvSpPr>
          <p:cNvPr id="11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092240" y="685800"/>
            <a:ext cx="4673520" cy="3505320"/>
          </a:xfrm>
          <a:prstGeom prst="rect">
            <a:avLst/>
          </a:prstGeom>
          <a:ln w="0">
            <a:noFill/>
          </a:ln>
        </p:spPr>
      </p:sp>
      <p:sp>
        <p:nvSpPr>
          <p:cNvPr id="11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092240" y="685800"/>
            <a:ext cx="4673520" cy="3505320"/>
          </a:xfrm>
          <a:prstGeom prst="rect">
            <a:avLst/>
          </a:prstGeom>
          <a:ln w="0">
            <a:noFill/>
          </a:ln>
        </p:spPr>
      </p:sp>
      <p:sp>
        <p:nvSpPr>
          <p:cNvPr id="11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069920" y="703440"/>
            <a:ext cx="4692600" cy="3519360"/>
          </a:xfrm>
          <a:prstGeom prst="rect">
            <a:avLst/>
          </a:prstGeom>
          <a:ln w="0">
            <a:noFill/>
          </a:ln>
        </p:spPr>
      </p:sp>
      <p:sp>
        <p:nvSpPr>
          <p:cNvPr id="1145"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066680" y="685800"/>
            <a:ext cx="4687920" cy="3516480"/>
          </a:xfrm>
          <a:prstGeom prst="rect">
            <a:avLst/>
          </a:prstGeom>
          <a:ln w="0">
            <a:noFill/>
          </a:ln>
        </p:spPr>
      </p:sp>
      <p:sp>
        <p:nvSpPr>
          <p:cNvPr id="1147"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073160" y="704880"/>
            <a:ext cx="4687920" cy="3516120"/>
          </a:xfrm>
          <a:prstGeom prst="rect">
            <a:avLst/>
          </a:prstGeom>
          <a:ln w="0">
            <a:noFill/>
          </a:ln>
        </p:spPr>
      </p:sp>
      <p:sp>
        <p:nvSpPr>
          <p:cNvPr id="1149"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1157400" y="700200"/>
            <a:ext cx="4599000" cy="3449520"/>
          </a:xfrm>
          <a:prstGeom prst="rect">
            <a:avLst/>
          </a:prstGeom>
          <a:ln w="0">
            <a:noFill/>
          </a:ln>
        </p:spPr>
      </p:sp>
      <p:sp>
        <p:nvSpPr>
          <p:cNvPr id="1151"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092240" y="685800"/>
            <a:ext cx="4673520" cy="3505320"/>
          </a:xfrm>
          <a:prstGeom prst="rect">
            <a:avLst/>
          </a:prstGeom>
          <a:ln w="0">
            <a:noFill/>
          </a:ln>
        </p:spPr>
      </p:sp>
      <p:sp>
        <p:nvSpPr>
          <p:cNvPr id="11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092240" y="685800"/>
            <a:ext cx="4673520" cy="3505320"/>
          </a:xfrm>
          <a:prstGeom prst="rect">
            <a:avLst/>
          </a:prstGeom>
          <a:ln w="0">
            <a:noFill/>
          </a:ln>
        </p:spPr>
      </p:sp>
      <p:sp>
        <p:nvSpPr>
          <p:cNvPr id="11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092240" y="685800"/>
            <a:ext cx="4673520" cy="3505320"/>
          </a:xfrm>
          <a:prstGeom prst="rect">
            <a:avLst/>
          </a:prstGeom>
          <a:ln w="0">
            <a:noFill/>
          </a:ln>
        </p:spPr>
      </p:sp>
      <p:sp>
        <p:nvSpPr>
          <p:cNvPr id="11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092240" y="685800"/>
            <a:ext cx="4673520" cy="3505320"/>
          </a:xfrm>
          <a:prstGeom prst="rect">
            <a:avLst/>
          </a:prstGeom>
          <a:ln w="0">
            <a:noFill/>
          </a:ln>
        </p:spPr>
      </p:sp>
      <p:sp>
        <p:nvSpPr>
          <p:cNvPr id="11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092240" y="685800"/>
            <a:ext cx="4673520" cy="3505320"/>
          </a:xfrm>
          <a:prstGeom prst="rect">
            <a:avLst/>
          </a:prstGeom>
          <a:ln w="0">
            <a:noFill/>
          </a:ln>
        </p:spPr>
      </p:sp>
      <p:sp>
        <p:nvSpPr>
          <p:cNvPr id="11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092240" y="685800"/>
            <a:ext cx="4673520" cy="3505320"/>
          </a:xfrm>
          <a:prstGeom prst="rect">
            <a:avLst/>
          </a:prstGeom>
          <a:ln w="0">
            <a:noFill/>
          </a:ln>
        </p:spPr>
      </p:sp>
      <p:sp>
        <p:nvSpPr>
          <p:cNvPr id="11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092240" y="685800"/>
            <a:ext cx="4673520" cy="3505320"/>
          </a:xfrm>
          <a:prstGeom prst="rect">
            <a:avLst/>
          </a:prstGeom>
          <a:ln w="0">
            <a:noFill/>
          </a:ln>
        </p:spPr>
      </p:sp>
      <p:sp>
        <p:nvSpPr>
          <p:cNvPr id="11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092240" y="685800"/>
            <a:ext cx="4673520" cy="3505320"/>
          </a:xfrm>
          <a:prstGeom prst="rect">
            <a:avLst/>
          </a:prstGeom>
          <a:ln w="0">
            <a:noFill/>
          </a:ln>
        </p:spPr>
      </p:sp>
      <p:sp>
        <p:nvSpPr>
          <p:cNvPr id="11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092240" y="685800"/>
            <a:ext cx="4673520" cy="3505320"/>
          </a:xfrm>
          <a:prstGeom prst="rect">
            <a:avLst/>
          </a:prstGeom>
          <a:ln w="0">
            <a:noFill/>
          </a:ln>
        </p:spPr>
      </p:sp>
      <p:sp>
        <p:nvSpPr>
          <p:cNvPr id="116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092240" y="685800"/>
            <a:ext cx="4673520" cy="3505320"/>
          </a:xfrm>
          <a:prstGeom prst="rect">
            <a:avLst/>
          </a:prstGeom>
          <a:ln w="0">
            <a:noFill/>
          </a:ln>
        </p:spPr>
      </p:sp>
      <p:sp>
        <p:nvSpPr>
          <p:cNvPr id="11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092240" y="685800"/>
            <a:ext cx="4673520" cy="3505320"/>
          </a:xfrm>
          <a:prstGeom prst="rect">
            <a:avLst/>
          </a:prstGeom>
          <a:ln w="0">
            <a:noFill/>
          </a:ln>
        </p:spPr>
      </p:sp>
      <p:sp>
        <p:nvSpPr>
          <p:cNvPr id="11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092240" y="685800"/>
            <a:ext cx="4673520" cy="3505320"/>
          </a:xfrm>
          <a:prstGeom prst="rect">
            <a:avLst/>
          </a:prstGeom>
          <a:ln w="0">
            <a:noFill/>
          </a:ln>
        </p:spPr>
      </p:sp>
      <p:sp>
        <p:nvSpPr>
          <p:cNvPr id="11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1092240" y="685800"/>
            <a:ext cx="4673520" cy="3505320"/>
          </a:xfrm>
          <a:prstGeom prst="rect">
            <a:avLst/>
          </a:prstGeom>
          <a:ln w="0">
            <a:noFill/>
          </a:ln>
        </p:spPr>
      </p:sp>
      <p:sp>
        <p:nvSpPr>
          <p:cNvPr id="10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069920" y="703440"/>
            <a:ext cx="4692600" cy="3519360"/>
          </a:xfrm>
          <a:prstGeom prst="rect">
            <a:avLst/>
          </a:prstGeom>
          <a:ln w="0">
            <a:noFill/>
          </a:ln>
        </p:spPr>
      </p:sp>
      <p:sp>
        <p:nvSpPr>
          <p:cNvPr id="1033"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092240" y="685800"/>
            <a:ext cx="4673520" cy="3505320"/>
          </a:xfrm>
          <a:prstGeom prst="rect">
            <a:avLst/>
          </a:prstGeom>
          <a:ln w="0">
            <a:noFill/>
          </a:ln>
        </p:spPr>
      </p:sp>
      <p:sp>
        <p:nvSpPr>
          <p:cNvPr id="10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069920" y="703440"/>
            <a:ext cx="4692600" cy="3519360"/>
          </a:xfrm>
          <a:prstGeom prst="rect">
            <a:avLst/>
          </a:prstGeom>
          <a:ln w="0">
            <a:noFill/>
          </a:ln>
        </p:spPr>
      </p:sp>
      <p:sp>
        <p:nvSpPr>
          <p:cNvPr id="101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092240" y="685800"/>
            <a:ext cx="4673520" cy="3505320"/>
          </a:xfrm>
          <a:prstGeom prst="rect">
            <a:avLst/>
          </a:prstGeom>
          <a:ln w="0">
            <a:noFill/>
          </a:ln>
        </p:spPr>
      </p:sp>
      <p:sp>
        <p:nvSpPr>
          <p:cNvPr id="103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092240" y="685800"/>
            <a:ext cx="4673520" cy="3505320"/>
          </a:xfrm>
          <a:prstGeom prst="rect">
            <a:avLst/>
          </a:prstGeom>
          <a:ln w="0">
            <a:noFill/>
          </a:ln>
        </p:spPr>
      </p:sp>
      <p:sp>
        <p:nvSpPr>
          <p:cNvPr id="10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092240" y="685800"/>
            <a:ext cx="4673520" cy="3505320"/>
          </a:xfrm>
          <a:prstGeom prst="rect">
            <a:avLst/>
          </a:prstGeom>
          <a:ln w="0">
            <a:noFill/>
          </a:ln>
        </p:spPr>
      </p:sp>
      <p:sp>
        <p:nvSpPr>
          <p:cNvPr id="10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092240" y="685800"/>
            <a:ext cx="4673520" cy="3505320"/>
          </a:xfrm>
          <a:prstGeom prst="rect">
            <a:avLst/>
          </a:prstGeom>
          <a:ln w="0">
            <a:noFill/>
          </a:ln>
        </p:spPr>
      </p:sp>
      <p:sp>
        <p:nvSpPr>
          <p:cNvPr id="10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092240" y="685800"/>
            <a:ext cx="4673520" cy="3505320"/>
          </a:xfrm>
          <a:prstGeom prst="rect">
            <a:avLst/>
          </a:prstGeom>
          <a:ln w="0">
            <a:noFill/>
          </a:ln>
        </p:spPr>
      </p:sp>
      <p:sp>
        <p:nvSpPr>
          <p:cNvPr id="104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092240" y="685800"/>
            <a:ext cx="4673520" cy="3505320"/>
          </a:xfrm>
          <a:prstGeom prst="rect">
            <a:avLst/>
          </a:prstGeom>
          <a:ln w="0">
            <a:noFill/>
          </a:ln>
        </p:spPr>
      </p:sp>
      <p:sp>
        <p:nvSpPr>
          <p:cNvPr id="104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092240" y="685800"/>
            <a:ext cx="4673520" cy="3505320"/>
          </a:xfrm>
          <a:prstGeom prst="rect">
            <a:avLst/>
          </a:prstGeom>
          <a:ln w="0">
            <a:noFill/>
          </a:ln>
        </p:spPr>
      </p:sp>
      <p:sp>
        <p:nvSpPr>
          <p:cNvPr id="104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066680" y="685800"/>
            <a:ext cx="4692600" cy="3519360"/>
          </a:xfrm>
          <a:prstGeom prst="rect">
            <a:avLst/>
          </a:prstGeom>
          <a:ln w="0">
            <a:noFill/>
          </a:ln>
        </p:spPr>
      </p:sp>
      <p:sp>
        <p:nvSpPr>
          <p:cNvPr id="1051"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092240" y="685800"/>
            <a:ext cx="4673520" cy="3505320"/>
          </a:xfrm>
          <a:prstGeom prst="rect">
            <a:avLst/>
          </a:prstGeom>
          <a:ln w="0">
            <a:noFill/>
          </a:ln>
        </p:spPr>
      </p:sp>
      <p:sp>
        <p:nvSpPr>
          <p:cNvPr id="101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092240" y="685800"/>
            <a:ext cx="4673520" cy="3505320"/>
          </a:xfrm>
          <a:prstGeom prst="rect">
            <a:avLst/>
          </a:prstGeom>
          <a:ln w="0">
            <a:noFill/>
          </a:ln>
        </p:spPr>
      </p:sp>
      <p:sp>
        <p:nvSpPr>
          <p:cNvPr id="10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092240" y="685800"/>
            <a:ext cx="4673520" cy="3505320"/>
          </a:xfrm>
          <a:prstGeom prst="rect">
            <a:avLst/>
          </a:prstGeom>
          <a:ln w="0">
            <a:noFill/>
          </a:ln>
        </p:spPr>
      </p:sp>
      <p:sp>
        <p:nvSpPr>
          <p:cNvPr id="10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092240" y="685800"/>
            <a:ext cx="4673520" cy="3505320"/>
          </a:xfrm>
          <a:prstGeom prst="rect">
            <a:avLst/>
          </a:prstGeom>
          <a:ln w="0">
            <a:noFill/>
          </a:ln>
        </p:spPr>
      </p:sp>
      <p:sp>
        <p:nvSpPr>
          <p:cNvPr id="10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092240" y="685800"/>
            <a:ext cx="4673520" cy="3505320"/>
          </a:xfrm>
          <a:prstGeom prst="rect">
            <a:avLst/>
          </a:prstGeom>
          <a:ln w="0">
            <a:noFill/>
          </a:ln>
        </p:spPr>
      </p:sp>
      <p:sp>
        <p:nvSpPr>
          <p:cNvPr id="10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092240" y="685800"/>
            <a:ext cx="4673520" cy="3505320"/>
          </a:xfrm>
          <a:prstGeom prst="rect">
            <a:avLst/>
          </a:prstGeom>
          <a:ln w="0">
            <a:noFill/>
          </a:ln>
        </p:spPr>
      </p:sp>
      <p:sp>
        <p:nvSpPr>
          <p:cNvPr id="10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092240" y="685800"/>
            <a:ext cx="4673520" cy="3505320"/>
          </a:xfrm>
          <a:prstGeom prst="rect">
            <a:avLst/>
          </a:prstGeom>
          <a:ln w="0">
            <a:noFill/>
          </a:ln>
        </p:spPr>
      </p:sp>
      <p:sp>
        <p:nvSpPr>
          <p:cNvPr id="10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092240" y="685800"/>
            <a:ext cx="4673520" cy="3505320"/>
          </a:xfrm>
          <a:prstGeom prst="rect">
            <a:avLst/>
          </a:prstGeom>
          <a:ln w="0">
            <a:noFill/>
          </a:ln>
        </p:spPr>
      </p:sp>
      <p:sp>
        <p:nvSpPr>
          <p:cNvPr id="10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092240" y="685800"/>
            <a:ext cx="4673520" cy="3505320"/>
          </a:xfrm>
          <a:prstGeom prst="rect">
            <a:avLst/>
          </a:prstGeom>
          <a:ln w="0">
            <a:noFill/>
          </a:ln>
        </p:spPr>
      </p:sp>
      <p:sp>
        <p:nvSpPr>
          <p:cNvPr id="10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069920" y="703440"/>
            <a:ext cx="4692600" cy="3519360"/>
          </a:xfrm>
          <a:prstGeom prst="rect">
            <a:avLst/>
          </a:prstGeom>
          <a:ln w="0">
            <a:noFill/>
          </a:ln>
        </p:spPr>
      </p:sp>
      <p:sp>
        <p:nvSpPr>
          <p:cNvPr id="1069"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092240" y="685800"/>
            <a:ext cx="4673520" cy="3505320"/>
          </a:xfrm>
          <a:prstGeom prst="rect">
            <a:avLst/>
          </a:prstGeom>
          <a:ln w="0">
            <a:noFill/>
          </a:ln>
        </p:spPr>
      </p:sp>
      <p:sp>
        <p:nvSpPr>
          <p:cNvPr id="10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092240" y="685800"/>
            <a:ext cx="4673520" cy="3505320"/>
          </a:xfrm>
          <a:prstGeom prst="rect">
            <a:avLst/>
          </a:prstGeom>
          <a:ln w="0">
            <a:noFill/>
          </a:ln>
        </p:spPr>
      </p:sp>
      <p:sp>
        <p:nvSpPr>
          <p:cNvPr id="10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092240" y="685800"/>
            <a:ext cx="4673520" cy="3505320"/>
          </a:xfrm>
          <a:prstGeom prst="rect">
            <a:avLst/>
          </a:prstGeom>
          <a:ln w="0">
            <a:noFill/>
          </a:ln>
        </p:spPr>
      </p:sp>
      <p:sp>
        <p:nvSpPr>
          <p:cNvPr id="10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092240" y="685800"/>
            <a:ext cx="4673520" cy="3505320"/>
          </a:xfrm>
          <a:prstGeom prst="rect">
            <a:avLst/>
          </a:prstGeom>
          <a:ln w="0">
            <a:noFill/>
          </a:ln>
        </p:spPr>
      </p:sp>
      <p:sp>
        <p:nvSpPr>
          <p:cNvPr id="107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092240" y="685800"/>
            <a:ext cx="4673520" cy="3505320"/>
          </a:xfrm>
          <a:prstGeom prst="rect">
            <a:avLst/>
          </a:prstGeom>
          <a:ln w="0">
            <a:noFill/>
          </a:ln>
        </p:spPr>
      </p:sp>
      <p:sp>
        <p:nvSpPr>
          <p:cNvPr id="107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092240" y="685800"/>
            <a:ext cx="4673520" cy="3505320"/>
          </a:xfrm>
          <a:prstGeom prst="rect">
            <a:avLst/>
          </a:prstGeom>
          <a:ln w="0">
            <a:noFill/>
          </a:ln>
        </p:spPr>
      </p:sp>
      <p:sp>
        <p:nvSpPr>
          <p:cNvPr id="108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092240" y="685800"/>
            <a:ext cx="4673520" cy="3505320"/>
          </a:xfrm>
          <a:prstGeom prst="rect">
            <a:avLst/>
          </a:prstGeom>
          <a:ln w="0">
            <a:noFill/>
          </a:ln>
        </p:spPr>
      </p:sp>
      <p:sp>
        <p:nvSpPr>
          <p:cNvPr id="108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092240" y="685800"/>
            <a:ext cx="4673520" cy="3505320"/>
          </a:xfrm>
          <a:prstGeom prst="rect">
            <a:avLst/>
          </a:prstGeom>
          <a:ln w="0">
            <a:noFill/>
          </a:ln>
        </p:spPr>
      </p:sp>
      <p:sp>
        <p:nvSpPr>
          <p:cNvPr id="108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092240" y="685800"/>
            <a:ext cx="4673520" cy="3505320"/>
          </a:xfrm>
          <a:prstGeom prst="rect">
            <a:avLst/>
          </a:prstGeom>
          <a:ln w="0">
            <a:noFill/>
          </a:ln>
        </p:spPr>
      </p:sp>
      <p:sp>
        <p:nvSpPr>
          <p:cNvPr id="108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092240" y="685800"/>
            <a:ext cx="4673520" cy="3505320"/>
          </a:xfrm>
          <a:prstGeom prst="rect">
            <a:avLst/>
          </a:prstGeom>
          <a:ln w="0">
            <a:noFill/>
          </a:ln>
        </p:spPr>
      </p:sp>
      <p:sp>
        <p:nvSpPr>
          <p:cNvPr id="108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1092240" y="685800"/>
            <a:ext cx="4673520" cy="3505320"/>
          </a:xfrm>
          <a:prstGeom prst="rect">
            <a:avLst/>
          </a:prstGeom>
          <a:ln w="0">
            <a:noFill/>
          </a:ln>
        </p:spPr>
      </p:sp>
      <p:sp>
        <p:nvSpPr>
          <p:cNvPr id="109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092240" y="685800"/>
            <a:ext cx="4673520" cy="3505320"/>
          </a:xfrm>
          <a:prstGeom prst="rect">
            <a:avLst/>
          </a:prstGeom>
          <a:ln w="0">
            <a:noFill/>
          </a:ln>
        </p:spPr>
      </p:sp>
      <p:sp>
        <p:nvSpPr>
          <p:cNvPr id="10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092240" y="685800"/>
            <a:ext cx="4673520" cy="3505320"/>
          </a:xfrm>
          <a:prstGeom prst="rect">
            <a:avLst/>
          </a:prstGeom>
          <a:ln w="0">
            <a:noFill/>
          </a:ln>
        </p:spPr>
      </p:sp>
      <p:sp>
        <p:nvSpPr>
          <p:cNvPr id="109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1092240" y="685800"/>
            <a:ext cx="4673520" cy="3505320"/>
          </a:xfrm>
          <a:prstGeom prst="rect">
            <a:avLst/>
          </a:prstGeom>
          <a:ln w="0">
            <a:noFill/>
          </a:ln>
        </p:spPr>
      </p:sp>
      <p:sp>
        <p:nvSpPr>
          <p:cNvPr id="109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1092240" y="685800"/>
            <a:ext cx="4673520" cy="3505320"/>
          </a:xfrm>
          <a:prstGeom prst="rect">
            <a:avLst/>
          </a:prstGeom>
          <a:ln w="0">
            <a:noFill/>
          </a:ln>
        </p:spPr>
      </p:sp>
      <p:sp>
        <p:nvSpPr>
          <p:cNvPr id="10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092240" y="685800"/>
            <a:ext cx="4673520" cy="3505320"/>
          </a:xfrm>
          <a:prstGeom prst="rect">
            <a:avLst/>
          </a:prstGeom>
          <a:ln w="0">
            <a:noFill/>
          </a:ln>
        </p:spPr>
      </p:sp>
      <p:sp>
        <p:nvSpPr>
          <p:cNvPr id="109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092240" y="685800"/>
            <a:ext cx="4673520" cy="3505320"/>
          </a:xfrm>
          <a:prstGeom prst="rect">
            <a:avLst/>
          </a:prstGeom>
          <a:ln w="0">
            <a:noFill/>
          </a:ln>
        </p:spPr>
      </p:sp>
      <p:sp>
        <p:nvSpPr>
          <p:cNvPr id="109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092240" y="685800"/>
            <a:ext cx="4673520" cy="3505320"/>
          </a:xfrm>
          <a:prstGeom prst="rect">
            <a:avLst/>
          </a:prstGeom>
          <a:ln w="0">
            <a:noFill/>
          </a:ln>
        </p:spPr>
      </p:sp>
      <p:sp>
        <p:nvSpPr>
          <p:cNvPr id="110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092240" y="685800"/>
            <a:ext cx="4673520" cy="3505320"/>
          </a:xfrm>
          <a:prstGeom prst="rect">
            <a:avLst/>
          </a:prstGeom>
          <a:ln w="0">
            <a:noFill/>
          </a:ln>
        </p:spPr>
      </p:sp>
      <p:sp>
        <p:nvSpPr>
          <p:cNvPr id="110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092240" y="685800"/>
            <a:ext cx="4673520" cy="3505320"/>
          </a:xfrm>
          <a:prstGeom prst="rect">
            <a:avLst/>
          </a:prstGeom>
          <a:ln w="0">
            <a:noFill/>
          </a:ln>
        </p:spPr>
      </p:sp>
      <p:sp>
        <p:nvSpPr>
          <p:cNvPr id="110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092240" y="685800"/>
            <a:ext cx="4673520" cy="3505320"/>
          </a:xfrm>
          <a:prstGeom prst="rect">
            <a:avLst/>
          </a:prstGeom>
          <a:ln w="0">
            <a:noFill/>
          </a:ln>
        </p:spPr>
      </p:sp>
      <p:sp>
        <p:nvSpPr>
          <p:cNvPr id="110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092240" y="685800"/>
            <a:ext cx="4673520" cy="3505320"/>
          </a:xfrm>
          <a:prstGeom prst="rect">
            <a:avLst/>
          </a:prstGeom>
          <a:ln w="0">
            <a:noFill/>
          </a:ln>
        </p:spPr>
      </p:sp>
      <p:sp>
        <p:nvSpPr>
          <p:cNvPr id="110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092240" y="685800"/>
            <a:ext cx="4673520" cy="3505320"/>
          </a:xfrm>
          <a:prstGeom prst="rect">
            <a:avLst/>
          </a:prstGeom>
          <a:ln w="0">
            <a:noFill/>
          </a:ln>
        </p:spPr>
      </p:sp>
      <p:sp>
        <p:nvSpPr>
          <p:cNvPr id="111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092240" y="685800"/>
            <a:ext cx="4673520" cy="3505320"/>
          </a:xfrm>
          <a:prstGeom prst="rect">
            <a:avLst/>
          </a:prstGeom>
          <a:ln w="0">
            <a:noFill/>
          </a:ln>
        </p:spPr>
      </p:sp>
      <p:sp>
        <p:nvSpPr>
          <p:cNvPr id="111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092240" y="685800"/>
            <a:ext cx="4673520" cy="3505320"/>
          </a:xfrm>
          <a:prstGeom prst="rect">
            <a:avLst/>
          </a:prstGeom>
          <a:ln w="0">
            <a:noFill/>
          </a:ln>
        </p:spPr>
      </p:sp>
      <p:sp>
        <p:nvSpPr>
          <p:cNvPr id="111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092240" y="685800"/>
            <a:ext cx="4673520" cy="3505320"/>
          </a:xfrm>
          <a:prstGeom prst="rect">
            <a:avLst/>
          </a:prstGeom>
          <a:ln w="0">
            <a:noFill/>
          </a:ln>
        </p:spPr>
      </p:sp>
      <p:sp>
        <p:nvSpPr>
          <p:cNvPr id="111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1069920" y="703440"/>
            <a:ext cx="4692600" cy="3519360"/>
          </a:xfrm>
          <a:prstGeom prst="rect">
            <a:avLst/>
          </a:prstGeom>
          <a:ln w="0">
            <a:noFill/>
          </a:ln>
        </p:spPr>
      </p:sp>
      <p:sp>
        <p:nvSpPr>
          <p:cNvPr id="1119"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1092240" y="685800"/>
            <a:ext cx="4673520" cy="3505320"/>
          </a:xfrm>
          <a:prstGeom prst="rect">
            <a:avLst/>
          </a:prstGeom>
          <a:ln w="0">
            <a:noFill/>
          </a:ln>
        </p:spPr>
      </p:sp>
      <p:sp>
        <p:nvSpPr>
          <p:cNvPr id="10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sldImg"/>
          </p:nvPr>
        </p:nvSpPr>
        <p:spPr>
          <a:xfrm>
            <a:off x="1092240" y="685800"/>
            <a:ext cx="4673520" cy="3505320"/>
          </a:xfrm>
          <a:prstGeom prst="rect">
            <a:avLst/>
          </a:prstGeom>
          <a:ln w="0">
            <a:noFill/>
          </a:ln>
        </p:spPr>
      </p:sp>
      <p:sp>
        <p:nvSpPr>
          <p:cNvPr id="11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092240" y="685800"/>
            <a:ext cx="4673520" cy="3505320"/>
          </a:xfrm>
          <a:prstGeom prst="rect">
            <a:avLst/>
          </a:prstGeom>
          <a:ln w="0">
            <a:noFill/>
          </a:ln>
        </p:spPr>
      </p:sp>
      <p:sp>
        <p:nvSpPr>
          <p:cNvPr id="11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1092240" y="685800"/>
            <a:ext cx="4673520" cy="3505320"/>
          </a:xfrm>
          <a:prstGeom prst="rect">
            <a:avLst/>
          </a:prstGeom>
          <a:ln w="0">
            <a:noFill/>
          </a:ln>
        </p:spPr>
      </p:sp>
      <p:sp>
        <p:nvSpPr>
          <p:cNvPr id="11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1066680" y="685800"/>
            <a:ext cx="4692600" cy="3519360"/>
          </a:xfrm>
          <a:prstGeom prst="rect">
            <a:avLst/>
          </a:prstGeom>
          <a:ln w="0">
            <a:noFill/>
          </a:ln>
        </p:spPr>
      </p:sp>
      <p:sp>
        <p:nvSpPr>
          <p:cNvPr id="1127"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069920" y="703440"/>
            <a:ext cx="4692600" cy="3519360"/>
          </a:xfrm>
          <a:prstGeom prst="rect">
            <a:avLst/>
          </a:prstGeom>
          <a:ln w="0">
            <a:noFill/>
          </a:ln>
        </p:spPr>
      </p:sp>
      <p:sp>
        <p:nvSpPr>
          <p:cNvPr id="1129"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7CF4C1-9942-4221-B2CB-4DF20B61C90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C49872F5-4194-46B6-B2F9-AF33A42736F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C9E8FAC5-1101-4F68-8B68-9849361CED6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56BB7BF8-D7E4-4DCB-8DA9-805F962EB47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B2C8E67-3424-4F19-92AB-3078530E9FF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C55F1C6C-414E-4F75-A21A-FB5AB0E72DC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1F8DE2A9-E4B1-4E83-A8FC-070746AD041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E49FB5A5-6C5E-4597-B84E-50184ABC8B1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147EC860-4D25-4057-B742-48D28A4E211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F2D32838-E3B7-424F-B276-22312EBB166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AAD3BFA0-D9F8-4E05-AAC5-AC5FAD64089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95F88FD-BBC7-4783-8A3C-441D8CB0A99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63E3287D-5F7B-4930-A3E9-E55B66715B7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D50BDAF7-7878-422F-A7CA-E059CC393D6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BC1535AB-86A5-4D2D-BA39-F8040255FCA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0382A7E2-E40C-4E1B-B117-3C32C9ECE4B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93D680F7-5DDE-4BC1-9475-D53BC7D846C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7B0F873-E75E-4725-901A-2B8378C7627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3DD73722-BA3F-4EFE-B65A-4C67EC0DA4B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5E213120-31CE-4E5B-9DA5-CA59B2FE00A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17A34866-8565-4C7E-BD05-C4B59EF0A5C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A809C1DD-28A8-4DB1-84B5-D00B1F795B4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B5A4992E-BB3A-40DE-B7C2-03AD0A0C718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3BCDA921-662A-4986-9B43-CA55519B776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014D8-887E-4077-8E98-2D38CC94A9DD}"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B3E7A-3A50-499F-B614-383A08570566}"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hyperlink" Target="http://www.gnupg.org/" TargetMode="External"/><Relationship Id="rId10" Type="http://schemas.openxmlformats.org/officeDocument/2006/relationships/hyperlink" Target="http://www.gnupg.org/" TargetMode="External"/><Relationship Id="rId11" Type="http://schemas.openxmlformats.org/officeDocument/2006/relationships/hyperlink" Target="http://www.gnupg.org/" TargetMode="External"/><Relationship Id="rId12"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3.xml"/><Relationship Id="rId6" Type="http://schemas.openxmlformats.org/officeDocument/2006/relationships/slide" Target="slide3.xml"/><Relationship Id="rId7"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file:///first-req-alloc-confirm-mail.html" TargetMode="External"/><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26.xml"/><Relationship Id="rId3" Type="http://schemas.openxmlformats.org/officeDocument/2006/relationships/slide" Target="slide28.xml"/><Relationship Id="rId4" Type="http://schemas.openxmlformats.org/officeDocument/2006/relationships/slide" Target="slide28.xml"/><Relationship Id="rId5" Type="http://schemas.openxmlformats.org/officeDocument/2006/relationships/slide" Target="slide28.xml"/><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3.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6.xml"/><Relationship Id="rId17" Type="http://schemas.openxmlformats.org/officeDocument/2006/relationships/hyperlink" Target="http://www.ripe.net/ripencc/mem-services/general/allocs6.html" TargetMode="External"/><Relationship Id="rId18" Type="http://schemas.openxmlformats.org/officeDocument/2006/relationships/slideLayout" Target="../slideLayouts/slideLayout3.xml"/><Relationship Id="rId19"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hyperlink" Target="file:///New/whois-jan-jansen-person-example.htm" TargetMode="External"/><Relationship Id="rId6" Type="http://schemas.openxmlformats.org/officeDocument/2006/relationships/slideLayout" Target="../slideLayouts/slideLayout3.xml"/><Relationship Id="rId7"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ripe.net/db/" TargetMode="External"/><Relationship Id="rId2" Type="http://schemas.openxmlformats.org/officeDocument/2006/relationships/hyperlink" Target="http://www.ripe.net/db/" TargetMode="External"/><Relationship Id="rId3" Type="http://schemas.openxmlformats.org/officeDocument/2006/relationships/hyperlink" Target="http://www.ripe.net/db/" TargetMode="External"/><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www_ripe_net-cgi-bin-whois.htm" TargetMode="External"/><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IP Tutorial</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21A14B11-6C85-4E12-B83A-FF2A3694CE0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22"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587A9593-1064-4CAA-83CF-288AAD00BE4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23"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24"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25"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EC19CA68-A856-4DC2-B5B7-8DF32FF136E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27"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0E17A0B-E40D-49BD-8A31-79B86E74907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29"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FDF3634-C2AC-4130-8AB0-12D5BE1A13E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31"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32"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33"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35"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4EEF820-00D7-439C-875A-ECB6094E119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37"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98599AD-9075-4DE7-8EA2-42EABB398C4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39"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40"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9275757-1203-4DD8-9A48-321D797A338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42"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3A36294-5227-4ACE-A455-C9188624862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44"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45"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6"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7"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6BE12E1-4D0A-4245-9E1F-C090D4D2B08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50"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51"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80089180-291A-4A4F-AF39-8E96CCBE6A2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53"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718CB61-D5E7-41A7-8508-5CAAF3A841B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24"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25"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26"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27"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28"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29"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421A6146-2785-4B6D-B214-470F9C884EF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55"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B31186B-0460-4CC4-8852-D5E691F3209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57"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90C56A8-7F8F-415A-AC43-0324BC3EA17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59"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398D8A6-D09E-44BD-AFDE-97DF6B1F3C5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6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9DC2B995-D293-4B92-92EB-10E1BBCCA14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763"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542AABEE-EAE8-4024-BCD8-0AB1CCB085A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765"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A8F8924-78B7-480C-B442-5F0BBDFFCD4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767"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00D7E33-2120-4B39-A2B9-54A0BE04ED6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769"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0B221DF-F472-471B-95C2-6AD205A7EB2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771"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772" name=""/>
          <p:cNvGrpSpPr/>
          <p:nvPr/>
        </p:nvGrpSpPr>
        <p:grpSpPr>
          <a:xfrm>
            <a:off x="7238880" y="4648320"/>
            <a:ext cx="1600200" cy="838080"/>
            <a:chOff x="7238880" y="4648320"/>
            <a:chExt cx="1600200" cy="838080"/>
          </a:xfrm>
        </p:grpSpPr>
        <p:sp>
          <p:nvSpPr>
            <p:cNvPr id="773"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4"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284E819E-CFF5-42D3-8512-59571FB955C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5" name=""/>
          <p:cNvGrpSpPr/>
          <p:nvPr/>
        </p:nvGrpSpPr>
        <p:grpSpPr>
          <a:xfrm>
            <a:off x="4726080" y="1066320"/>
            <a:ext cx="3655800" cy="3430800"/>
            <a:chOff x="4726080" y="1066320"/>
            <a:chExt cx="3655800" cy="3430800"/>
          </a:xfrm>
        </p:grpSpPr>
        <p:grpSp>
          <p:nvGrpSpPr>
            <p:cNvPr id="776" name=""/>
            <p:cNvGrpSpPr/>
            <p:nvPr/>
          </p:nvGrpSpPr>
          <p:grpSpPr>
            <a:xfrm>
              <a:off x="7086600" y="1676160"/>
              <a:ext cx="1295280" cy="914400"/>
              <a:chOff x="7086600" y="1676160"/>
              <a:chExt cx="1295280" cy="914400"/>
            </a:xfrm>
          </p:grpSpPr>
          <p:sp>
            <p:nvSpPr>
              <p:cNvPr id="777"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8"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779"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780"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781"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782"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783" name=""/>
          <p:cNvGrpSpPr/>
          <p:nvPr/>
        </p:nvGrpSpPr>
        <p:grpSpPr>
          <a:xfrm>
            <a:off x="153720" y="2971800"/>
            <a:ext cx="5140440" cy="914400"/>
            <a:chOff x="153720" y="2971800"/>
            <a:chExt cx="5140440" cy="914400"/>
          </a:xfrm>
        </p:grpSpPr>
        <p:grpSp>
          <p:nvGrpSpPr>
            <p:cNvPr id="784" name=""/>
            <p:cNvGrpSpPr/>
            <p:nvPr/>
          </p:nvGrpSpPr>
          <p:grpSpPr>
            <a:xfrm>
              <a:off x="3998880" y="2971800"/>
              <a:ext cx="1295280" cy="914400"/>
              <a:chOff x="3998880" y="2971800"/>
              <a:chExt cx="1295280" cy="914400"/>
            </a:xfrm>
          </p:grpSpPr>
          <p:sp>
            <p:nvSpPr>
              <p:cNvPr id="785"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787"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788" name=""/>
          <p:cNvGrpSpPr/>
          <p:nvPr/>
        </p:nvGrpSpPr>
        <p:grpSpPr>
          <a:xfrm>
            <a:off x="149400" y="2666520"/>
            <a:ext cx="7775280" cy="1373040"/>
            <a:chOff x="149400" y="2666520"/>
            <a:chExt cx="7775280" cy="1373040"/>
          </a:xfrm>
        </p:grpSpPr>
        <p:sp>
          <p:nvSpPr>
            <p:cNvPr id="789"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790"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1"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792" name=""/>
          <p:cNvGrpSpPr/>
          <p:nvPr/>
        </p:nvGrpSpPr>
        <p:grpSpPr>
          <a:xfrm>
            <a:off x="6781680" y="380880"/>
            <a:ext cx="2286000" cy="1143000"/>
            <a:chOff x="6781680" y="380880"/>
            <a:chExt cx="2286000" cy="1143000"/>
          </a:xfrm>
        </p:grpSpPr>
        <p:sp>
          <p:nvSpPr>
            <p:cNvPr id="793"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794"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795" name=""/>
          <p:cNvGrpSpPr/>
          <p:nvPr/>
        </p:nvGrpSpPr>
        <p:grpSpPr>
          <a:xfrm>
            <a:off x="77760" y="990360"/>
            <a:ext cx="7085160" cy="1447920"/>
            <a:chOff x="77760" y="990360"/>
            <a:chExt cx="7085160" cy="1447920"/>
          </a:xfrm>
        </p:grpSpPr>
        <p:sp>
          <p:nvSpPr>
            <p:cNvPr id="796"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7"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798"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99"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00"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1" name=""/>
          <p:cNvGrpSpPr/>
          <p:nvPr/>
        </p:nvGrpSpPr>
        <p:grpSpPr>
          <a:xfrm>
            <a:off x="-3600" y="1888200"/>
            <a:ext cx="4727880" cy="1220040"/>
            <a:chOff x="-3600" y="1888200"/>
            <a:chExt cx="4727880" cy="1220040"/>
          </a:xfrm>
        </p:grpSpPr>
        <p:sp>
          <p:nvSpPr>
            <p:cNvPr id="802"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03"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4" name=""/>
          <p:cNvGrpSpPr/>
          <p:nvPr/>
        </p:nvGrpSpPr>
        <p:grpSpPr>
          <a:xfrm>
            <a:off x="4664520" y="2743200"/>
            <a:ext cx="4232880" cy="2286720"/>
            <a:chOff x="4664520" y="2743200"/>
            <a:chExt cx="4232880" cy="2286720"/>
          </a:xfrm>
        </p:grpSpPr>
        <p:sp>
          <p:nvSpPr>
            <p:cNvPr id="805"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06"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07" name=""/>
          <p:cNvGrpSpPr/>
          <p:nvPr/>
        </p:nvGrpSpPr>
        <p:grpSpPr>
          <a:xfrm>
            <a:off x="147240" y="2208960"/>
            <a:ext cx="5110560" cy="2472120"/>
            <a:chOff x="147240" y="2208960"/>
            <a:chExt cx="5110560" cy="2472120"/>
          </a:xfrm>
        </p:grpSpPr>
        <p:sp>
          <p:nvSpPr>
            <p:cNvPr id="808"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09"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10" name=""/>
          <p:cNvGrpSpPr/>
          <p:nvPr/>
        </p:nvGrpSpPr>
        <p:grpSpPr>
          <a:xfrm>
            <a:off x="0" y="2193840"/>
            <a:ext cx="184320" cy="3826080"/>
            <a:chOff x="0" y="2193840"/>
            <a:chExt cx="184320" cy="3826080"/>
          </a:xfrm>
        </p:grpSpPr>
        <p:sp>
          <p:nvSpPr>
            <p:cNvPr id="811"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12"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13" name=""/>
          <p:cNvGrpSpPr/>
          <p:nvPr/>
        </p:nvGrpSpPr>
        <p:grpSpPr>
          <a:xfrm>
            <a:off x="-6120" y="2111760"/>
            <a:ext cx="4373280" cy="3604320"/>
            <a:chOff x="-6120" y="2111760"/>
            <a:chExt cx="4373280" cy="3604320"/>
          </a:xfrm>
        </p:grpSpPr>
        <p:sp>
          <p:nvSpPr>
            <p:cNvPr id="814"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15"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16"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17"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E36CD4BF-758C-4740-9352-5AB0AEC4DFB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31"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E96CD959-64F0-4F71-98EE-96F726AA45B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19"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07DC35A-4B21-4D75-ABD3-C70BEBFE272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21"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22"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3"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4"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25"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26"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27" name=""/>
          <p:cNvGrpSpPr/>
          <p:nvPr/>
        </p:nvGrpSpPr>
        <p:grpSpPr>
          <a:xfrm>
            <a:off x="7543800" y="228600"/>
            <a:ext cx="1600200" cy="838080"/>
            <a:chOff x="7543800" y="228600"/>
            <a:chExt cx="1600200" cy="838080"/>
          </a:xfrm>
        </p:grpSpPr>
        <p:sp>
          <p:nvSpPr>
            <p:cNvPr id="828"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145C9AAE-E618-4D1E-96A1-9A48DBA6701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31"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32" name=""/>
          <p:cNvGrpSpPr/>
          <p:nvPr/>
        </p:nvGrpSpPr>
        <p:grpSpPr>
          <a:xfrm>
            <a:off x="7543800" y="5181480"/>
            <a:ext cx="1600200" cy="838440"/>
            <a:chOff x="7543800" y="5181480"/>
            <a:chExt cx="1600200" cy="838440"/>
          </a:xfrm>
        </p:grpSpPr>
        <p:sp>
          <p:nvSpPr>
            <p:cNvPr id="833"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4"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5EABBDD6-4DA9-4707-A5D9-CABF49889D18}" type="slidenum">
              <a:t>122</a:t>
            </a:fld>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36"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37" name=""/>
          <p:cNvGrpSpPr/>
          <p:nvPr/>
        </p:nvGrpSpPr>
        <p:grpSpPr>
          <a:xfrm>
            <a:off x="7162920" y="5334120"/>
            <a:ext cx="1600200" cy="838080"/>
            <a:chOff x="7162920" y="5334120"/>
            <a:chExt cx="1600200" cy="838080"/>
          </a:xfrm>
        </p:grpSpPr>
        <p:sp>
          <p:nvSpPr>
            <p:cNvPr id="838"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9"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B670DC57-3A15-4222-B54F-47F8A24A2FC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41"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42"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43" name=""/>
          <p:cNvGrpSpPr/>
          <p:nvPr/>
        </p:nvGrpSpPr>
        <p:grpSpPr>
          <a:xfrm>
            <a:off x="7543800" y="1600200"/>
            <a:ext cx="1600200" cy="838080"/>
            <a:chOff x="7543800" y="1600200"/>
            <a:chExt cx="1600200" cy="838080"/>
          </a:xfrm>
        </p:grpSpPr>
        <p:sp>
          <p:nvSpPr>
            <p:cNvPr id="844"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45"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BB90332C-D540-47B8-80D4-6EC686AC2ED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47"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316BB8E7-D775-44A9-8D75-0175E2A93EF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49"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65E1E81B-9942-4312-8621-CAC7663E4B3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51"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52"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53"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1C1AD3E2-007F-4EFD-8EC2-8ED568C5AA3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55"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401B5CF-87BB-4BEF-8D5A-C4B6E7D1602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57"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58"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59"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0"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1"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2"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3"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4"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65" name=""/>
          <p:cNvGrpSpPr/>
          <p:nvPr/>
        </p:nvGrpSpPr>
        <p:grpSpPr>
          <a:xfrm>
            <a:off x="3830400" y="3276720"/>
            <a:ext cx="1524240" cy="1904760"/>
            <a:chOff x="3830400" y="3276720"/>
            <a:chExt cx="1524240" cy="1904760"/>
          </a:xfrm>
        </p:grpSpPr>
        <p:sp>
          <p:nvSpPr>
            <p:cNvPr id="866"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68"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9"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870"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1"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872" name=""/>
          <p:cNvGrpSpPr/>
          <p:nvPr/>
        </p:nvGrpSpPr>
        <p:grpSpPr>
          <a:xfrm>
            <a:off x="1928160" y="4128480"/>
            <a:ext cx="4264560" cy="1815840"/>
            <a:chOff x="1928160" y="4128480"/>
            <a:chExt cx="4264560" cy="1815840"/>
          </a:xfrm>
        </p:grpSpPr>
        <p:grpSp>
          <p:nvGrpSpPr>
            <p:cNvPr id="873" name=""/>
            <p:cNvGrpSpPr/>
            <p:nvPr/>
          </p:nvGrpSpPr>
          <p:grpSpPr>
            <a:xfrm>
              <a:off x="1928160" y="4128480"/>
              <a:ext cx="4264560" cy="1524600"/>
              <a:chOff x="1928160" y="4128480"/>
              <a:chExt cx="4264560" cy="1524600"/>
            </a:xfrm>
          </p:grpSpPr>
          <p:sp>
            <p:nvSpPr>
              <p:cNvPr id="874"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875" name=""/>
              <p:cNvGrpSpPr/>
              <p:nvPr/>
            </p:nvGrpSpPr>
            <p:grpSpPr>
              <a:xfrm>
                <a:off x="4211640" y="5119560"/>
                <a:ext cx="1981080" cy="533520"/>
                <a:chOff x="4211640" y="5119560"/>
                <a:chExt cx="1981080" cy="533520"/>
              </a:xfrm>
            </p:grpSpPr>
            <p:sp>
              <p:nvSpPr>
                <p:cNvPr id="876"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8"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879"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880" name=""/>
          <p:cNvGrpSpPr/>
          <p:nvPr/>
        </p:nvGrpSpPr>
        <p:grpSpPr>
          <a:xfrm>
            <a:off x="5943600" y="3580200"/>
            <a:ext cx="1269000" cy="1524960"/>
            <a:chOff x="5943600" y="3580200"/>
            <a:chExt cx="1269000" cy="1524960"/>
          </a:xfrm>
        </p:grpSpPr>
        <p:grpSp>
          <p:nvGrpSpPr>
            <p:cNvPr id="881" name=""/>
            <p:cNvGrpSpPr/>
            <p:nvPr/>
          </p:nvGrpSpPr>
          <p:grpSpPr>
            <a:xfrm>
              <a:off x="5964120" y="3581280"/>
              <a:ext cx="1248480" cy="1523880"/>
              <a:chOff x="5964120" y="3581280"/>
              <a:chExt cx="1248480" cy="1523880"/>
            </a:xfrm>
          </p:grpSpPr>
          <p:sp>
            <p:nvSpPr>
              <p:cNvPr id="882"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884"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39142D94-73A3-4E0E-A4D4-B9117F726FD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13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AFCFC3D-7525-4956-8142-9A531035A05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86"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7"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8"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889"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890"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2"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893"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4"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5"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6"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7"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98" name=""/>
          <p:cNvGrpSpPr/>
          <p:nvPr/>
        </p:nvGrpSpPr>
        <p:grpSpPr>
          <a:xfrm>
            <a:off x="687600" y="4433400"/>
            <a:ext cx="4417920" cy="1647000"/>
            <a:chOff x="687600" y="4433400"/>
            <a:chExt cx="4417920" cy="1647000"/>
          </a:xfrm>
        </p:grpSpPr>
        <p:sp>
          <p:nvSpPr>
            <p:cNvPr id="899"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00"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01" name=""/>
            <p:cNvGrpSpPr/>
            <p:nvPr/>
          </p:nvGrpSpPr>
          <p:grpSpPr>
            <a:xfrm>
              <a:off x="3352680" y="5410080"/>
              <a:ext cx="1752840" cy="533520"/>
              <a:chOff x="3352680" y="5410080"/>
              <a:chExt cx="1752840" cy="533520"/>
            </a:xfrm>
          </p:grpSpPr>
          <p:grpSp>
            <p:nvGrpSpPr>
              <p:cNvPr id="902" name=""/>
              <p:cNvGrpSpPr/>
              <p:nvPr/>
            </p:nvGrpSpPr>
            <p:grpSpPr>
              <a:xfrm>
                <a:off x="3352680" y="5410080"/>
                <a:ext cx="1752480" cy="533520"/>
                <a:chOff x="3352680" y="5410080"/>
                <a:chExt cx="1752480" cy="533520"/>
              </a:xfrm>
            </p:grpSpPr>
            <p:sp>
              <p:nvSpPr>
                <p:cNvPr id="903"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4"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5"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06"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07" name=""/>
          <p:cNvGrpSpPr/>
          <p:nvPr/>
        </p:nvGrpSpPr>
        <p:grpSpPr>
          <a:xfrm>
            <a:off x="3962520" y="3777840"/>
            <a:ext cx="2438280" cy="1937160"/>
            <a:chOff x="3962520" y="3777840"/>
            <a:chExt cx="2438280" cy="1937160"/>
          </a:xfrm>
        </p:grpSpPr>
        <p:grpSp>
          <p:nvGrpSpPr>
            <p:cNvPr id="908" name=""/>
            <p:cNvGrpSpPr/>
            <p:nvPr/>
          </p:nvGrpSpPr>
          <p:grpSpPr>
            <a:xfrm>
              <a:off x="3962520" y="3809880"/>
              <a:ext cx="2438280" cy="1905120"/>
              <a:chOff x="3962520" y="3809880"/>
              <a:chExt cx="2438280" cy="1905120"/>
            </a:xfrm>
          </p:grpSpPr>
          <p:grpSp>
            <p:nvGrpSpPr>
              <p:cNvPr id="909" name=""/>
              <p:cNvGrpSpPr/>
              <p:nvPr/>
            </p:nvGrpSpPr>
            <p:grpSpPr>
              <a:xfrm>
                <a:off x="3962520" y="5410080"/>
                <a:ext cx="761760" cy="304920"/>
                <a:chOff x="3962520" y="5410080"/>
                <a:chExt cx="761760" cy="304920"/>
              </a:xfrm>
            </p:grpSpPr>
            <p:sp>
              <p:nvSpPr>
                <p:cNvPr id="910"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1"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2"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13" name=""/>
              <p:cNvGrpSpPr/>
              <p:nvPr/>
            </p:nvGrpSpPr>
            <p:grpSpPr>
              <a:xfrm>
                <a:off x="4572000" y="3809880"/>
                <a:ext cx="1331640" cy="1600200"/>
                <a:chOff x="4572000" y="3809880"/>
                <a:chExt cx="1331640" cy="1600200"/>
              </a:xfrm>
            </p:grpSpPr>
            <p:sp>
              <p:nvSpPr>
                <p:cNvPr id="914"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16"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17"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18" name=""/>
              <p:cNvGrpSpPr/>
              <p:nvPr/>
            </p:nvGrpSpPr>
            <p:grpSpPr>
              <a:xfrm>
                <a:off x="5638320" y="5410080"/>
                <a:ext cx="762480" cy="304920"/>
                <a:chOff x="5638320" y="5410080"/>
                <a:chExt cx="762480" cy="304920"/>
              </a:xfrm>
            </p:grpSpPr>
            <p:sp>
              <p:nvSpPr>
                <p:cNvPr id="919"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0"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22"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23"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24" name=""/>
          <p:cNvGrpSpPr/>
          <p:nvPr/>
        </p:nvGrpSpPr>
        <p:grpSpPr>
          <a:xfrm>
            <a:off x="6324480" y="3885120"/>
            <a:ext cx="1143000" cy="1524960"/>
            <a:chOff x="6324480" y="3885120"/>
            <a:chExt cx="1143000" cy="1524960"/>
          </a:xfrm>
        </p:grpSpPr>
        <p:grpSp>
          <p:nvGrpSpPr>
            <p:cNvPr id="925" name=""/>
            <p:cNvGrpSpPr/>
            <p:nvPr/>
          </p:nvGrpSpPr>
          <p:grpSpPr>
            <a:xfrm>
              <a:off x="6324480" y="3886200"/>
              <a:ext cx="1143000" cy="1523880"/>
              <a:chOff x="6324480" y="3886200"/>
              <a:chExt cx="1143000" cy="1523880"/>
            </a:xfrm>
          </p:grpSpPr>
          <p:sp>
            <p:nvSpPr>
              <p:cNvPr id="926"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7"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28"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DCCBC948-BA06-4DDC-B24D-EE38F40B8DF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30"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31"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36"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7"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8"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9"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0"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1"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3"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4"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5"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6"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7"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8"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49"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50"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1"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2"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3"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4"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76C7C399-7DCC-4D9E-B216-481C7FD76BD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0A498AE0-3CCB-454B-908F-92D2F6BA7A9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57"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58" name=""/>
          <p:cNvGrpSpPr/>
          <p:nvPr/>
        </p:nvGrpSpPr>
        <p:grpSpPr>
          <a:xfrm>
            <a:off x="6858000" y="3505320"/>
            <a:ext cx="1919880" cy="990360"/>
            <a:chOff x="6858000" y="3505320"/>
            <a:chExt cx="1919880" cy="990360"/>
          </a:xfrm>
        </p:grpSpPr>
        <p:sp>
          <p:nvSpPr>
            <p:cNvPr id="959"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0"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E5C12A14-45EE-4C17-A558-C1DE702B84C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962"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963" name=""/>
          <p:cNvGrpSpPr/>
          <p:nvPr/>
        </p:nvGrpSpPr>
        <p:grpSpPr>
          <a:xfrm>
            <a:off x="5562720" y="5181480"/>
            <a:ext cx="2361960" cy="1066680"/>
            <a:chOff x="5562720" y="5181480"/>
            <a:chExt cx="2361960" cy="1066680"/>
          </a:xfrm>
        </p:grpSpPr>
        <p:sp>
          <p:nvSpPr>
            <p:cNvPr id="964"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30E3E5EF-056D-4A92-9E4B-EEDDA8849CD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967"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968"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9"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73" name=""/>
          <p:cNvGrpSpPr/>
          <p:nvPr/>
        </p:nvGrpSpPr>
        <p:grpSpPr>
          <a:xfrm>
            <a:off x="6019920" y="4800600"/>
            <a:ext cx="2361960" cy="1066680"/>
            <a:chOff x="6019920" y="4800600"/>
            <a:chExt cx="2361960" cy="1066680"/>
          </a:xfrm>
        </p:grpSpPr>
        <p:sp>
          <p:nvSpPr>
            <p:cNvPr id="974"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BD0F1597-AA54-4D36-809C-E5FB4E642FC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977"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978" name=""/>
          <p:cNvGrpSpPr/>
          <p:nvPr/>
        </p:nvGrpSpPr>
        <p:grpSpPr>
          <a:xfrm>
            <a:off x="7086600" y="3505320"/>
            <a:ext cx="1523880" cy="1066680"/>
            <a:chOff x="7086600" y="3505320"/>
            <a:chExt cx="1523880" cy="1066680"/>
          </a:xfrm>
        </p:grpSpPr>
        <p:sp>
          <p:nvSpPr>
            <p:cNvPr id="979"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83A09B66-D913-47A2-A631-49B1E065257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982"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990099"/>
                </a:solidFill>
                <a:uFillTx/>
                <a:latin typeface="Arial"/>
                <a:hlinkClick r:id="rId9"/>
              </a:rPr>
              <a:t>http://www.</a:t>
            </a:r>
            <a:r>
              <a:rPr b="0" lang="en-GB" sz="2000" spc="-1" strike="noStrike" u="sng">
                <a:solidFill>
                  <a:srgbClr val="990099"/>
                </a:solidFill>
                <a:uFillTx/>
                <a:latin typeface="Arial"/>
                <a:hlinkClick r:id="rId10"/>
              </a:rPr>
              <a:t>gnupg</a:t>
            </a:r>
            <a:r>
              <a:rPr b="0" lang="en-GB" sz="2000" spc="-1" strike="noStrike" u="sng">
                <a:solidFill>
                  <a:srgbClr val="990099"/>
                </a:solidFill>
                <a:uFillTx/>
                <a:latin typeface="Arial"/>
                <a:hlinkClick r:id="rId11"/>
              </a:rPr>
              <a:t>.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3B958EA2-D4C6-497A-843C-EF535DBF357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985"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986"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F5C789B-710B-47EB-B74F-AF1CC29AEBD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988"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7C321A5-C0B6-40EA-B605-A2DAD2A45F7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135"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F523EAE-1CEA-404F-81C1-D9E872C31A6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990"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991"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978E9DA4-2D4E-42EE-94CB-EDEC5395979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515B67BC-C0C5-4B24-A8EC-E0BAE4C1E66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994"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05D9D56-D856-43BC-A0C3-884C8E0BA23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996"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7E7AD05-78D6-471E-A5AF-94ED83C7A20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998"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3358D42-AEAF-4929-A000-AA9BC893B79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00"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01"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2"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5A8996F2-668A-4500-8D87-EA14C0B3806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04"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http://www.ripe.net/</a:t>
            </a:r>
            <a:r>
              <a:rPr b="0" lang="en-US" sz="1800" spc="-1" strike="noStrike" u="sng">
                <a:solidFill>
                  <a:srgbClr val="990099"/>
                </a:solidFill>
                <a:uFillTx/>
                <a:latin typeface="Arial"/>
                <a:hlinkClick r:id="rId3" action="ppaction://hlinksldjump"/>
              </a:rPr>
              <a:t>ripencc</a:t>
            </a:r>
            <a:r>
              <a:rPr b="0" lang="en-US" sz="1800" spc="-1" strike="noStrike" u="sng">
                <a:solidFill>
                  <a:srgbClr val="990099"/>
                </a:solidFill>
                <a:uFillTx/>
                <a:latin typeface="Arial"/>
                <a:hlinkClick r:id="rId4" action="ppaction://hlinksldjump"/>
              </a:rPr>
              <a:t>/</a:t>
            </a:r>
            <a:r>
              <a:rPr b="0" lang="en-US" sz="1800" spc="-1" strike="noStrike" u="sng">
                <a:solidFill>
                  <a:srgbClr val="990099"/>
                </a:solidFill>
                <a:uFillTx/>
                <a:latin typeface="Arial"/>
                <a:hlinkClick r:id="rId5" action="ppaction://hlinksldjump"/>
              </a:rPr>
              <a:t>mem</a:t>
            </a:r>
            <a:r>
              <a:rPr b="0" lang="en-US" sz="1800" spc="-1" strike="noStrike" u="sng">
                <a:solidFill>
                  <a:srgbClr val="990099"/>
                </a:solidFill>
                <a:uFillTx/>
                <a:latin typeface="Arial"/>
                <a:hlinkClick r:id="rId6" action="ppaction://hlinksldjump"/>
              </a:rPr>
              <a:t>-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A4980FDA-B4E4-44D7-9F4B-CAFA6568F7B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06"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07"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09"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BCD0758-A1A7-4EE4-A71F-3A16D83C73E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1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517C258F-3D31-4FBC-BBC1-CE7E8782981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13"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044A8FE-09FF-4B1F-971E-45D77CC4784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137"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EB57785A-8546-4818-B914-CA939C02950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15"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2034EC9-B595-406E-A967-D29BAD2A6403}" type="slidenum">
              <a:t>150</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39"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81B57CD5-8CE3-438C-88C5-2C96FF56955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141"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54116942-9760-4BDB-894B-780B6A78755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143"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F6EF9E4-443B-4C72-A558-32CCF5D93D7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4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146"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147"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148" name=""/>
          <p:cNvCxnSpPr>
            <a:stCxn id="144" idx="1"/>
            <a:endCxn id="144" idx="1"/>
          </p:cNvCxnSpPr>
          <p:nvPr/>
        </p:nvCxnSpPr>
        <p:spPr>
          <a:xfrm>
            <a:off x="2209320" y="5409720"/>
            <a:ext cx="1080" cy="1080"/>
          </a:xfrm>
          <a:prstGeom prst="straightConnector1">
            <a:avLst/>
          </a:prstGeom>
          <a:ln w="0">
            <a:noFill/>
          </a:ln>
        </p:spPr>
      </p:cxnSp>
      <p:sp>
        <p:nvSpPr>
          <p:cNvPr id="149"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0"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1"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2"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3"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54"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5"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156"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7"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9"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60"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4A5EDDF9-1130-46C9-82BC-24EFA4CEF41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400" y="1218960"/>
            <a:ext cx="8229600" cy="472428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 14:00 - 17:00</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 15:30</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2" marL="1074240" indent="-214560">
              <a:lnSpc>
                <a:spcPct val="90000"/>
              </a:lnSpc>
              <a:spcBef>
                <a:spcPts val="400"/>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http://www.ripe.net/ripe/meetings/archive/ripe-39/presentations/ip-tutorial/</a:t>
            </a:r>
            <a:endParaRPr b="0" lang="en-US" sz="16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 - reference booklet</a:t>
            </a:r>
            <a:endParaRPr b="0" lang="en-US" sz="2400" spc="-1" strike="noStrike">
              <a:solidFill>
                <a:srgbClr val="003399"/>
              </a:solidFill>
              <a:latin typeface="Arial"/>
            </a:endParaRPr>
          </a:p>
          <a:p>
            <a:pPr lvl="1" marL="698400" indent="-2685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ining courses</a:t>
            </a:r>
            <a:endParaRPr b="0" lang="en-US" sz="2800" spc="-1" strike="noStrike">
              <a:solidFill>
                <a:srgbClr val="003399"/>
              </a:solidFill>
              <a:latin typeface="Arial"/>
            </a:endParaRPr>
          </a:p>
          <a:p>
            <a:pPr lvl="1" marL="698400" indent="-2685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http://www.ripe.net/ripencc/mem-services/training/</a:t>
            </a:r>
            <a:endParaRPr b="0" lang="en-US" sz="20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evel of knowledge? Interests?</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hedule 2 </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A5AEDF4-6E02-4265-9722-E0949BFA234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162"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A30EA5A-F5BD-4861-AE76-21413E5FD5C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64"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165"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166"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167"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168"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169"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170"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1"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2"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3"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4"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5"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6"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77"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178"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179" name=""/>
          <p:cNvGrpSpPr/>
          <p:nvPr/>
        </p:nvGrpSpPr>
        <p:grpSpPr>
          <a:xfrm>
            <a:off x="6705720" y="4495680"/>
            <a:ext cx="1282680" cy="673200"/>
            <a:chOff x="6705720" y="4495680"/>
            <a:chExt cx="1282680" cy="673200"/>
          </a:xfrm>
        </p:grpSpPr>
        <p:sp>
          <p:nvSpPr>
            <p:cNvPr id="180"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182"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3"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4"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5"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6"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188"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89"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90"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1"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2"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006DC69-008F-4A5F-8633-54D3B7CB500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194"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195"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96"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7"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8"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9"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0"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1"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2"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3"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4"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5"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6"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7"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8"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9"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0"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1"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2"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3"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4"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15"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16"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17"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18"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19"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0"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1"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2"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23"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24"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25"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26"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27"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28"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29"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30"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31"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32"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233"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234"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235"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236"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237"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238"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239"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240"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241"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2"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3"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4"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5"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246"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247"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248"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249"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250"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251"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252"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253"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254"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255"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256"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257"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258"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59"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260"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261"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262"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263"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264"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265"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6"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7"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8"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9"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5BD14AD2-3F32-47F5-B37C-C13490D696C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271"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AB015F7-1102-4F47-B5FE-E01CD4A5BB0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273"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t>
            </a:r>
            <a:r>
              <a:rPr b="0" lang="en-GB" sz="2400" spc="-1" strike="noStrike" u="sng">
                <a:solidFill>
                  <a:srgbClr val="990099"/>
                </a:solidFill>
                <a:uFillTx/>
                <a:latin typeface="Arial"/>
                <a:hlinkClick r:id="rId1"/>
              </a:rPr>
              <a:t>allocation</a:t>
            </a:r>
            <a:r>
              <a:rPr b="0" lang="en-GB" sz="2400" spc="-1" strike="noStrike">
                <a:solidFill>
                  <a:srgbClr val="003399"/>
                </a:solidFill>
                <a:latin typeface="Arial"/>
              </a:rPr>
              <a:t>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274" name=""/>
          <p:cNvGrpSpPr/>
          <p:nvPr/>
        </p:nvGrpSpPr>
        <p:grpSpPr>
          <a:xfrm>
            <a:off x="6705720" y="4191120"/>
            <a:ext cx="914400" cy="609480"/>
            <a:chOff x="6705720" y="4191120"/>
            <a:chExt cx="914400" cy="609480"/>
          </a:xfrm>
        </p:grpSpPr>
        <p:sp>
          <p:nvSpPr>
            <p:cNvPr id="275"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614406F3-EE19-492F-961C-89695A3BBC6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78"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88481BF1-2C1B-4347-9916-D90E90074B7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280"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813AF18C-BFDC-4379-A939-8AD702F36ED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3"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4"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28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286"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7"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288"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9"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290"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91"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292"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293"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4"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5"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6"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7"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8"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9"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00"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1"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02"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3"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04"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5"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6"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7"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08"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09"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0"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1"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2"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3"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14"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589A346F-6745-4A6B-A563-B40AB4F1759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16"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7"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8"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9"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0"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1"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2"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3"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4"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5"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6"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7"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8"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AD095B6D-85D7-48DC-8967-5E437D05896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30"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730AA31-EB59-4CFF-B962-847E7A3ECF3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0" name="PlaceHolder 2"/>
          <p:cNvSpPr>
            <a:spLocks noGrp="1"/>
          </p:cNvSpPr>
          <p:nvPr>
            <p:ph/>
          </p:nvPr>
        </p:nvSpPr>
        <p:spPr>
          <a:xfrm>
            <a:off x="1904760" y="914040"/>
            <a:ext cx="52578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ction="ppaction://hlinksldjump"/>
              </a:rPr>
              <a:t>Basic RIPE Database Issues</a:t>
            </a:r>
            <a:endParaRPr b="0" lang="en-US" sz="18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querying DB</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reating person/role objec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itial Administrivia</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setting up the LIR</a:t>
            </a:r>
            <a:r>
              <a:rPr b="0" lang="en-US" sz="1400" spc="-1" strike="noStrike">
                <a:solidFill>
                  <a:srgbClr val="003399"/>
                </a:solidFill>
                <a:latin typeface="Arial"/>
              </a:rPr>
              <a:t>	</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terminology</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first reques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Requesting Address Space</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pleting the request form</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munication with hostmasters</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3" action="ppaction://hlinksldjump"/>
              </a:rPr>
              <a:t>Evaluation</a:t>
            </a:r>
            <a:r>
              <a:rPr b="0" lang="en-US" sz="2000" spc="-1" strike="noStrike" u="sng">
                <a:solidFill>
                  <a:srgbClr val="990099"/>
                </a:solidFill>
                <a:uFillTx/>
                <a:latin typeface="Arial"/>
                <a:hlinkClick r:id="rId4" action="ppaction://hlinksldjump"/>
              </a:rPr>
              <a:t> </a:t>
            </a:r>
            <a:r>
              <a:rPr b="0" lang="en-US" sz="1800" spc="-1" strike="noStrike" u="sng">
                <a:solidFill>
                  <a:srgbClr val="990099"/>
                </a:solidFill>
                <a:uFillTx/>
                <a:latin typeface="Arial"/>
                <a:hlinkClick r:id="rId5" action="ppaction://hlinksldjump"/>
              </a:rPr>
              <a:t>of Requests</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policies</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hoosing the address range</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gistering Address Space in the RIPE DB</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0" lang="en-US" sz="1400" spc="-1" strike="noStrike">
                <a:solidFill>
                  <a:srgbClr val="003399"/>
                </a:solidFill>
                <a:latin typeface="Arial"/>
              </a:rPr>
              <a:t>how to create network object</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advanced DB queries</a:t>
            </a:r>
            <a:endParaRPr b="0" lang="en-US" sz="1400" spc="-1" strike="noStrike">
              <a:solidFill>
                <a:srgbClr val="003399"/>
              </a:solidFill>
              <a:latin typeface="Arial"/>
            </a:endParaRPr>
          </a:p>
          <a:p>
            <a:pPr marL="343080" indent="-343080">
              <a:lnSpc>
                <a:spcPct val="10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I Request </a:t>
            </a:r>
            <a:endParaRPr b="0" lang="en-US" sz="1800" spc="-1" strike="noStrike">
              <a:solidFill>
                <a:srgbClr val="003399"/>
              </a:solidFill>
              <a:latin typeface="Arial"/>
            </a:endParaRPr>
          </a:p>
          <a:p>
            <a:pPr marL="343080" indent="-343080">
              <a:lnSpc>
                <a:spcPct val="100000"/>
              </a:lnSpc>
              <a:spcBef>
                <a:spcPts val="11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New Allocation</a:t>
            </a:r>
            <a:endParaRPr b="0" lang="en-US" sz="1800" spc="-1" strike="noStrike">
              <a:solidFill>
                <a:srgbClr val="003399"/>
              </a:solidFill>
              <a:latin typeface="Arial"/>
            </a:endParaRPr>
          </a:p>
        </p:txBody>
      </p:sp>
      <p:sp>
        <p:nvSpPr>
          <p:cNvPr id="10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CEA9200-1E89-4FC5-AE36-731DB1A2189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32"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u="sng">
                <a:solidFill>
                  <a:srgbClr val="990099"/>
                </a:solidFill>
                <a:uFillTx/>
                <a:latin typeface="Arial"/>
                <a:hlinkClick r:id="rId17"/>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0CAD4A0-0C48-4AB4-B3D5-B0570DA6B83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334"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E807E71-2B78-4900-A745-CE4193D0C1A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336"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605A9C9-E9C4-4931-A27C-DA820F82207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338"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339"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340"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CA872E6-35AC-493B-BD96-9D6289E5764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342"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343"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344"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345"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346"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47"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348"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3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350"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1" name=""/>
          <p:cNvGrpSpPr/>
          <p:nvPr/>
        </p:nvGrpSpPr>
        <p:grpSpPr>
          <a:xfrm>
            <a:off x="1959480" y="3276720"/>
            <a:ext cx="3679200" cy="2255040"/>
            <a:chOff x="1959480" y="3276720"/>
            <a:chExt cx="3679200" cy="2255040"/>
          </a:xfrm>
        </p:grpSpPr>
        <p:sp>
          <p:nvSpPr>
            <p:cNvPr id="352"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3"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355" name=""/>
          <p:cNvGrpSpPr/>
          <p:nvPr/>
        </p:nvGrpSpPr>
        <p:grpSpPr>
          <a:xfrm>
            <a:off x="2514600" y="1002240"/>
            <a:ext cx="2362320" cy="3963240"/>
            <a:chOff x="2514600" y="1002240"/>
            <a:chExt cx="2362320" cy="3963240"/>
          </a:xfrm>
        </p:grpSpPr>
        <p:sp>
          <p:nvSpPr>
            <p:cNvPr id="356"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7" name=""/>
            <p:cNvGrpSpPr/>
            <p:nvPr/>
          </p:nvGrpSpPr>
          <p:grpSpPr>
            <a:xfrm>
              <a:off x="2514600" y="1002240"/>
              <a:ext cx="2286000" cy="3950640"/>
              <a:chOff x="2514600" y="1002240"/>
              <a:chExt cx="2286000" cy="3950640"/>
            </a:xfrm>
          </p:grpSpPr>
          <p:sp>
            <p:nvSpPr>
              <p:cNvPr id="358"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9"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0"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361" name=""/>
          <p:cNvGrpSpPr/>
          <p:nvPr/>
        </p:nvGrpSpPr>
        <p:grpSpPr>
          <a:xfrm>
            <a:off x="5181480" y="1002240"/>
            <a:ext cx="2667240" cy="4511880"/>
            <a:chOff x="5181480" y="1002240"/>
            <a:chExt cx="2667240" cy="4511880"/>
          </a:xfrm>
        </p:grpSpPr>
        <p:sp>
          <p:nvSpPr>
            <p:cNvPr id="362"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363"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365"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E094F842-8C9D-4431-8D2A-FA5D398FFA4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367"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368"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369" name=""/>
          <p:cNvGrpSpPr/>
          <p:nvPr/>
        </p:nvGrpSpPr>
        <p:grpSpPr>
          <a:xfrm>
            <a:off x="4724280" y="1981080"/>
            <a:ext cx="4191120" cy="1219320"/>
            <a:chOff x="4724280" y="1981080"/>
            <a:chExt cx="4191120" cy="1219320"/>
          </a:xfrm>
        </p:grpSpPr>
        <p:sp>
          <p:nvSpPr>
            <p:cNvPr id="370"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371"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372"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09C74C52-86E3-4E4B-A074-BB656D11A12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375"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6"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377" name=""/>
          <p:cNvGrpSpPr/>
          <p:nvPr/>
        </p:nvGrpSpPr>
        <p:grpSpPr>
          <a:xfrm>
            <a:off x="982800" y="3763800"/>
            <a:ext cx="183960" cy="1219320"/>
            <a:chOff x="982800" y="3763800"/>
            <a:chExt cx="183960" cy="1219320"/>
          </a:xfrm>
        </p:grpSpPr>
        <p:sp>
          <p:nvSpPr>
            <p:cNvPr id="378"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9"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380" name=""/>
          <p:cNvGrpSpPr/>
          <p:nvPr/>
        </p:nvGrpSpPr>
        <p:grpSpPr>
          <a:xfrm>
            <a:off x="915840" y="4541040"/>
            <a:ext cx="319320" cy="1249920"/>
            <a:chOff x="915840" y="4541040"/>
            <a:chExt cx="319320" cy="1249920"/>
          </a:xfrm>
        </p:grpSpPr>
        <p:sp>
          <p:nvSpPr>
            <p:cNvPr id="381"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82"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383"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386"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389"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EA48AECE-C543-428C-BA9A-228EC5F7553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39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5367CA90-0940-4B85-B27A-0F2996C2A82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393"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6F5CEB4A-A07E-4DFD-BEBE-A010CC1D338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395"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8596D24-4E75-4A96-AF10-D63233E1B4D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3"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04"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6BA42092-D5DB-4DBC-AEEA-2CFAF549BFC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397"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BA4878FF-7EAC-4495-9ED4-0CDB0A55EFB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399"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0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01" name=""/>
          <p:cNvSpPr/>
          <p:nvPr/>
        </p:nvSpPr>
        <p:spPr>
          <a:xfrm>
            <a:off x="1371600" y="5653440"/>
            <a:ext cx="16002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a:t>
            </a:r>
            <a:r>
              <a:rPr b="0" lang="en-US" sz="2800" spc="-1" strike="noStrike" u="sng">
                <a:solidFill>
                  <a:srgbClr val="990099"/>
                </a:solidFill>
                <a:uFillTx/>
                <a:latin typeface="Arial"/>
                <a:hlinkClick r:id="rId5"/>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A2FAD649-FC99-490B-A64A-11724A024A5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03"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D99EE0D-6B9F-467B-8781-BEF7F38A72D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05"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1B73E48-3058-4B13-8BFA-69DAF15ED76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07"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F9BEE7B0-39EF-452A-8024-E9B0BC05277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09"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10"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F36B348B-6F46-4ECA-B273-D8EAFAAA1E1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12"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1A27BB5-953B-4E04-9427-3B7F3664EC9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14"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1394CAC-C436-4A11-9A2C-1DEABF000D9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16"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DD19513C-9D40-4514-BE83-C7C1DF429E9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18"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59A52B6-E8B2-4433-BE4F-FCA83773F14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06"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110373EC-6A55-4B4A-9DA7-F72BC79D1B0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20"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5AAC25A-22E1-490A-8E6E-0D39C28BCAE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22"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6AE9F66-7C3A-4A2C-A709-FF816306DC3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24"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9D9F340-22B8-4DF7-B0B0-CB38BE5D0CA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26"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27" name=""/>
          <p:cNvGrpSpPr/>
          <p:nvPr/>
        </p:nvGrpSpPr>
        <p:grpSpPr>
          <a:xfrm>
            <a:off x="1294560" y="4114800"/>
            <a:ext cx="6493680" cy="2285640"/>
            <a:chOff x="1294560" y="4114800"/>
            <a:chExt cx="6493680" cy="2285640"/>
          </a:xfrm>
        </p:grpSpPr>
        <p:sp>
          <p:nvSpPr>
            <p:cNvPr id="428"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9"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0"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32" name=""/>
            <p:cNvGrpSpPr/>
            <p:nvPr/>
          </p:nvGrpSpPr>
          <p:grpSpPr>
            <a:xfrm>
              <a:off x="1294560" y="4114800"/>
              <a:ext cx="6493680" cy="2279520"/>
              <a:chOff x="1294560" y="4114800"/>
              <a:chExt cx="6493680" cy="2279520"/>
            </a:xfrm>
          </p:grpSpPr>
          <p:sp>
            <p:nvSpPr>
              <p:cNvPr id="433"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4"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5"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436"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437"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438"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439"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440"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441"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442"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443"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444"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F667BC38-C496-4A90-9D93-1CF5D047673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446"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CCAD7B88-FF42-4733-8F2B-2F84D049C49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448"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BF7F5A1-48F6-4E57-8820-7391D72EAE6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45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755A289-1281-4B95-BD48-74041762BB3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52"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453"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D2490C61-9DDB-4C29-B885-9E498486044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455" name=""/>
          <p:cNvGrpSpPr/>
          <p:nvPr/>
        </p:nvGrpSpPr>
        <p:grpSpPr>
          <a:xfrm>
            <a:off x="2133720" y="3838680"/>
            <a:ext cx="5867280" cy="1267200"/>
            <a:chOff x="2133720" y="3838680"/>
            <a:chExt cx="5867280" cy="1267200"/>
          </a:xfrm>
        </p:grpSpPr>
        <p:grpSp>
          <p:nvGrpSpPr>
            <p:cNvPr id="456" name=""/>
            <p:cNvGrpSpPr/>
            <p:nvPr/>
          </p:nvGrpSpPr>
          <p:grpSpPr>
            <a:xfrm>
              <a:off x="2133720" y="4129200"/>
              <a:ext cx="3962160" cy="761760"/>
              <a:chOff x="2133720" y="4129200"/>
              <a:chExt cx="3962160" cy="761760"/>
            </a:xfrm>
          </p:grpSpPr>
          <p:sp>
            <p:nvSpPr>
              <p:cNvPr id="457"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458"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59"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0"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1"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2"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3"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464"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465"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466"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467"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8"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535A5F0B-C1DD-4196-8DA7-91A6EB22C65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470"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EC9343D0-A067-4F83-9F8D-BFA30BF41DF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08"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CCBD882-FD20-4B05-8FB1-5BF5336B389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F6F3CD2-D8E7-4983-B3B8-552963E0CEA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4"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475"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6"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77"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8"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9"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0"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1"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2"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3"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4"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485"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486"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7"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8"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489"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490"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491"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492"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493"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4"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5"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496"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97"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9"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0"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01"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02"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3"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4"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5"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6"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7"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8"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9"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0"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1"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12"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13"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14"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5"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6"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17"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C99855E8-7846-4B12-A782-9A34543D418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1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3285DD64-AE2A-44F1-B69E-88F5961AEEA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2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22"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7ADF8221-FF65-46D6-ACFA-9D78F242607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24"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B6A340EE-4DA9-42C9-A3A4-BA0B6B3CAE4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26"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27" name=""/>
          <p:cNvGrpSpPr/>
          <p:nvPr/>
        </p:nvGrpSpPr>
        <p:grpSpPr>
          <a:xfrm>
            <a:off x="7238880" y="3200400"/>
            <a:ext cx="1749600" cy="990720"/>
            <a:chOff x="7238880" y="3200400"/>
            <a:chExt cx="1749600" cy="990720"/>
          </a:xfrm>
        </p:grpSpPr>
        <p:sp>
          <p:nvSpPr>
            <p:cNvPr id="528"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29"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AB23CC97-06A4-4A14-A462-32A7F60A9AC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31"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32" name=""/>
          <p:cNvGrpSpPr/>
          <p:nvPr/>
        </p:nvGrpSpPr>
        <p:grpSpPr>
          <a:xfrm>
            <a:off x="6553080" y="4724280"/>
            <a:ext cx="2362320" cy="1066680"/>
            <a:chOff x="6553080" y="4724280"/>
            <a:chExt cx="2362320" cy="1066680"/>
          </a:xfrm>
        </p:grpSpPr>
        <p:sp>
          <p:nvSpPr>
            <p:cNvPr id="533"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4"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6BE86B97-30BA-4E64-B47B-6F4B52D170C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536"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537" name=""/>
          <p:cNvGrpSpPr/>
          <p:nvPr/>
        </p:nvGrpSpPr>
        <p:grpSpPr>
          <a:xfrm>
            <a:off x="6781680" y="152280"/>
            <a:ext cx="2362320" cy="1066680"/>
            <a:chOff x="6781680" y="152280"/>
            <a:chExt cx="2362320" cy="1066680"/>
          </a:xfrm>
        </p:grpSpPr>
        <p:sp>
          <p:nvSpPr>
            <p:cNvPr id="538"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9"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540"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2DCF60B3-6E92-448D-8300-C3A4F6C4000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542"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F79D15EB-190D-401F-BAC2-CAB891CC256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544"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45" name=""/>
          <p:cNvGrpSpPr/>
          <p:nvPr/>
        </p:nvGrpSpPr>
        <p:grpSpPr>
          <a:xfrm>
            <a:off x="7391520" y="4648320"/>
            <a:ext cx="990360" cy="533160"/>
            <a:chOff x="7391520" y="4648320"/>
            <a:chExt cx="990360" cy="533160"/>
          </a:xfrm>
        </p:grpSpPr>
        <p:sp>
          <p:nvSpPr>
            <p:cNvPr id="546"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548" name=""/>
          <p:cNvGrpSpPr/>
          <p:nvPr/>
        </p:nvGrpSpPr>
        <p:grpSpPr>
          <a:xfrm>
            <a:off x="7467480" y="5486400"/>
            <a:ext cx="990720" cy="533520"/>
            <a:chOff x="7467480" y="5486400"/>
            <a:chExt cx="990720" cy="533520"/>
          </a:xfrm>
        </p:grpSpPr>
        <p:sp>
          <p:nvSpPr>
            <p:cNvPr id="549"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0AF4630D-0087-4574-8D50-DE4661EAC2E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10"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990099"/>
                </a:solidFill>
                <a:uFillTx/>
                <a:latin typeface="Arial"/>
                <a:hlinkClick r:id="rId1"/>
              </a:rPr>
              <a:t>http://www.ripe.net/</a:t>
            </a:r>
            <a:r>
              <a:rPr b="0" lang="en-GB" sz="2800" spc="-1" strike="noStrike" u="sng">
                <a:solidFill>
                  <a:srgbClr val="990099"/>
                </a:solidFill>
                <a:uFillTx/>
                <a:latin typeface="Arial"/>
                <a:hlinkClick r:id="rId2"/>
              </a:rPr>
              <a:t>db</a:t>
            </a:r>
            <a:r>
              <a:rPr b="0" lang="en-GB" sz="2800" spc="-1" strike="noStrike" u="sng">
                <a:solidFill>
                  <a:srgbClr val="990099"/>
                </a:solidFill>
                <a:uFillTx/>
                <a:latin typeface="Arial"/>
                <a:hlinkClick r:id="rId3"/>
              </a:rPr>
              <a:t>/</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A3797636-E43F-4AE7-ABD5-C10BE9FFF46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552"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3"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6"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7"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8"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9"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0"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62"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63"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4"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566"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67"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68"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69"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570"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572"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74"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77"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78"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0"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1"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82"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83"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AF4C51A9-50B1-4D6A-B182-938623A37F9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585"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586" name=""/>
          <p:cNvGrpSpPr/>
          <p:nvPr/>
        </p:nvGrpSpPr>
        <p:grpSpPr>
          <a:xfrm>
            <a:off x="4952880" y="3200400"/>
            <a:ext cx="990720" cy="533520"/>
            <a:chOff x="4952880" y="3200400"/>
            <a:chExt cx="990720" cy="533520"/>
          </a:xfrm>
        </p:grpSpPr>
        <p:sp>
          <p:nvSpPr>
            <p:cNvPr id="587"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8"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5F299AA2-B7F1-4553-932C-16CF88650F8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590"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278F380-E4E8-46ED-90CF-31DA011ABBC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92"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593"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C3DDC27C-9D1B-4323-A352-BE9CF4ABB83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595"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319D29BB-7780-456F-A95A-70EFA8BCD36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597"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6777006-F33C-493C-A509-A8C9F766BCC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599"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37810EC-B8C5-4F01-BAB1-C93DE97F2F4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601"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2A9D947-988B-4EB3-BEB9-30454B8A10A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603"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F32D302-F487-485B-881E-8997AA3D047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0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D4A2B410-ACA5-4268-949E-3E5A195EF33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12"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13"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14"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Examples</a:t>
            </a:r>
            <a:r>
              <a:rPr b="0" lang="en-US" sz="2800" spc="-1" strike="noStrike" u="sng">
                <a:solidFill>
                  <a:srgbClr val="003399"/>
                </a:solidFill>
                <a:uFillTx/>
                <a:latin typeface="Arial"/>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7845BC50-9916-4B16-8BEA-1331E3B7E97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531520B2-75E0-4EF1-BB6A-E9B635E69A6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608"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09B253B-44A3-4BF3-A822-82E4AADE049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610"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4E5E6628-0C40-454C-B998-8E406F0849E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612"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B429DC7-E1CA-42A9-B5A3-8C5F8BD3298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614"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3E0D3CF-2260-46CE-B33F-90DAEACE137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616"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6053435E-231C-4A87-8F8A-323A3633D74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1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A4928EB0-06D4-41E4-A443-1FFCCD529C5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 2</a:t>
            </a:r>
            <a:endParaRPr b="0" lang="en-US" sz="4000" spc="-1" strike="noStrike">
              <a:solidFill>
                <a:srgbClr val="003399"/>
              </a:solidFill>
              <a:latin typeface="Arial"/>
            </a:endParaRPr>
          </a:p>
        </p:txBody>
      </p:sp>
      <p:sp>
        <p:nvSpPr>
          <p:cNvPr id="620" name=""/>
          <p:cNvSpPr/>
          <p:nvPr/>
        </p:nvSpPr>
        <p:spPr>
          <a:xfrm>
            <a:off x="2514600" y="1671840"/>
            <a:ext cx="4419720" cy="33271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Window</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Reverse Delegation</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 Numbers</a:t>
            </a:r>
            <a:endParaRPr b="0" lang="en-US" sz="2400" spc="-1" strike="noStrike">
              <a:solidFill>
                <a:srgbClr val="003399"/>
              </a:solidFill>
              <a:latin typeface="Times New Roman"/>
            </a:endParaRPr>
          </a:p>
          <a:p>
            <a:pPr>
              <a:lnSpc>
                <a:spcPct val="120000"/>
              </a:lnSpc>
              <a:spcBef>
                <a:spcPts val="15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vanced Database Issues</a:t>
            </a:r>
            <a:endParaRPr b="0" lang="en-US" sz="24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updating objects</a:t>
            </a:r>
            <a:endParaRPr b="0" lang="en-US" sz="18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otecting objects</a:t>
            </a:r>
            <a:endParaRPr b="0" lang="en-US" sz="1800" spc="-1" strike="noStrike">
              <a:solidFill>
                <a:srgbClr val="003399"/>
              </a:solidFill>
              <a:latin typeface="Times New Roman"/>
            </a:endParaRPr>
          </a:p>
          <a:p>
            <a:pPr>
              <a:lnSpc>
                <a:spcPct val="12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Pv6</a:t>
            </a:r>
            <a:endParaRPr b="0" lang="en-US" sz="2400" spc="-1" strike="noStrike">
              <a:solidFill>
                <a:srgbClr val="003399"/>
              </a:solidFill>
              <a:latin typeface="Times New Roman"/>
            </a:endParaRPr>
          </a:p>
        </p:txBody>
      </p:sp>
      <p:sp>
        <p:nvSpPr>
          <p:cNvPr id="62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22" name=""/>
          <p:cNvSpPr/>
          <p:nvPr/>
        </p:nvSpPr>
        <p:spPr>
          <a:xfrm>
            <a:off x="8153280" y="5638680"/>
            <a:ext cx="609840" cy="457200"/>
          </a:xfrm>
          <a:custGeom>
            <a:avLst/>
            <a:gdLst>
              <a:gd name="textAreaLeft" fmla="*/ 29520 w 609840"/>
              <a:gd name="textAreaRight" fmla="*/ 580320 w 609840"/>
              <a:gd name="textAreaTop" fmla="*/ 29520 h 457200"/>
              <a:gd name="textAreaBottom" fmla="*/ 42768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7406" y="1400"/>
                </a:lnTo>
                <a:lnTo>
                  <a:pt x="1400" y="1400"/>
                </a:lnTo>
                <a:close/>
              </a:path>
              <a:path fill="darken" w="28806" h="21600">
                <a:moveTo>
                  <a:pt x="28806" y="0"/>
                </a:moveTo>
                <a:lnTo>
                  <a:pt x="28806" y="21600"/>
                </a:lnTo>
                <a:lnTo>
                  <a:pt x="27406" y="20200"/>
                </a:lnTo>
                <a:lnTo>
                  <a:pt x="27406" y="1400"/>
                </a:lnTo>
                <a:close/>
              </a:path>
              <a:path fill="darkenLess" w="28806" h="21600">
                <a:moveTo>
                  <a:pt x="28806" y="21600"/>
                </a:moveTo>
                <a:lnTo>
                  <a:pt x="0" y="21600"/>
                </a:lnTo>
                <a:lnTo>
                  <a:pt x="1400" y="20200"/>
                </a:lnTo>
                <a:lnTo>
                  <a:pt x="27406" y="20200"/>
                </a:lnTo>
                <a:close/>
              </a:path>
              <a:path fill="lighten" w="28806" h="21600">
                <a:moveTo>
                  <a:pt x="0" y="21600"/>
                </a:moveTo>
                <a:lnTo>
                  <a:pt x="0" y="0"/>
                </a:lnTo>
                <a:lnTo>
                  <a:pt x="1400" y="1400"/>
                </a:lnTo>
                <a:lnTo>
                  <a:pt x="1400" y="20200"/>
                </a:lnTo>
                <a:close/>
              </a:path>
              <a:path fill="darken" w="28806" h="21600">
                <a:moveTo>
                  <a:pt x="10904" y="10800"/>
                </a:moveTo>
                <a:lnTo>
                  <a:pt x="21409" y="3794"/>
                </a:lnTo>
                <a:lnTo>
                  <a:pt x="21409" y="17806"/>
                </a:lnTo>
                <a:close/>
              </a:path>
              <a:path fill="darken" w="28806" h="21600">
                <a:moveTo>
                  <a:pt x="7396" y="3794"/>
                </a:moveTo>
                <a:lnTo>
                  <a:pt x="9059" y="3794"/>
                </a:lnTo>
                <a:lnTo>
                  <a:pt x="9059" y="17806"/>
                </a:lnTo>
                <a:lnTo>
                  <a:pt x="7396"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84EC4BBA-09D3-4E80-A24C-AA7B2C058B9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BE15BC41-AA77-42E2-8FA1-3F4DB3C40DD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25"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B3FFD27-CCB9-4FFD-82D2-B0EB1FF3CE3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16"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17"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18" name=""/>
          <p:cNvGrpSpPr/>
          <p:nvPr/>
        </p:nvGrpSpPr>
        <p:grpSpPr>
          <a:xfrm>
            <a:off x="6781680" y="4038480"/>
            <a:ext cx="2362320" cy="1066680"/>
            <a:chOff x="6781680" y="4038480"/>
            <a:chExt cx="2362320" cy="1066680"/>
          </a:xfrm>
        </p:grpSpPr>
        <p:sp>
          <p:nvSpPr>
            <p:cNvPr id="119"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20"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E9B4B3A9-5197-412C-BBD8-CB26DB88169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27"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BC6BA54-DACC-4760-9F03-9F1000E6604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29"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DD31234-FA19-4F41-B1D4-032FFB0A638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31"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22436D9-2829-403F-BAE7-371633F7041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33"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EF170359-3F27-4895-B402-24699C7E8C9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5"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6"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37"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38"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9"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40"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1"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43"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4"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45"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46"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48"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9"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0"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1"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52"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53"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54"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56"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7"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58"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9"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60"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1"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662"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663"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4"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5"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6"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DCF5B2BE-2E63-4287-996D-A53C463747F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6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81FA5C28-18BA-4FE5-84D3-AEE1AB92909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670"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F2F884DD-206A-4E1A-BA92-74088A8A9C8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672"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AD72D94-3C94-4641-A0EF-D27A4EEFFCD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674"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675"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676"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677"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678"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679"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680"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681"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682"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683"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684"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685"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686"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687"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88"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689"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0"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1"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2"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4"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6"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0"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1"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03"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04"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05"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6"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07"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08"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09"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0"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1"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12"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3"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14"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15"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6"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17"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18"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19"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5E754BE1-38D9-46A1-A8AF-59B46FD8EC9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21"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D52DA04-06C1-44B5-89A5-116393AE1F2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5T15:25:06Z</cp:lastPrinted>
  <dcterms:modified xsi:type="dcterms:W3CDTF">2001-04-26T16:20:15Z</dcterms:modified>
  <cp:revision>71</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New\TakaAway</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