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746098"/>
        <c:axId val="96752180"/>
      </c:barChart>
      <c:catAx>
        <c:axId val="877460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752180"/>
        <c:crosses val="autoZero"/>
        <c:auto val="1"/>
        <c:lblAlgn val="ctr"/>
        <c:lblOffset val="100"/>
        <c:noMultiLvlLbl val="0"/>
      </c:catAx>
      <c:valAx>
        <c:axId val="967521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7460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0FF5-F7A2-4BC7-87A5-D224F03F9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68E7-57E9-4D37-B3C9-F0BD57967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FE83-B8FA-4195-B0D0-49A1817E3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B533-BBA4-430D-9109-C3E72C1E7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DDCF-B0E8-45F9-9E09-A65970D80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C87F-59EB-489D-B52B-A438B0B97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4D25-D1EE-497B-92AC-31C5A8F35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A4E4-9C50-4053-8390-91E323D4F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12F3-5593-4D1D-B560-052CE1B6A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E97E-A0EE-49BA-B639-B9F5B5473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6D14-6A77-4DEE-95F6-8C11B5AC1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F7E8-4001-4426-824F-A19B5FFDB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5504C1-ECDA-436B-A522-3333B22866A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