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33513"/>
        <c:axId val="54823245"/>
      </c:barChart>
      <c:catAx>
        <c:axId val="8533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3245"/>
        <c:crosses val="autoZero"/>
        <c:auto val="1"/>
        <c:lblAlgn val="ctr"/>
        <c:lblOffset val="100"/>
        <c:noMultiLvlLbl val="0"/>
      </c:catAx>
      <c:valAx>
        <c:axId val="548232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33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D80B-B068-40ED-8C66-8B2A139AA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1D70-B8F2-495E-BB02-E8A01D5CD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DDF-E7C8-412F-95B5-8E0C6CA7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55C7-AAA5-467B-9948-D9C8447A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13FF-B08C-49A3-A618-8A793A85F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B91-536C-4907-80D6-59BE0F6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0C6F-CE7E-4E46-89DA-766A26DD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5A7-FA29-4689-AD21-A36CEBFA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DAA8-BEDC-46D8-8CF0-FE732B8C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A70-E597-47D8-B63F-3E16CD5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FA3-3057-4D94-AA66-4D96ABB9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3C5-7A30-44BB-BC9F-352B33C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6DE61-62EC-4F25-962B-AD369F7F4D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