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34360"/>
        <c:axId val="35093213"/>
      </c:barChart>
      <c:catAx>
        <c:axId val="69534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93213"/>
        <c:crosses val="autoZero"/>
        <c:auto val="1"/>
        <c:lblAlgn val="ctr"/>
        <c:lblOffset val="100"/>
        <c:noMultiLvlLbl val="0"/>
      </c:catAx>
      <c:valAx>
        <c:axId val="35093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34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7A7-1645-4DFC-A26F-D4C7D937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7AE-EB4F-4DC9-8187-2079D39A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D96-85AD-4B15-B5D1-89B94A27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B83-F95A-4FC3-A4CA-ED4F4723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F98-08BA-4A4D-B178-8C385D7C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3F4-2171-4B91-B3E0-36CECCD9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8DE-FAC7-4C22-B69B-B43D718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04B-7906-4C56-A79C-9D59FD59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968-A032-4872-8125-B40BD8D6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387-6673-4F22-98BB-F428416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3CE-F439-4DD7-94D6-3254D52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FB9-0E99-4A0F-883E-BF686344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96C3C-6097-4ACB-92B0-3723F5A3B6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