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9030924"/>
        <c:axId val="16421127"/>
      </c:barChart>
      <c:catAx>
        <c:axId val="2903092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421127"/>
        <c:crosses val="autoZero"/>
        <c:auto val="1"/>
        <c:lblAlgn val="ctr"/>
        <c:lblOffset val="100"/>
        <c:noMultiLvlLbl val="0"/>
      </c:catAx>
      <c:valAx>
        <c:axId val="1642112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03092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1882B-C3E6-4D41-9F04-EBB86A838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830D5-D739-4670-B4D1-69156C33A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792C6-18D1-4ED0-A6FE-876921F94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998EB-0B02-43A3-A0AA-3FC22D08A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9D9D4-9FAC-45D9-989F-22C109F2A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436CE-B1F6-4806-B7F0-75DB2D271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4BB54-C9BE-4B9F-B08C-3DE1090D0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0362F-F7A6-426C-B9F1-5AA6EF675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4F3C1-068C-4367-A182-7D1CEF15C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2B0D7-5854-4E28-99BC-347FD7D07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620A3-AF89-4A37-8BF1-66E9355AA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69A8F-0DB2-42EF-89D9-4FCE92AE2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828A40-A095-4BE4-BB4B-1DC69E80D65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