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1515"/>
        <c:axId val="33363609"/>
      </c:barChart>
      <c:catAx>
        <c:axId val="91171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3609"/>
        <c:crosses val="autoZero"/>
        <c:auto val="1"/>
        <c:lblAlgn val="ctr"/>
        <c:lblOffset val="100"/>
        <c:noMultiLvlLbl val="0"/>
      </c:catAx>
      <c:valAx>
        <c:axId val="33363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1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8EC-F80E-412E-BF41-F4115BF9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87C-F159-4887-B0BD-333A505D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F5A-DA12-4802-AA24-505286D0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90A-6B33-48B6-96A8-F93CEEBD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0F5-BED1-4B18-B48D-4F28F16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4C1-CCC2-44DE-B83C-CA0A999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A99-F0C4-45E6-A0E2-D21443A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573-E2FC-4D79-AAF1-A2350BCF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99-5861-4EAB-BC20-0CE0AC8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1F7-F958-47BD-B1EF-F592121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9ED-D75C-4D98-8094-5B775A00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16C-C926-4BAB-A1C2-BE6E4BB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6397-BE6C-4761-8400-5AB43E7C3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