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7934"/>
        <c:axId val="6172044"/>
      </c:barChart>
      <c:catAx>
        <c:axId val="69779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2044"/>
        <c:crosses val="autoZero"/>
        <c:auto val="1"/>
        <c:lblAlgn val="ctr"/>
        <c:lblOffset val="100"/>
        <c:noMultiLvlLbl val="0"/>
      </c:catAx>
      <c:valAx>
        <c:axId val="6172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79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B2E-8AB1-44BE-B7B8-A4846014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24B-872D-4E56-95A0-58C56945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38BC-E2EF-4D55-85E3-82BFEAC8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39D-A356-49B9-810A-CC3D23D1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EE5-DA9D-4D23-9A6F-8B59D584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622-2FFE-4F8D-9775-96835B89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E74-C363-4E96-B64B-4557B971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19C-E967-4423-8EDD-680B6D60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674-2F30-4920-B83F-35009A44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ADA-943F-4D91-BA06-72722842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5E0-E5AA-492C-BF84-8A2C55EA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1E2-B367-416C-A8AB-BB9D4131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1714B-5C11-4AD0-B76F-24C0C5E263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