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56788"/>
        <c:axId val="83815016"/>
      </c:barChart>
      <c:catAx>
        <c:axId val="68856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15016"/>
        <c:crosses val="autoZero"/>
        <c:auto val="1"/>
        <c:lblAlgn val="ctr"/>
        <c:lblOffset val="100"/>
        <c:noMultiLvlLbl val="0"/>
      </c:catAx>
      <c:valAx>
        <c:axId val="83815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56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FA8-D1EA-439D-9F13-6097EB8B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65D-4793-4798-9DB5-4BC70D82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4A0-1A98-4C78-BAAB-10015431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7FD-FFB7-46CA-8F12-27373CD5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F46-2C8C-4A9E-9243-275937C3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2DA-8B98-45D7-A421-C1E48837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59F-9C82-4543-AF8C-84E50159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FDE-8784-4C63-8C42-B0008D49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5ED-77D4-4CE1-92D2-D6E77C24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109-8AC5-4CB3-801E-E43B8F39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3CD-F283-4D44-B7CD-EF095AE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83E-A41D-4A07-B815-683E87F3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04D2F-AC6B-4B88-B7B1-1A922F8776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