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92474"/>
        <c:axId val="85105962"/>
      </c:barChart>
      <c:catAx>
        <c:axId val="43792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05962"/>
        <c:crosses val="autoZero"/>
        <c:auto val="1"/>
        <c:lblAlgn val="ctr"/>
        <c:lblOffset val="100"/>
        <c:noMultiLvlLbl val="0"/>
      </c:catAx>
      <c:valAx>
        <c:axId val="85105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2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843-A403-4A93-8EE9-EC996A28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563-05B2-4FCB-8D69-BF14F93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A67-D3EB-474E-B0CF-2F98AF30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50C-CC82-441C-AA58-ED576362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412-4124-413D-B1EB-E32C4D88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6D9-C564-43B7-985E-D2555829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F20-5C08-4AD4-8591-D03B7FE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C8C-262B-41E0-AC14-F09A1659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AE1-024B-498A-BA54-F91B27B9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816-3213-4A62-9B51-4F8CC93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03E-AC4F-4DCD-B89B-D798AAD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717-98BC-40D8-9CD9-39682076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C9AB8-EFFE-4D27-87F2-B928D4870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