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933"/>
        <c:axId val="90242264"/>
      </c:barChart>
      <c:catAx>
        <c:axId val="917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2264"/>
        <c:crosses val="autoZero"/>
        <c:auto val="1"/>
        <c:lblAlgn val="ctr"/>
        <c:lblOffset val="100"/>
        <c:noMultiLvlLbl val="0"/>
      </c:catAx>
      <c:valAx>
        <c:axId val="90242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FD7-43CD-4E24-A1F1-E364BB60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90A-1FAC-4E59-B97D-AB163AE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7C6-04E1-4320-AB7B-3240FDA7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6A4-1580-405A-9A84-FB314241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712-D560-4424-9841-71A72BC0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CB4-E3E3-4A04-A1CC-2D5A050A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DE9-266E-4DE7-87D6-4010829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DF4-DD08-4069-802C-FBB22EC8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CDD-8808-496B-AF72-6E47098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1EA-EA11-4489-86DC-28F9318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C64-4674-4175-A226-E5822A6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5DA-89AC-465F-B6DF-6AE3D72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260D-8F24-495F-B2C3-519ED0A67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