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96850"/>
        <c:axId val="62474085"/>
      </c:barChart>
      <c:catAx>
        <c:axId val="16596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4085"/>
        <c:crosses val="autoZero"/>
        <c:auto val="1"/>
        <c:lblAlgn val="ctr"/>
        <c:lblOffset val="100"/>
        <c:noMultiLvlLbl val="0"/>
      </c:catAx>
      <c:valAx>
        <c:axId val="62474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6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D46-9664-4EE8-B00D-9BD00E5E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6DE-FF14-46EE-9949-74C26910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340-D00F-467F-A995-66BCAE17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228-A37E-4789-A00C-7CDAADFC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E19-0062-46D6-B03A-7837D42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33A-304E-4B48-9B3E-DAA4CCA9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0DE-4422-4117-88E7-615F7E1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39B-D71D-4756-BC31-F4C5DB6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2BE-43F2-452E-8963-39DF397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98E-8D57-43B8-AA55-1278256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83A-617A-46CE-86C2-54EC303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7EB-4850-4E99-A75A-A6A8118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71051-22DC-446A-B841-F8E5E2009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