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37872"/>
        <c:axId val="94327610"/>
      </c:barChart>
      <c:catAx>
        <c:axId val="56337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27610"/>
        <c:crosses val="autoZero"/>
        <c:auto val="1"/>
        <c:lblAlgn val="ctr"/>
        <c:lblOffset val="100"/>
        <c:noMultiLvlLbl val="0"/>
      </c:catAx>
      <c:valAx>
        <c:axId val="94327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37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ED7-593C-414B-8266-A5C23D12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70E-4A6E-471D-B5DE-1D259C0C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056-AAA9-4F39-ABE1-7F2CD65E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669-8CCA-4A20-AB46-7AF7EC26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0C8-55AD-4DAE-991F-BA799121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B86-8531-4A2D-8186-2AE9B760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AC2-EA1B-4E6B-88BB-A281439B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7F6-77EB-4C93-8687-C413A77F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6B5-43DE-4F27-8B7B-BC1314D2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AFB-9910-43D2-91A0-E61DB6A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14C-33E0-4DFA-8E5E-9C2456D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C10-E513-4872-99F2-0EB8C6A1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1EF67-6143-462B-B3A9-FE2EB79A0F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