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716434"/>
        <c:axId val="91249337"/>
      </c:barChart>
      <c:catAx>
        <c:axId val="337164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49337"/>
        <c:crosses val="autoZero"/>
        <c:auto val="1"/>
        <c:lblAlgn val="ctr"/>
        <c:lblOffset val="100"/>
        <c:noMultiLvlLbl val="0"/>
      </c:catAx>
      <c:valAx>
        <c:axId val="912493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164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011F-A6EE-4210-BEC5-862013EA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CD8A-5FD1-4E54-A7F2-B05462B5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F05-D693-477B-B752-5DF88EB7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F113-ADC3-4DFD-B4BE-447594E0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660F-E2CF-441E-93AF-3B016D7C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FD6F-3789-4312-8CD6-462ABA3C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CC4B-39AA-4B26-A44F-87D099E0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8004-6DE9-4837-AA7D-2A2E03CD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8D42-BF08-4ABE-A6C4-7177AE1B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AAE1-33F2-4401-B319-028433EE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AC0A-7923-445D-A3A6-4A9C699B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DFC6-811C-4393-8446-4B0D13D0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697A4-66B1-497B-ADBB-8FFAC94FA7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