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72433"/>
        <c:axId val="22292772"/>
      </c:barChart>
      <c:catAx>
        <c:axId val="67672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92772"/>
        <c:crosses val="autoZero"/>
        <c:auto val="1"/>
        <c:lblAlgn val="ctr"/>
        <c:lblOffset val="100"/>
        <c:noMultiLvlLbl val="0"/>
      </c:catAx>
      <c:valAx>
        <c:axId val="22292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72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448-D27E-4DF1-8674-810F9F8A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930-BAE7-4029-A45C-F420F02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C9C-9BD4-48F1-8572-49CB33DD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64D-A1CA-4529-A353-BD7D0C50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4CA-55E1-437E-9F61-4719C27A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A36-86CB-4ABD-B284-697741C6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0B0-69EC-4DE8-8D8A-22E87C85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E7B-59A0-4351-8F08-AB130890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302-7B04-4B4F-B597-B77CB9E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3E0-0C35-4F1B-8D9C-99908D9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027-B99A-405E-8F6F-F0105B6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3B8-5FC0-4D5F-BADF-772FCB27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AA5EF-C2A9-4D98-80B5-B7F426F35C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