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54717"/>
        <c:axId val="9307095"/>
      </c:barChart>
      <c:catAx>
        <c:axId val="16954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7095"/>
        <c:crosses val="autoZero"/>
        <c:auto val="1"/>
        <c:lblAlgn val="ctr"/>
        <c:lblOffset val="100"/>
        <c:noMultiLvlLbl val="0"/>
      </c:catAx>
      <c:valAx>
        <c:axId val="9307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4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2F1-264E-4430-B9E4-9AB1483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633-B9B8-43A6-BD13-F89036D1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192-C404-47E7-84EA-5AE205B0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1A4-741C-4287-97DE-C8DE2A90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E02-F5AD-4E8E-BBD4-C0CA03B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009-32AE-4E77-BA7C-833A87E3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532-29B3-4219-AB85-D9F7ECB2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DBE-E0D9-4356-B8EF-98AF961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5E2-D7FC-4C4A-8756-F7C6346E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6D5-54C5-4A7C-BA82-0C5D023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5CC-2AA8-4897-B6B8-75EC79B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64F-EBFB-4F28-B323-8495662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F9E58-95F6-45C0-8C3E-1B28BA1D2B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