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909AE9-961F-4CE1-92BE-7092BBA5BA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31421C-7F7A-4D5C-A8FD-687F2EB6A9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F92AFD-F95F-428F-9011-54B40E97AA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0B7350-4D7E-4764-B7CE-BC12458ECE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382D8A8-B500-4FF1-94D2-10D4B6FB785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E6318C-2736-47AF-9DA7-0B19AED845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C87845-2185-4521-AE61-B1C177CC99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7E526F-449F-4AC8-9B3B-7928338525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6BF808-23FC-4F1B-B44B-DEE461080C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F4A3DE-D254-4213-8669-934FB98ACD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4E46A8-F4B2-4814-A6AC-859333735F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250DF0-D0C9-4515-96DC-0A8600929E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9F9D52-571B-4040-B0BF-076BCFD405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41EBCC-A868-47A7-A186-0596D4DB06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61A9FB-20B9-41B8-BE18-B51C5A68EE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8823C14-EA5F-44D2-8488-F49D5A09CBE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C8FCDED-9943-4E76-9E72-56709AC5B86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8EE1F0-9BFD-44BC-B52A-DA8542D37E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64C505-D08B-4D58-BF49-A56BF4530D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805C85-B461-4B7B-A364-A77FA51CE7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338F25-9E61-4C24-8B94-565135C480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DBD20C-8B6A-45BC-97F3-3FF5D07F0C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56FBA3-9C5F-4EDB-AD1A-ADAC9E9FF5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D36A83-4D25-45BD-9A8D-A5E75B2C99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9A07A1-4D5B-4E76-A53B-0C7F34CC915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AA00B8-4584-4A15-9D9F-190BFDED706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FDDF43E-F259-462C-B05B-4C87CCDC839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FA82D8F-B49A-48C4-804B-99B111F1B3F0}"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F2118E-7EE2-4A73-946A-265CED9A957F}"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C5D5B4-F616-4145-9AAD-5D37F27655D1}"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4F3E8C-9FC2-45CE-9E9A-FEA98454F45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5323B4-3C83-45E1-9BF5-A593E5BBE4D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89327D-07DD-4674-A640-B84F1E66568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336B4D-9124-4645-ABCE-541428CEE06A}"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A85E48-E6DC-47AD-9538-DBFA9E9DCFBF}"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6E2FE2-D473-4324-9BC5-82B0B274AF26}"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74ADD7-1C63-40D1-BB1F-4ACCCA312F2D}"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7FE223-28D8-45EB-93AE-0D5591D437AE}"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750264-6639-43DA-8189-CE647A2616D6}"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729AE4-50DA-4E93-886E-5C78D6869D3A}"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26D2A4-1562-4103-89FF-372FE9631D32}"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9AA5FE-05AB-420F-9E09-89CDE61EA30C}"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D28387-25C6-47B5-879E-D0DA204C91D8}"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ED54BD-1E0B-4E03-B18A-F1616D4FE196}"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43B0AA-92C0-492E-862F-B380421832A2}"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FD0C4B-DB7E-4841-B046-D3142D2DDDE3}"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D00866-4D45-484B-A636-072ECDF46E81}"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E62851-1B5D-429A-BF46-15B31858B844}"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7947A8-FD27-4BF6-8DEC-62DE998D0742}"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BC4BC0-594C-44A3-B96C-3B5461E75D76}"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7E2388-DEC7-481F-B913-55B1E1DCAB3D}"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7DBE4D-CF38-4D01-8E2A-67B94528097F}"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3F7A33-FD2F-4798-ADD7-98AE06B9AD55}"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CEEB946-A35A-44D9-AFEF-11C53EAB536C}"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251FD2-BF9C-4FE5-9346-3BD76519CEA1}"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1D06FC-6043-4A29-8B5B-65D28CBE09B3}"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354CF7-1821-41F7-81A0-78A2C8CC87FD}"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188B72-5F6C-4D35-8048-0B9FAC0441E1}"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BA24D6-8D53-41C9-884C-CA8F0BCDB8E7}"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2E41D0-9BFF-420D-8BDF-CD5BFF988533}"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8F59C8-EB62-4664-BB4E-31BD354CF5FF}"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052D39-4D33-48BB-AE77-9B44603B92D4}"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A66411-A97A-4F1D-9AE6-E2EC2AE00712}"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5AD491-122F-4C17-B6D1-A06F19DE01FD}"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E8CE12-887F-4A0E-AFD2-6AA8BECFA5D9}"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0E1D60-CE64-4434-93D9-E7657829AA41}"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7A3B72-1B1A-46C5-A2CD-3D909344C5A3}"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747F22-D57B-458C-93E3-825C81DB8232}"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1FFA10-6AF4-4665-8F81-84B451B5F4E1}"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62467C-8738-49F2-B983-2A4B050AF58C}"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072DE0-F459-4D41-A457-1D458B5C09DA}"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3ABE19-1B58-4783-9DE4-FDDC16731AC5}"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83176A-AFFE-4845-9907-A7D6D7F0CC7E}"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D378EC-1050-4EC3-803C-07C7E059B4E8}"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C5444DF-329A-4843-945C-7ED8643A8CB7}"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36AD3B-AC48-4591-8FBC-CF41A17F3045}"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60E579-35B7-4257-9C6E-720DDCF94DD1}"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A12417C-E9AD-4A29-8A62-5A94B67B5C42}"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076468-265E-4598-887C-037513D7172A}"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828DE6-0C83-46BA-A3DC-1022D084615D}"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797F56-CFC9-4845-99D4-979A7AC181F1}"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44FA05-C849-4A25-AABC-9A8E71E7859E}"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370092-B4F4-4307-8348-4BDCA76AFB07}"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A3A112-687C-4973-8E91-4A4412CE8D0A}"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49DBDF-5C81-4136-9324-5D56DA38F6C9}"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496215D-E77D-4C77-879C-63371C70FD4C}"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662AD4-F8BC-4383-A2C0-42186653A77D}"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98D86F-E1DD-4EC7-A7FD-1E6C462440ED}"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DA109B-9D67-41C1-80C1-9B8935359266}"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DF178A-83EA-444D-AB68-799F54A01E11}"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CABA89-6838-4E60-A158-2D15AE18BF9B}"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C557F6E-C829-4707-A168-980B9D9BC7ED}"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3E0F4C-4050-48CB-8C25-0E3A228E5B00}"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432D98-A4D1-4B53-8A76-5FBC97924A88}"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511056-BB48-4CD2-A093-340CE0B1FDC2}"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43FF27-012C-4605-9C42-A5FA013119B7}"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C520BE5-D1FA-4741-A795-945F5FD504BB}"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49EDEC-D1F9-4E53-8EFE-74190A561FB1}"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352FBD-CAA2-4FC4-BAF6-78606FF4C8F6}"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FDA4C8-4DEE-4D3F-B863-8E254269880E}"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7B8499-D5FC-4D68-8BBC-CFD1A55BAAD2}"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0EE908-06A5-4A9F-AB29-AED549FB7106}"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1A2EAA-3869-4DF5-A96A-65BFFE03115E}"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1AE2D41-1B4C-4F18-B484-BC5E9A89CBF8}"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509BAF-D1C2-4AF3-997C-69365AFA288E}"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242DFB-0FF3-4929-8E1E-178AE21DD00F}"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F7896F-3006-4415-B8FB-21A71D90EBC0}"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5C480B2-5A12-40E6-A8B5-7928CAB6FD4D}"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510730-DD6F-4E3C-88F9-29D63C5BEC16}"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87D80F9-9A6F-48BD-A6BE-4F72C1B89E15}"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AA22D2-1897-4BA0-BD1B-47BC8590BB15}"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C5CF9E-0B5E-454A-8795-8E2C04922F9E}"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C5D1AE-C319-4101-8CD3-9EFD712AE13F}"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37F945-C8E6-473C-B0B4-B5D8169A0142}"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2D0EE9-FCF1-4643-94E9-8272BEBCA5BC}"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3DA59A-40D9-4386-8332-BD2F3B198233}"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8841E5-2358-4A1C-8E9D-8BB98E015CB7}"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CA962A-E95A-495C-A0B8-513CB8A2A47A}"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E0F324-C13A-4DCC-9A57-B63AC0DBE0F4}"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50AA0D-0980-4663-93A8-271BB0807106}"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61E272-8C3D-4833-99EC-C3C6AD7DF9B5}"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9236F2-484C-4D79-957A-10405F501751}"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11981A-F331-4572-951B-471BAB8FE4A3}"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B72491-FFE9-4E28-B0E7-482D83DF9498}"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4EBF57-CAAE-4FBE-86F7-2D0955590BA5}"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4706F07-F4E4-498C-941F-3421149F05CE}"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4C3CEF-53BB-4727-B64F-2238618C9DD6}"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C72B3B-2B5A-476B-A0B2-13E07DBBD07B}"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F4A5D3-1107-4A02-9D6C-AF6A084B28D1}"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DDCF1A-4F7E-46B6-8D16-0C2785C34942}"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BCA9D1-250C-485C-B0BA-7C9CD2ECF65C}"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4048E5-CF88-468A-801A-6CBD3D746825}"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65199E-E152-49EB-837C-FE5AC62FE9CA}"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82641B-66A3-4AD5-9F4C-12118F260CB6}"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F0CA6B-0426-4263-AF51-EC97C87C89FB}"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8FB4B3-6A06-495A-B986-941C26D6FB33}"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A6A921-1729-4686-A31B-3A4A13A0495D}"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1B8E88-2F00-4F86-B0C1-DCFE5FEF374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326318-1068-497D-BB2C-1A6E4314804E}"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9E8DF2-FD34-4553-8ACF-00647E1A80BE}"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35CFB7-149B-448B-A7D4-070A1D946160}"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6FEAB0-4372-4BBF-B250-6FBCB43A2CF0}"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333F80-F2A0-43DD-B9C2-2F7C337BD1CA}"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962A86-7524-459C-924D-B1126F1B2434}"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0E2201-D7EA-4CEA-AE44-C43FA64B28A7}"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A73FD6-F978-4C2A-8932-1A9D76980D4A}"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9624E9-A80D-400F-B94D-B67260C9749C}"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575463-FBCD-4CAB-A3B1-9CEE75E3B02A}"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E61FD7-0534-4F6B-825B-C0D9AA90B274}"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FEF6C0-74ED-46C7-B3D4-3E7BDF9EBD61}"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5B5174-09FB-480A-86B7-B336E9B5DC31}"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FD75EF-2457-4C5E-9EDC-6B08250E5AFA}"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1B7D2F-EC75-4DE9-ADFA-C00942E149ED}"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722FA85-8EA9-4C3A-92E2-B6BD916D5898}"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FBDE08-60FD-44A7-AFA9-E45D4407468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E4CD9D-BFF3-4804-A6BC-EC8AA1AED4C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6B3027-B284-4BA7-802C-B91A3801715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B516C5-6929-4031-9BCD-D3849059D49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A29C7E-0C44-4430-84AE-E615E5BEF5C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F659D3-DD6B-432A-819C-5BFBE1135D5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F26C6FA-FBA3-40E1-9C25-CEADB4CEF6B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6C3335-D7A1-487C-94D2-E5ABB971ED1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123771-976F-4960-9B4A-2D4FE9C1674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578966-02C4-4FD0-A364-F014996070F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F03522-C2B8-471F-92FD-41595028D22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64D338-929B-49CD-BF2E-F81A1C6F71E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4A1C90-1999-4514-B38B-5A2D6301107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2B8CB0-52E1-4949-AF11-EBCA21828B4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5B1077-7DF5-4C88-8DEF-80A5C38514C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F5C496-ED66-49C8-8AC8-45259E44B99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332591-ED2F-46FA-9470-9F378E67842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B7603F-CC88-4E3E-93ED-866687DBC60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C7DCA6-FA9F-44D6-98C3-AF3C72CDCDC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B3C6FE-3053-453C-BE27-A32989DFFA7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B8BBD4-476C-42C3-B16B-0663815CB9B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5C8125-E319-47D2-BB4F-8225BBC977B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25F69B-A855-4F86-BC4E-3BF57E959C4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BA195E-96BC-4033-A7E7-2C41924547D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C17475-7023-42B0-918B-34F1F47C18D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917289-0527-4CF5-A135-EE01ADF6133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F30DC3-C26D-479C-B285-51698A56B93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3289A8-7F99-43BE-AC2D-9A538F44AF9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B97CB0-42E9-45C9-A784-C55E9C9F608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C56688-63E7-44BF-8AD6-01D316212CD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A770E0-90BC-4C7E-85D4-5B947DE8C1F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91FD7D-ECFB-42A1-A616-D1B8F6AD129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F0BFD8-3DFB-489D-A2B8-45B5F93E706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38F2C6-6ACA-46C3-9491-A42C0C9A58C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41AE54-16C0-4D80-87D2-7C9E70244C5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0943FB-C2C6-472D-AF7C-30E5001C63B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709C2C-9DE8-43C1-AFDC-84C81ACD7BB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D7C39E-C887-4CE6-ABB9-0A6E5F649B5D}"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B4C8E7-FC00-4C83-8DFD-D1656DF00C2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C6A6C7-E3BA-4535-9A21-C59CEDF2950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9DF269-8ED5-4DE0-A27E-7CF2C1FE9DF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4D4D1A-EA0A-43B2-A0D6-154B0D41E56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F7DC1D-9304-41A3-8D65-9B3C94E70BB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DF5C72-B2C1-4FF3-B24D-02A87C2A6FF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2C4BE5-E35F-4B4B-B1C6-478F801BD833}"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859ED5-075C-42EA-9976-ABDFDA39D08F}"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EECC60-0979-4867-8D6B-03D5DCF3EF7C}"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874DF8E-24CC-4338-811E-7B703DF36EA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5BD11E-CE57-41F1-AE15-6DD6B91770D6}"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215550-7555-48E9-B1A0-0D7A551D45D7}"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9C8A4A-C8D1-4AB5-B755-E1EDAD1D097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BA2E5B-E7AD-4FAB-91F1-6F39AB4805E4}"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43C8D2-59A3-4F1D-ABC0-8805A75C34CE}"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6AC13B-4392-400F-90ED-5D64A7D723E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03E108-E4CD-41C3-9AF0-9E77C311731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4233B7-5161-444E-B837-9E3A4C0CB478}"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1D11CF4-F250-4DF8-81C2-0C990C41869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DD3EB5-2C10-4450-B456-21F36818E15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047E98-F75B-4040-8A14-1AEF0135FD01}"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16B34B-1C30-4A53-A3BA-3B987A0E9B3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B819A7-1CF6-4B00-8B03-F700748B702C}"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3F0638-3DC8-4EAC-BFC9-C44E30E2378F}"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BF4B77-3770-4048-B4C2-E21F8516A265}"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8759A9-394B-4369-A2C3-6A97671BE4D8}"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D5251A-3E64-4AA3-A9B3-EA7F50EF243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B9BD89-9664-4427-80E7-6AE6546BB75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4F94D5-251F-47B4-93CE-91A6C849ADA1}"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D883C5-3312-4427-811C-B030E5AA65C8}"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7E0E88-3324-45B7-93C2-9A71DFF039B8}"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BFF5ED-AF24-4DC5-A61D-46BA3B1751A4}"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5D1705-C179-4C1F-B89D-B7F4A751A1A6}"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D35BDF7-B8A4-4354-844E-D219520626BD}"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F408BE-631B-4983-8141-1004B3D6C032}"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7A4722-1B2B-4A44-BA7C-41BE257FFBB4}"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C3E40A-F8E1-4FB7-AC29-B1243CC73FE8}"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D4A972-C7F6-4785-AFE1-8C00D575C1A2}"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A252D8-BCF6-48F9-9851-14D170A6A2AE}"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758AA3-54B0-4D1C-9422-D0993EFFC138}"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D59F0D-3B4F-44E9-A36F-A1CDA82E53C8}"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CE9D88-5C6E-44A4-90ED-C3192680039A}"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E718A8-DE20-45EC-8D92-F43F844F0C72}"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AE2419-2369-41FC-9347-36F26DB28DE8}"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FB773C-B0D7-475E-B7F0-D1CF74B2E1B4}"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9F0A08-F70C-4D6B-B73F-D46C75BC17F4}"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FAAB64-38A4-4D49-B542-72862E647240}"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